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17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14480" y="681120"/>
            <a:ext cx="8950320" cy="6143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76520" y="135000"/>
            <a:ext cx="74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0038"/>
                </a:solidFill>
                <a:latin typeface="Bookman Old Style"/>
              </a:rPr>
              <a:t>Approccio integrato al bambino con infezione streptococcica: corso teorico-pra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33640" cy="9507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0480" y="824040"/>
            <a:ext cx="8997840" cy="0"/>
          </a:xfrm>
          <a:prstGeom prst="line">
            <a:avLst/>
          </a:prstGeom>
          <a:ln w="57240">
            <a:solidFill>
              <a:srgbClr val="940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9160" y="2742840"/>
            <a:ext cx="8705880" cy="203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4143a"/>
                </a:solidFill>
                <a:latin typeface="Verdana"/>
              </a:rPr>
              <a:t>FA</a:t>
            </a:r>
            <a:r>
              <a:rPr b="0" lang="it-IT" sz="4000" spc="-1" strike="noStrike">
                <a:solidFill>
                  <a:srgbClr val="666666"/>
                </a:solidFill>
                <a:latin typeface="Verdana"/>
              </a:rPr>
              <a:t>ringotonsillite</a:t>
            </a:r>
            <a:br>
              <a:rPr sz="4000"/>
            </a:br>
            <a:r>
              <a:rPr b="1" lang="it-IT" sz="4000" spc="-1" strike="noStrike">
                <a:solidFill>
                  <a:srgbClr val="94143a"/>
                </a:solidFill>
                <a:latin typeface="Verdana"/>
              </a:rPr>
              <a:t>ST</a:t>
            </a:r>
            <a:r>
              <a:rPr b="0" lang="it-IT" sz="4000" spc="-1" strike="noStrike">
                <a:solidFill>
                  <a:srgbClr val="666666"/>
                </a:solidFill>
                <a:latin typeface="Verdana"/>
              </a:rPr>
              <a:t>reptococcica</a:t>
            </a:r>
            <a:br>
              <a:rPr sz="4000"/>
            </a:br>
            <a:r>
              <a:rPr b="0" lang="it-IT" sz="4000" spc="-1" strike="noStrike">
                <a:solidFill>
                  <a:srgbClr val="666666"/>
                </a:solidFill>
                <a:latin typeface="Verdana"/>
              </a:rPr>
              <a:t>in età Pediatrica</a:t>
            </a: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it-IT" sz="4000" spc="-1" strike="noStrike">
                <a:solidFill>
                  <a:srgbClr val="94143a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9520" y="946080"/>
            <a:ext cx="8629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143a"/>
                </a:solidFill>
                <a:latin typeface="Verdana"/>
              </a:rPr>
              <a:t>FAST-</a:t>
            </a:r>
            <a:r>
              <a:rPr b="0" lang="en-US" sz="8000" spc="-1" strike="noStrike">
                <a:solidFill>
                  <a:srgbClr val="666666"/>
                </a:solidFill>
                <a:latin typeface="Verdana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160" y="808200"/>
            <a:ext cx="8924760" cy="0"/>
          </a:xfrm>
          <a:prstGeom prst="line">
            <a:avLst/>
          </a:prstGeom>
          <a:ln w="38160">
            <a:solidFill>
              <a:srgbClr val="940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unipv" descr=""/>
          <p:cNvPicPr/>
          <p:nvPr/>
        </p:nvPicPr>
        <p:blipFill>
          <a:blip r:embed="rId1"/>
          <a:stretch/>
        </p:blipFill>
        <p:spPr>
          <a:xfrm>
            <a:off x="6915240" y="5105520"/>
            <a:ext cx="1439640" cy="1439640"/>
          </a:xfrm>
          <a:prstGeom prst="rect">
            <a:avLst/>
          </a:prstGeom>
          <a:ln w="19080">
            <a:solidFill>
              <a:srgbClr val="fbdf53"/>
            </a:solidFill>
            <a:miter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a8" descr=""/>
          <p:cNvPicPr/>
          <p:nvPr/>
        </p:nvPicPr>
        <p:blipFill>
          <a:blip r:embed="rId1"/>
          <a:stretch/>
        </p:blipFill>
        <p:spPr>
          <a:xfrm>
            <a:off x="299880" y="1255680"/>
            <a:ext cx="3886200" cy="2549520"/>
          </a:xfrm>
          <a:prstGeom prst="rect">
            <a:avLst/>
          </a:prstGeom>
          <a:ln w="38160">
            <a:solidFill>
              <a:srgbClr val="94143a"/>
            </a:solidFill>
            <a:miter/>
          </a:ln>
        </p:spPr>
      </p:pic>
      <p:pic>
        <p:nvPicPr>
          <p:cNvPr id="78" name="Figura9" descr=""/>
          <p:cNvPicPr/>
          <p:nvPr/>
        </p:nvPicPr>
        <p:blipFill>
          <a:blip r:embed="rId2"/>
          <a:stretch/>
        </p:blipFill>
        <p:spPr>
          <a:xfrm>
            <a:off x="4467240" y="3225960"/>
            <a:ext cx="4572000" cy="3247920"/>
          </a:xfrm>
          <a:prstGeom prst="rect">
            <a:avLst/>
          </a:prstGeom>
          <a:ln w="38160">
            <a:solidFill>
              <a:srgbClr val="94143a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4597560" y="1565280"/>
            <a:ext cx="3276360" cy="642600"/>
          </a:xfrm>
          <a:prstGeom prst="rect">
            <a:avLst/>
          </a:prstGeom>
          <a:solidFill>
            <a:srgbClr val="ff9966">
              <a:alpha val="50000"/>
            </a:srgbClr>
          </a:solidFill>
          <a:ln w="381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Impetig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711360" y="3793680"/>
            <a:ext cx="7772400" cy="21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claritromicina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77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amoxicillina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88.8%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p 0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amoxi + clav.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90.8%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p 0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cefalosporina 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92.3%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p 0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11360" y="1054080"/>
            <a:ext cx="7756200" cy="16858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Erythromycin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in </a:t>
            </a:r>
            <a:r>
              <a:rPr b="1" i="1" lang="it-IT" sz="2800" spc="-1" strike="noStrike">
                <a:solidFill>
                  <a:srgbClr val="94143a"/>
                </a:solidFill>
                <a:latin typeface="Bookman Old Style"/>
              </a:rPr>
              <a:t>Streptococcus pyogenes</a:t>
            </a: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 in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it-IT" sz="2000" spc="-1" strike="noStrike">
                <a:solidFill>
                  <a:srgbClr val="666666"/>
                </a:solidFill>
                <a:latin typeface="Bookman Old Style"/>
              </a:rPr>
              <a:t>Emerg Infect Dis 6:180-183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724760" y="3311640"/>
            <a:ext cx="574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Bookman Old Style"/>
              </a:rPr>
              <a:t>ERADICAZIONE DI SBEA IN 159 PAZIE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47400" y="1053720"/>
            <a:ext cx="8497800" cy="764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Approccio diagnostico-terapeutico ambulatoriale alla FT</a:t>
            </a:r>
            <a:br>
              <a:rPr sz="2200"/>
            </a:br>
            <a:r>
              <a:rPr b="1" i="1" lang="en-US" sz="2200" spc="-1" strike="noStrike">
                <a:solidFill>
                  <a:srgbClr val="94143a"/>
                </a:solidFill>
                <a:latin typeface="Bookman Old Style"/>
              </a:rPr>
              <a:t>Dati clinici ed epidemiologici per SB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2360" y="195588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66"/>
                </a:solidFill>
                <a:uFillTx/>
                <a:latin typeface="Bookman Old Style"/>
              </a:rPr>
              <a:t>SUGGES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06000" y="2940120"/>
            <a:ext cx="264492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*Antibiotico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53760" y="4867200"/>
            <a:ext cx="264492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*Antibiotico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62080" y="193500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66"/>
                </a:solidFill>
                <a:uFillTx/>
                <a:latin typeface="Bookman Old Style"/>
              </a:rPr>
              <a:t>NON SUGGES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792960" y="2901960"/>
            <a:ext cx="1608840" cy="398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Test ra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899680" y="4700520"/>
            <a:ext cx="282636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Terapia sintom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Osservazione cli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4881600" y="2203560"/>
            <a:ext cx="1633680" cy="6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333520" y="2168640"/>
            <a:ext cx="183672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612080" y="3919680"/>
            <a:ext cx="105084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TR + 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91440" y="3809880"/>
            <a:ext cx="12078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TR -- 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430280" y="243540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848720" y="2452680"/>
            <a:ext cx="0" cy="21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2765160" y="3408480"/>
            <a:ext cx="135396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438280" y="441972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27760" y="3397320"/>
            <a:ext cx="1231920" cy="5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34240" y="4316400"/>
            <a:ext cx="0" cy="3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12760" y="5514840"/>
            <a:ext cx="8702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Bookman Old Style"/>
              </a:rPr>
              <a:t>* 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Al termine dell’antibioticoterapia non è necessaria l’esecuzione del TF, se non in casi di dubbia guarigione o di malattia reum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Bookman Old Style"/>
              </a:rPr>
              <a:t>**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TR positivo: si consiglia l’esame colturale se è importante conoscere l’antibiogra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Bookman Old Style"/>
              </a:rPr>
              <a:t>***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TR negativo: si consiglia l’esame colturale nelle seguenti situazioni, 1) non corretta esecuzione; 2) dubbio clinico; 3) epidemia di infezione da SBEA o febbre reum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: in caso di impossibilità ad eseguire il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5440" y="6566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621840" y="6377040"/>
            <a:ext cx="1944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i="1" lang="en-US" sz="1600" spc="-1" strike="noStrike">
                <a:solidFill>
                  <a:srgbClr val="666666"/>
                </a:solidFill>
                <a:latin typeface="Bookman Old Style"/>
              </a:rPr>
              <a:t> Marinello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ura10" descr=""/>
          <p:cNvPicPr/>
          <p:nvPr/>
        </p:nvPicPr>
        <p:blipFill>
          <a:blip r:embed="rId1"/>
          <a:stretch/>
        </p:blipFill>
        <p:spPr>
          <a:xfrm>
            <a:off x="1359000" y="1957320"/>
            <a:ext cx="6476760" cy="4297320"/>
          </a:xfrm>
          <a:prstGeom prst="rect">
            <a:avLst/>
          </a:prstGeom>
          <a:ln w="38160">
            <a:solidFill>
              <a:srgbClr val="94143a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4692600" y="1117440"/>
            <a:ext cx="3124080" cy="673200"/>
          </a:xfrm>
          <a:prstGeom prst="rect">
            <a:avLst/>
          </a:prstGeom>
          <a:solidFill>
            <a:srgbClr val="ff9966">
              <a:alpha val="50000"/>
            </a:srgbClr>
          </a:solidFill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94143a"/>
                </a:solidFill>
                <a:latin typeface="Bookman Old Style"/>
              </a:rPr>
              <a:t>Ecti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5240" y="1117440"/>
            <a:ext cx="3014640" cy="673200"/>
          </a:xfrm>
          <a:prstGeom prst="rect">
            <a:avLst/>
          </a:prstGeom>
          <a:solidFill>
            <a:srgbClr val="ff9966">
              <a:alpha val="50000"/>
            </a:srgbClr>
          </a:solidFill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94143a"/>
                </a:solidFill>
                <a:latin typeface="Bookman Old Style"/>
              </a:rPr>
              <a:t>Piodermi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ONSILLITE" descr=""/>
          <p:cNvPicPr/>
          <p:nvPr/>
        </p:nvPicPr>
        <p:blipFill>
          <a:blip r:embed="rId1"/>
          <a:stretch/>
        </p:blipFill>
        <p:spPr>
          <a:xfrm>
            <a:off x="1757520" y="1224000"/>
            <a:ext cx="5638680" cy="49482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4600" y="1053720"/>
            <a:ext cx="7543800" cy="532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Streptococco </a:t>
            </a:r>
            <a:r>
              <a:rPr b="1" lang="en-US" sz="2400" spc="-1" strike="noStrike">
                <a:solidFill>
                  <a:srgbClr val="94143a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-emolitico di gruppo A (SB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57240" y="1920960"/>
            <a:ext cx="7238880" cy="207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6666"/>
                </a:solidFill>
                <a:latin typeface="Bookman Old Style"/>
              </a:rPr>
              <a:t>QUADRI CLINIC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3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Infezioni cutan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3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Infezioni sistemi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3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Faringotonsillite acu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7760" y="4321080"/>
            <a:ext cx="723924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6666"/>
                </a:solidFill>
                <a:latin typeface="Bookman Old Style"/>
              </a:rPr>
              <a:t>COMPLICAN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Febbre reuma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Glomerulonefrite acu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PANDAS</a:t>
            </a: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ecocardio" descr=""/>
          <p:cNvPicPr/>
          <p:nvPr/>
        </p:nvPicPr>
        <p:blipFill>
          <a:blip r:embed="rId1"/>
          <a:stretch/>
        </p:blipFill>
        <p:spPr>
          <a:xfrm>
            <a:off x="5494320" y="946080"/>
            <a:ext cx="3505320" cy="2440080"/>
          </a:xfrm>
          <a:prstGeom prst="rect">
            <a:avLst/>
          </a:prstGeom>
          <a:ln w="57240">
            <a:solidFill>
              <a:srgbClr val="c0c0c0">
                <a:alpha val="50000"/>
              </a:srgbClr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3429000" y="256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65160" y="2106720"/>
            <a:ext cx="7221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 u="sng">
                <a:solidFill>
                  <a:srgbClr val="666666"/>
                </a:solidFill>
                <a:uFillTx/>
                <a:latin typeface="Bookman Old Style"/>
              </a:rPr>
              <a:t>Giovanna 10 an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Trasferita p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Febbre settica e artralgie diff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Rx torace negat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Indici di flogosi posi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53760" y="5222880"/>
            <a:ext cx="604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Tampone faringeo positivo per SB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omparsa in decima giorn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di soffio sisto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0920" y="1054080"/>
            <a:ext cx="7391520" cy="1007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Linee guida per la diagnosi di </a:t>
            </a:r>
            <a:br>
              <a:rPr sz="3000"/>
            </a:b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febbre reumatica (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80920" y="2405160"/>
            <a:ext cx="7391520" cy="29199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2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6666"/>
                </a:solidFill>
                <a:latin typeface="Bookman Old Style"/>
              </a:rPr>
              <a:t>CRITERI MAGGIOR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ardite reumatica a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Poliartrite mig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orea di Syden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Eritema marg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Noduli sottocut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7160" y="6076800"/>
            <a:ext cx="33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6666"/>
                </a:solidFill>
                <a:latin typeface="Bookman Old Style"/>
              </a:rPr>
              <a:t>Criteri di Jones, modificati 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0920" y="1054080"/>
            <a:ext cx="7391520" cy="103176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  <a:effectLst>
            <a:outerShdw dist="17819" dir="2700000" blurRad="0" rotWithShape="0">
              <a:srgbClr val="848484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Linee guida per la diagnosi di</a:t>
            </a:r>
            <a:br>
              <a:rPr sz="3000"/>
            </a:b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 febbre reumatica (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88840" y="2324160"/>
            <a:ext cx="7391520" cy="2176560"/>
            <a:chOff x="888840" y="2324160"/>
            <a:chExt cx="7391520" cy="2176560"/>
          </a:xfrm>
        </p:grpSpPr>
        <p:sp>
          <p:nvSpPr>
            <p:cNvPr id="96" name=""/>
            <p:cNvSpPr/>
            <p:nvPr/>
          </p:nvSpPr>
          <p:spPr>
            <a:xfrm>
              <a:off x="2917800" y="3912840"/>
              <a:ext cx="5362200" cy="58752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4143a"/>
                  </a:solidFill>
                  <a:latin typeface="Bookman Old Style"/>
                </a:rPr>
                <a:t>- </a:t>
              </a:r>
              <a:r>
                <a:rPr b="1" lang="en-US" sz="2200" spc="-1" strike="noStrike">
                  <a:solidFill>
                    <a:srgbClr val="94143a"/>
                  </a:solidFill>
                  <a:latin typeface="Bookman Old Style"/>
                </a:rPr>
                <a:t>Prolungamento dell’intervallo P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8840" y="3912840"/>
              <a:ext cx="2028960" cy="58752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4143a"/>
                  </a:solidFill>
                  <a:latin typeface="Bookman Old Style"/>
                </a:rPr>
                <a:t>- </a:t>
              </a:r>
              <a:r>
                <a:rPr b="1" lang="en-US" sz="2200" spc="-1" strike="noStrike">
                  <a:solidFill>
                    <a:srgbClr val="94143a"/>
                  </a:solidFill>
                  <a:latin typeface="Bookman Old Style"/>
                </a:rPr>
                <a:t>Febb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17800" y="3456000"/>
              <a:ext cx="5362200" cy="45684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4143a"/>
                  </a:solidFill>
                  <a:latin typeface="Bookman Old Style"/>
                </a:rPr>
                <a:t>- </a:t>
              </a:r>
              <a:r>
                <a:rPr b="1" lang="en-US" sz="2200" spc="-1" strike="noStrike">
                  <a:solidFill>
                    <a:srgbClr val="94143a"/>
                  </a:solidFill>
                  <a:latin typeface="Bookman Old Style"/>
                </a:rPr>
                <a:t>Elevazione degli indici di flogos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8840" y="3456000"/>
              <a:ext cx="2028960" cy="45684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94143a"/>
                  </a:solidFill>
                  <a:latin typeface="Bookman Old Style"/>
                </a:rPr>
                <a:t>- </a:t>
              </a:r>
              <a:r>
                <a:rPr b="1" lang="it-IT" sz="2200" spc="-1" strike="noStrike">
                  <a:solidFill>
                    <a:srgbClr val="94143a"/>
                  </a:solidFill>
                  <a:latin typeface="Bookman Old Style"/>
                </a:rPr>
                <a:t>Artralgi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17800" y="2868120"/>
              <a:ext cx="5362200" cy="58752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666666"/>
                  </a:solidFill>
                  <a:latin typeface="Bookman Old Style"/>
                </a:rPr>
                <a:t>LABORATORISTI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8840" y="2868120"/>
              <a:ext cx="2028960" cy="58752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666666"/>
                  </a:solidFill>
                  <a:latin typeface="Bookman Old Style"/>
                </a:rPr>
                <a:t>CLINI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8840" y="2324160"/>
              <a:ext cx="7391520" cy="543960"/>
            </a:xfrm>
            <a:prstGeom prst="rect">
              <a:avLst/>
            </a:prstGeom>
            <a:noFill/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666666"/>
                  </a:solidFill>
                  <a:latin typeface="Bookman Old Style"/>
                </a:rPr>
                <a:t>* </a:t>
              </a:r>
              <a:r>
                <a:rPr b="1" lang="en-US" sz="2600" spc="-1" strike="noStrike">
                  <a:solidFill>
                    <a:srgbClr val="666666"/>
                  </a:solidFill>
                  <a:latin typeface="Bookman Old Style"/>
                </a:rPr>
                <a:t>CRITERI MINOR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8840" y="2324160"/>
              <a:ext cx="739152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8840" y="4500720"/>
              <a:ext cx="739152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8840" y="2324160"/>
              <a:ext cx="0" cy="21765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7800" y="2868120"/>
              <a:ext cx="0" cy="16322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80360" y="2324160"/>
              <a:ext cx="0" cy="21765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8840" y="2868120"/>
              <a:ext cx="739152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919080" y="4651200"/>
            <a:ext cx="7315200" cy="14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* Evidenza di pregressa infezione streptococc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4143a"/>
                </a:solidFill>
                <a:latin typeface="Bookman Old Style"/>
              </a:rPr>
              <a:t>- Tampone faringeo posi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lnSpc>
                <a:spcPct val="100000"/>
              </a:lnSpc>
              <a:buClr>
                <a:srgbClr val="94143a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0" lang="it-IT" sz="2200" spc="-1" strike="noStrike">
                <a:solidFill>
                  <a:srgbClr val="94143a"/>
                </a:solidFill>
                <a:latin typeface="Bookman Old Style"/>
              </a:rPr>
              <a:t>Titolo antistreptococcico elevato e aument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4143a"/>
                </a:solidFill>
                <a:latin typeface="Bookman Old Style"/>
              </a:rPr>
              <a:t>  </a:t>
            </a:r>
            <a:r>
              <a:rPr b="0" lang="it-IT" sz="2200" spc="-1" strike="noStrike">
                <a:solidFill>
                  <a:srgbClr val="94143a"/>
                </a:solidFill>
                <a:latin typeface="Bookman Old Style"/>
              </a:rPr>
              <a:t>in prelievi successi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37160" y="6315120"/>
            <a:ext cx="33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6666"/>
                </a:solidFill>
                <a:latin typeface="Bookman Old Style"/>
              </a:rPr>
              <a:t>Criteri di Jones, modificati 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80920" y="1054080"/>
            <a:ext cx="7391520" cy="10076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Linee guida per la diagnosi di </a:t>
            </a:r>
            <a:br>
              <a:rPr sz="3000"/>
            </a:b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febbre reuma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9080" y="2519280"/>
            <a:ext cx="73152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Bookman Old Style"/>
              </a:rPr>
              <a:t>ELEVATA PROBABI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Pregressa inf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+ 2 criteri magg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4143a"/>
                </a:solidFill>
                <a:latin typeface="Bookman Old Style"/>
              </a:rPr>
              <a:t>opp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+ 1 criterio maggiore e 2 min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indrome%20di%20Lyell" descr=""/>
          <p:cNvPicPr/>
          <p:nvPr/>
        </p:nvPicPr>
        <p:blipFill>
          <a:blip r:embed="rId1"/>
          <a:stretch/>
        </p:blipFill>
        <p:spPr>
          <a:xfrm>
            <a:off x="2325600" y="1054080"/>
            <a:ext cx="4500720" cy="5715000"/>
          </a:xfrm>
          <a:prstGeom prst="rect">
            <a:avLst/>
          </a:prstGeom>
          <a:ln w="25560">
            <a:solidFill>
              <a:srgbClr val="969696">
                <a:alpha val="50000"/>
              </a:srgbClr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338640" y="1254240"/>
            <a:ext cx="114300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0920" y="1054080"/>
            <a:ext cx="7391520" cy="10076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Patomorfosi delle infezioni streptococciche: forme invas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9080" y="2457360"/>
            <a:ext cx="7315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Negli anni ‘80 comparsa negli Stati Uni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di sierotipi M (1 e 3) altamente reumatogenici e responsabili di gravi infezioni  inva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Adulti con primitive localizzazioni a c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e tessuti mol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just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“</a:t>
            </a:r>
            <a:r>
              <a:rPr b="1" i="1" lang="it-IT" sz="2200" spc="-1" strike="noStrike">
                <a:solidFill>
                  <a:srgbClr val="94143a"/>
                </a:solidFill>
                <a:latin typeface="Bookman Old Style"/>
              </a:rPr>
              <a:t>Streptococcal Toxic Shock Syndrome”</a:t>
            </a: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 (STSS) con grave compromissione multiorgano (MOF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27880" y="5985000"/>
            <a:ext cx="6119640" cy="337320"/>
          </a:xfrm>
          <a:prstGeom prst="rect">
            <a:avLst/>
          </a:prstGeom>
          <a:noFill/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6666"/>
                </a:solidFill>
                <a:latin typeface="Bookman Old Style"/>
              </a:rPr>
              <a:t> </a:t>
            </a:r>
            <a:r>
              <a:rPr b="1" lang="it-IT" sz="1600" spc="-1" strike="noStrike">
                <a:solidFill>
                  <a:srgbClr val="666666"/>
                </a:solidFill>
                <a:latin typeface="Bookman Old Style"/>
              </a:rPr>
              <a:t>Marone e  Marseglia, Infettivologia Pediatrica, UTET, 1999</a:t>
            </a:r>
            <a:r>
              <a:rPr b="0" lang="it-IT" sz="1600" spc="-1" strike="noStrike">
                <a:solidFill>
                  <a:srgbClr val="666666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2160" y="1960560"/>
            <a:ext cx="7209000" cy="2378160"/>
          </a:xfrm>
          <a:prstGeom prst="rect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94143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...“</a:t>
            </a:r>
            <a:r>
              <a:rPr b="1" i="1" lang="it-IT" sz="3000" spc="-1" strike="noStrike">
                <a:solidFill>
                  <a:srgbClr val="94143a"/>
                </a:solidFill>
                <a:latin typeface="Bookman Old Style"/>
              </a:rPr>
              <a:t>Although group A streptococci are among the most extensively studied  pathogenic bacteria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94143a"/>
                </a:solidFill>
                <a:latin typeface="Bookman Old Style"/>
              </a:rPr>
              <a:t>they still pose seve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94143a"/>
                </a:solidFill>
                <a:latin typeface="Bookman Old Style"/>
              </a:rPr>
              <a:t>unresolved puzzles</a:t>
            </a: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”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86000" y="5565600"/>
            <a:ext cx="6422760" cy="398880"/>
          </a:xfrm>
          <a:prstGeom prst="rect">
            <a:avLst/>
          </a:prstGeom>
          <a:noFill/>
          <a:ln w="38160">
            <a:solidFill>
              <a:srgbClr val="94143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Podbielski A, </a:t>
            </a:r>
            <a:r>
              <a:rPr b="1" i="1" lang="it-IT" sz="2000" spc="-1" strike="noStrike">
                <a:solidFill>
                  <a:srgbClr val="666666"/>
                </a:solidFill>
                <a:latin typeface="Bookman Old Style"/>
              </a:rPr>
              <a:t>Lancet</a:t>
            </a: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 358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0920" y="1054080"/>
            <a:ext cx="7391520" cy="10076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da SBEA: complican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4960" y="2230560"/>
            <a:ext cx="75438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666666"/>
                </a:solidFill>
                <a:latin typeface="Bookman Old Style"/>
              </a:rPr>
              <a:t>SUPPUR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Cellulite, ascesso retrofaringeo o peritonsill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Otite, sinusite, mastoid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Linfoadenite latero-cervic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Meningite, battieriemia, polmonite, STSS (ra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00240" y="4594320"/>
            <a:ext cx="4952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666666"/>
                </a:solidFill>
                <a:latin typeface="Bookman Old Style"/>
              </a:rPr>
              <a:t>NON SUPPUR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Febbre reuma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Glomerulonefrite acu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4360" y="6213600"/>
            <a:ext cx="4405320" cy="337320"/>
          </a:xfrm>
          <a:prstGeom prst="rect">
            <a:avLst/>
          </a:prstGeom>
          <a:noFill/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it-IT" sz="1600" spc="-1" strike="noStrike">
                <a:solidFill>
                  <a:srgbClr val="666666"/>
                </a:solidFill>
                <a:latin typeface="Bookman Old Style"/>
              </a:rPr>
              <a:t> Burgio, Pediatria</a:t>
            </a:r>
            <a:r>
              <a:rPr b="1" i="1" lang="it-IT" sz="1600" spc="-1" strike="noStrike">
                <a:solidFill>
                  <a:srgbClr val="666666"/>
                </a:solidFill>
                <a:latin typeface="Bookman Old Style"/>
              </a:rPr>
              <a:t> </a:t>
            </a:r>
            <a:r>
              <a:rPr b="1" lang="it-IT" sz="1600" spc="-1" strike="noStrike">
                <a:solidFill>
                  <a:srgbClr val="666666"/>
                </a:solidFill>
                <a:latin typeface="Bookman Old Style"/>
              </a:rPr>
              <a:t>Essenziale IV ed.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49400" y="1384200"/>
            <a:ext cx="5294520" cy="462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1800" y="2046240"/>
            <a:ext cx="7391160" cy="3292920"/>
          </a:xfrm>
          <a:prstGeom prst="rect">
            <a:avLst/>
          </a:prstGeom>
          <a:noFill/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Murphy ML. et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94143a"/>
                </a:solidFill>
                <a:latin typeface="Bookman Old Style"/>
              </a:rPr>
              <a:t>“</a:t>
            </a:r>
            <a:r>
              <a:rPr b="1" i="1" lang="it-IT" sz="2600" spc="-1" strike="noStrike">
                <a:solidFill>
                  <a:srgbClr val="94143a"/>
                </a:solidFill>
                <a:latin typeface="Bookman Old Style"/>
              </a:rPr>
              <a:t>Prospective identification and treatment of children with pediatric autoimmune neurospychiatric disorder with group A streptococcal infection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666666"/>
                </a:solidFill>
                <a:latin typeface="Bookman Old Style"/>
              </a:rPr>
              <a:t>Arch Pediatr Adolesc Med, 356-361, 2002</a:t>
            </a: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28840" y="1054080"/>
            <a:ext cx="63356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9966"/>
                </a:solidFill>
                <a:latin typeface="Bookman Old Style"/>
              </a:rPr>
              <a:t>P.A.N.D.A.S</a:t>
            </a:r>
            <a:r>
              <a:rPr b="1" lang="it-IT" sz="6000" spc="-1" strike="noStrike">
                <a:solidFill>
                  <a:srgbClr val="666666"/>
                </a:solidFill>
                <a:latin typeface="Bookman Old Styl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66"/>
                </a:solidFill>
                <a:latin typeface="Bookman Old Style"/>
              </a:rPr>
              <a:t>P</a:t>
            </a:r>
            <a:r>
              <a:rPr b="1" i="1" lang="it-IT" sz="4000" spc="-1" strike="noStrike">
                <a:solidFill>
                  <a:srgbClr val="808080"/>
                </a:solidFill>
                <a:latin typeface="Bookman Old Style"/>
              </a:rPr>
              <a:t>ediatric</a:t>
            </a:r>
            <a:r>
              <a:rPr b="1" i="1" lang="it-IT" sz="4000" spc="-1" strike="noStrike">
                <a:solidFill>
                  <a:srgbClr val="969696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66"/>
                </a:solidFill>
                <a:latin typeface="Bookman Old Style"/>
              </a:rPr>
              <a:t>A</a:t>
            </a:r>
            <a:r>
              <a:rPr b="1" i="1" lang="it-IT" sz="4000" spc="-1" strike="noStrike">
                <a:solidFill>
                  <a:srgbClr val="808080"/>
                </a:solidFill>
                <a:latin typeface="Bookman Old Style"/>
              </a:rPr>
              <a:t>utoimm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66"/>
                </a:solidFill>
                <a:latin typeface="Bookman Old Style"/>
              </a:rPr>
              <a:t>N</a:t>
            </a:r>
            <a:r>
              <a:rPr b="1" i="1" lang="it-IT" sz="4000" spc="-1" strike="noStrike">
                <a:solidFill>
                  <a:srgbClr val="808080"/>
                </a:solidFill>
                <a:latin typeface="Bookman Old Style"/>
              </a:rPr>
              <a:t>europsychiatric</a:t>
            </a:r>
            <a:r>
              <a:rPr b="1" lang="it-IT" sz="4000" spc="-1" strike="noStrike">
                <a:solidFill>
                  <a:srgbClr val="dddddd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66"/>
                </a:solidFill>
                <a:latin typeface="Bookman Old Style"/>
              </a:rPr>
              <a:t>D</a:t>
            </a:r>
            <a:r>
              <a:rPr b="1" i="1" lang="it-IT" sz="4000" spc="-1" strike="noStrike">
                <a:solidFill>
                  <a:srgbClr val="808080"/>
                </a:solidFill>
                <a:latin typeface="Bookman Old Style"/>
              </a:rPr>
              <a:t>isord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66"/>
                </a:solidFill>
                <a:latin typeface="Bookman Old Style"/>
              </a:rPr>
              <a:t>A</a:t>
            </a:r>
            <a:r>
              <a:rPr b="1" i="1" lang="it-IT" sz="4000" spc="-1" strike="noStrike">
                <a:solidFill>
                  <a:srgbClr val="808080"/>
                </a:solidFill>
                <a:latin typeface="Bookman Old Style"/>
              </a:rPr>
              <a:t>ssociated</a:t>
            </a:r>
            <a:r>
              <a:rPr b="1" lang="it-IT" sz="4000" spc="-1" strike="noStrike">
                <a:solidFill>
                  <a:srgbClr val="808080"/>
                </a:solidFill>
                <a:latin typeface="Bookman Old Style"/>
              </a:rPr>
              <a:t> </a:t>
            </a:r>
            <a:r>
              <a:rPr b="1" i="1" lang="it-IT" sz="4000" spc="-1" strike="noStrike">
                <a:solidFill>
                  <a:srgbClr val="808080"/>
                </a:solidFill>
                <a:latin typeface="Bookman Old Style"/>
              </a:rPr>
              <a:t>with</a:t>
            </a:r>
            <a:r>
              <a:rPr b="1" lang="it-IT" sz="4000" spc="-1" strike="noStrike">
                <a:solidFill>
                  <a:srgbClr val="dddddd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66"/>
                </a:solidFill>
                <a:latin typeface="Bookman Old Style"/>
              </a:rPr>
              <a:t>S</a:t>
            </a:r>
            <a:r>
              <a:rPr b="1" lang="it-IT" sz="4000" spc="-1" strike="noStrike">
                <a:solidFill>
                  <a:srgbClr val="808080"/>
                </a:solidFill>
                <a:latin typeface="Bookman Old Style"/>
              </a:rPr>
              <a:t>B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880920" y="1228680"/>
            <a:ext cx="7391520" cy="4649760"/>
            <a:chOff x="880920" y="1228680"/>
            <a:chExt cx="7391520" cy="4649760"/>
          </a:xfrm>
        </p:grpSpPr>
        <p:sp>
          <p:nvSpPr>
            <p:cNvPr id="126" name=""/>
            <p:cNvSpPr/>
            <p:nvPr/>
          </p:nvSpPr>
          <p:spPr>
            <a:xfrm>
              <a:off x="7704360" y="1621440"/>
              <a:ext cx="567720" cy="4257000"/>
            </a:xfrm>
            <a:prstGeom prst="rect">
              <a:avLst/>
            </a:prstGeom>
            <a:noFill/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6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5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5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6680" y="1621440"/>
              <a:ext cx="3127680" cy="4257000"/>
            </a:xfrm>
            <a:prstGeom prst="rect">
              <a:avLst/>
            </a:prstGeom>
            <a:noFill/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Creatinem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Trombocitopenia (&lt;100.000/mm</a:t>
              </a:r>
              <a:r>
                <a:rPr b="1" lang="it-IT" sz="1800" spc="-1" strike="noStrike" baseline="50000">
                  <a:solidFill>
                    <a:srgbClr val="94143a"/>
                  </a:solidFill>
                  <a:latin typeface="Times New Roman"/>
                </a:rPr>
                <a:t>3</a:t>
              </a: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Ipocalcemia (&lt;7,5 mg/d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Iperazotem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Iperbilirubinem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Aumento enzimi epat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Leucocito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Sedimento urinario patolog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Incremento CP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Forme immature leucocitar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42720" y="1621440"/>
              <a:ext cx="633600" cy="4257000"/>
            </a:xfrm>
            <a:prstGeom prst="rect">
              <a:avLst/>
            </a:prstGeom>
            <a:noFill/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4143a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0920" y="1621440"/>
              <a:ext cx="3061800" cy="4257000"/>
            </a:xfrm>
            <a:prstGeom prst="rect">
              <a:avLst/>
            </a:prstGeom>
            <a:noFill/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Rash esfoli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Ipotens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Diar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Mialg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Vom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Febbre &gt; 4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Cefal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Iperemia faring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Iperemia congiuntiv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Obnubilamento del sens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Vagin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Leucor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Times New Roman"/>
                </a:rPr>
                <a:t>Brivi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04360" y="1228680"/>
              <a:ext cx="567720" cy="392760"/>
            </a:xfrm>
            <a:prstGeom prst="rect">
              <a:avLst/>
            </a:prstGeom>
            <a:noFill/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66"/>
                  </a:solidFill>
                  <a:latin typeface="Times New Roman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6680" y="1228680"/>
              <a:ext cx="3127680" cy="392760"/>
            </a:xfrm>
            <a:prstGeom prst="rect">
              <a:avLst/>
            </a:prstGeom>
            <a:noFill/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66"/>
                  </a:solidFill>
                  <a:latin typeface="Times New Roman"/>
                </a:rPr>
                <a:t>LABORA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42720" y="1228680"/>
              <a:ext cx="633600" cy="392760"/>
            </a:xfrm>
            <a:prstGeom prst="rect">
              <a:avLst/>
            </a:prstGeom>
            <a:noFill/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66"/>
                  </a:solidFill>
                  <a:latin typeface="Times New Roman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0920" y="1228680"/>
              <a:ext cx="3061800" cy="392760"/>
            </a:xfrm>
            <a:prstGeom prst="rect">
              <a:avLst/>
            </a:prstGeom>
            <a:noFill/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66"/>
                  </a:solidFill>
                  <a:latin typeface="Times New Roman"/>
                </a:rPr>
                <a:t>SEGNI O SINTO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0920" y="1228680"/>
              <a:ext cx="7391520" cy="0"/>
            </a:xfrm>
            <a:prstGeom prst="line">
              <a:avLst/>
            </a:prstGeom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0920" y="1228680"/>
              <a:ext cx="0" cy="4649760"/>
            </a:xfrm>
            <a:prstGeom prst="line">
              <a:avLst/>
            </a:prstGeom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72440" y="1228680"/>
              <a:ext cx="0" cy="4649760"/>
            </a:xfrm>
            <a:prstGeom prst="line">
              <a:avLst/>
            </a:prstGeom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6680" y="1228680"/>
              <a:ext cx="0" cy="4649760"/>
            </a:xfrm>
            <a:prstGeom prst="line">
              <a:avLst/>
            </a:prstGeom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42720" y="5878440"/>
              <a:ext cx="3761640" cy="0"/>
            </a:xfrm>
            <a:prstGeom prst="line">
              <a:avLst/>
            </a:prstGeom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920" y="5878440"/>
              <a:ext cx="3061800" cy="0"/>
            </a:xfrm>
            <a:prstGeom prst="line">
              <a:avLst/>
            </a:prstGeom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04360" y="5878440"/>
              <a:ext cx="567720" cy="0"/>
            </a:xfrm>
            <a:prstGeom prst="line">
              <a:avLst/>
            </a:prstGeom>
            <a:ln w="38160">
              <a:solidFill>
                <a:srgbClr val="94143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3040" y="2647800"/>
            <a:ext cx="6405840" cy="3293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6666"/>
                </a:solidFill>
                <a:latin typeface="Bookman Old Style"/>
              </a:rPr>
              <a:t> </a:t>
            </a:r>
            <a:r>
              <a:rPr b="1" lang="it-IT" sz="4000" spc="-1" strike="noStrike">
                <a:solidFill>
                  <a:srgbClr val="666666"/>
                </a:solidFill>
                <a:latin typeface="Bookman Old Style"/>
              </a:rPr>
              <a:t>Disturbi ossessiv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6666"/>
                </a:solidFill>
                <a:latin typeface="Bookman Old Style"/>
              </a:rPr>
              <a:t> </a:t>
            </a:r>
            <a:r>
              <a:rPr b="1" lang="it-IT" sz="4000" spc="-1" strike="noStrike">
                <a:solidFill>
                  <a:srgbClr val="666666"/>
                </a:solidFill>
                <a:latin typeface="Bookman Old Style"/>
              </a:rPr>
              <a:t>T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6666"/>
                </a:solidFill>
                <a:latin typeface="Bookman Old Style"/>
              </a:rPr>
              <a:t> </a:t>
            </a:r>
            <a:r>
              <a:rPr b="1" lang="it-IT" sz="4000" spc="-1" strike="noStrike">
                <a:solidFill>
                  <a:srgbClr val="666666"/>
                </a:solidFill>
                <a:latin typeface="Bookman Old Style"/>
              </a:rPr>
              <a:t>Iperattività mot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6666"/>
                </a:solidFill>
                <a:latin typeface="Bookman Old Style"/>
              </a:rPr>
              <a:t> </a:t>
            </a:r>
            <a:r>
              <a:rPr b="1" lang="it-IT" sz="4000" spc="-1" strike="noStrike">
                <a:solidFill>
                  <a:srgbClr val="666666"/>
                </a:solidFill>
                <a:latin typeface="Bookman Old Style"/>
              </a:rPr>
              <a:t>Movimenti core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4200" y="1054080"/>
            <a:ext cx="44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66"/>
                </a:solidFill>
                <a:latin typeface="Bookman Old Style"/>
              </a:rPr>
              <a:t>P.A.N.D.A.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80920" y="2097000"/>
            <a:ext cx="7391520" cy="1129320"/>
          </a:xfrm>
          <a:prstGeom prst="rect">
            <a:avLst/>
          </a:prstGeom>
          <a:noFill/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94143a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La diagnosi clinic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non è uno strumento valid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0920" y="1053360"/>
            <a:ext cx="739152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80920" y="3733920"/>
            <a:ext cx="7391520" cy="1677960"/>
          </a:xfrm>
          <a:prstGeom prst="rect">
            <a:avLst/>
          </a:prstGeom>
          <a:noFill/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2. La diagnosi meri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la dimostrazion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dello streptococco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35080" y="6119280"/>
            <a:ext cx="5081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Am Academy of Pediatrics</a:t>
            </a:r>
            <a:r>
              <a:rPr b="0" lang="it-IT" sz="2400" spc="-1" strike="noStrike">
                <a:solidFill>
                  <a:srgbClr val="666666"/>
                </a:solidFill>
                <a:latin typeface="Book Antiqua"/>
              </a:rPr>
              <a:t>,</a:t>
            </a: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80920" y="2760840"/>
            <a:ext cx="7391520" cy="1160280"/>
          </a:xfrm>
          <a:prstGeom prst="rect">
            <a:avLst/>
          </a:prstGeom>
          <a:noFill/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3. I casi positiv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devono essere trattati</a:t>
            </a: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80920" y="1053360"/>
            <a:ext cx="739152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35080" y="5817960"/>
            <a:ext cx="5081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Am Academy of Pediatrics</a:t>
            </a:r>
            <a:r>
              <a:rPr b="0" lang="it-IT" sz="2400" spc="-1" strike="noStrike">
                <a:solidFill>
                  <a:srgbClr val="666666"/>
                </a:solidFill>
                <a:latin typeface="Book Antiqua"/>
              </a:rPr>
              <a:t>,</a:t>
            </a: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9080" y="2743200"/>
            <a:ext cx="7315200" cy="1647000"/>
          </a:xfrm>
          <a:prstGeom prst="rect">
            <a:avLst/>
          </a:prstGeom>
          <a:noFill/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4. La guarigione clinic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non richiede (quasi mai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la conferma batteriologic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80920" y="1053360"/>
            <a:ext cx="739152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35080" y="5817960"/>
            <a:ext cx="5081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Am Academy of Pediatrics</a:t>
            </a:r>
            <a:r>
              <a:rPr b="0" lang="it-IT" sz="2400" spc="-1" strike="noStrike">
                <a:solidFill>
                  <a:srgbClr val="666666"/>
                </a:solidFill>
                <a:latin typeface="Book Antiqua"/>
              </a:rPr>
              <a:t>,</a:t>
            </a: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87400" y="2486160"/>
            <a:ext cx="7377120" cy="1647000"/>
          </a:xfrm>
          <a:prstGeom prst="rect">
            <a:avLst/>
          </a:prstGeom>
          <a:noFill/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5. Le ricadute meritano attenzione e vanno trattate con schemi alternativi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0920" y="1053360"/>
            <a:ext cx="739152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5080" y="5817960"/>
            <a:ext cx="5081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Am Academy of Pediatrics</a:t>
            </a:r>
            <a:r>
              <a:rPr b="0" lang="it-IT" sz="2400" spc="-1" strike="noStrike">
                <a:solidFill>
                  <a:srgbClr val="666666"/>
                </a:solidFill>
                <a:latin typeface="Book Antiqua"/>
              </a:rPr>
              <a:t>,</a:t>
            </a: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ntestino%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62120" y="343080"/>
            <a:ext cx="7637400" cy="5143320"/>
            <a:chOff x="762120" y="343080"/>
            <a:chExt cx="7637400" cy="5143320"/>
          </a:xfrm>
        </p:grpSpPr>
        <p:pic>
          <p:nvPicPr>
            <p:cNvPr id="50" name="microorganismo6" descr=""/>
            <p:cNvPicPr/>
            <p:nvPr/>
          </p:nvPicPr>
          <p:blipFill>
            <a:blip r:embed="rId2"/>
            <a:stretch/>
          </p:blipFill>
          <p:spPr>
            <a:xfrm>
              <a:off x="4343400" y="838080"/>
              <a:ext cx="16034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microorganismo6" descr=""/>
            <p:cNvPicPr/>
            <p:nvPr/>
          </p:nvPicPr>
          <p:blipFill>
            <a:blip r:embed="rId3"/>
            <a:stretch/>
          </p:blipFill>
          <p:spPr>
            <a:xfrm>
              <a:off x="6502320" y="343080"/>
              <a:ext cx="189720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microorganismo6" descr=""/>
            <p:cNvPicPr/>
            <p:nvPr/>
          </p:nvPicPr>
          <p:blipFill>
            <a:blip r:embed="rId4"/>
            <a:stretch/>
          </p:blipFill>
          <p:spPr>
            <a:xfrm>
              <a:off x="762120" y="2414520"/>
              <a:ext cx="4368600" cy="30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3507840" y="1691640"/>
            <a:ext cx="2109960" cy="2620080"/>
            <a:chOff x="3507840" y="1691640"/>
            <a:chExt cx="2109960" cy="2620080"/>
          </a:xfrm>
        </p:grpSpPr>
        <p:sp>
          <p:nvSpPr>
            <p:cNvPr id="54" name=""/>
            <p:cNvSpPr/>
            <p:nvPr/>
          </p:nvSpPr>
          <p:spPr>
            <a:xfrm rot="3755400">
              <a:off x="4800600" y="342900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3755400">
              <a:off x="4457520" y="247644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152800">
              <a:off x="3695400" y="1790640"/>
              <a:ext cx="609480" cy="83844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1120" y="2483280"/>
            <a:ext cx="7832520" cy="3200040"/>
          </a:xfrm>
          <a:prstGeom prst="rect">
            <a:avLst/>
          </a:prstGeom>
          <a:noFill/>
          <a:ln w="25560">
            <a:solidFill>
              <a:srgbClr val="94143a"/>
            </a:solidFill>
            <a:miter/>
          </a:ln>
          <a:effectLst>
            <a:outerShdw dist="17819" dir="2700000" blurRad="0" rotWithShape="0">
              <a:srgbClr val="580b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Nessuna di queste raccomandazioni è segui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nei fatt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dalla maggioranza dei Pediatr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né il Italia, né negli US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0920" y="1053360"/>
            <a:ext cx="739152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66880" y="1316160"/>
            <a:ext cx="7419960" cy="4846680"/>
          </a:xfrm>
          <a:prstGeom prst="rect">
            <a:avLst/>
          </a:prstGeom>
          <a:noFill/>
          <a:ln w="25560">
            <a:solidFill>
              <a:srgbClr val="94143a">
                <a:alpha val="50000"/>
              </a:srgbClr>
            </a:solidFill>
            <a:miter/>
          </a:ln>
          <a:effectLst>
            <a:outerShdw dist="17819" dir="2700000" blurRad="0" rotWithShape="0">
              <a:srgbClr val="580b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65200" indent="-56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6666"/>
                </a:solidFill>
                <a:latin typeface="Book Antiqua"/>
              </a:rPr>
              <a:t>Panizon F </a:t>
            </a:r>
            <a:r>
              <a:rPr b="1" i="1" lang="it-IT" sz="2600" spc="-1" strike="noStrike">
                <a:solidFill>
                  <a:srgbClr val="666666"/>
                </a:solidFill>
                <a:latin typeface="Book Antiqua"/>
              </a:rPr>
              <a:t>et 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 Antiqua"/>
              </a:rPr>
              <a:t>“</a:t>
            </a: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Streptococco: tra il dire e il fare, ovv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sulla conflittualità tra le raccomazio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ufficiali e la pratica quotidiana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 Antiqua"/>
              </a:rPr>
              <a:t>Medico e Bambino 21,6,2002</a:t>
            </a:r>
            <a:r>
              <a:rPr b="1" lang="it-IT" sz="4000" spc="-1" strike="noStrike">
                <a:solidFill>
                  <a:srgbClr val="94143a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6666"/>
                </a:solidFill>
                <a:latin typeface="Book Antiqua"/>
              </a:rPr>
              <a:t>Hofer C </a:t>
            </a:r>
            <a:r>
              <a:rPr b="1" i="1" lang="it-IT" sz="2600" spc="-1" strike="noStrike">
                <a:solidFill>
                  <a:srgbClr val="666666"/>
                </a:solidFill>
                <a:latin typeface="Book Antiqua"/>
              </a:rPr>
              <a:t>et 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“</a:t>
            </a: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Strategies for managing group A streptococcal pharyngiti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A survey of board- certified pediatricians</a:t>
            </a:r>
            <a:r>
              <a:rPr b="0" lang="it-IT" sz="2600" spc="-1" strike="noStrike">
                <a:solidFill>
                  <a:srgbClr val="94143a"/>
                </a:solidFill>
                <a:latin typeface="Bookman Old Style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 Antiqua"/>
              </a:rPr>
              <a:t>Arch Pediatr Adolesc Med 151 (8):824-9,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92080" y="2466720"/>
            <a:ext cx="7367760" cy="2227320"/>
          </a:xfrm>
          <a:prstGeom prst="rect">
            <a:avLst/>
          </a:prstGeom>
          <a:noFill/>
          <a:ln w="25560">
            <a:solidFill>
              <a:srgbClr val="94143a"/>
            </a:solidFill>
            <a:miter/>
          </a:ln>
          <a:effectLst>
            <a:outerShdw dist="17819" dir="2700000" blurRad="0" rotWithShape="0">
              <a:srgbClr val="580b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94143a"/>
                </a:solidFill>
                <a:latin typeface="Verdana"/>
              </a:rPr>
              <a:t>FAST-</a:t>
            </a:r>
            <a:r>
              <a:rPr b="0" lang="en-US" sz="14000" spc="-1" strike="noStrike">
                <a:solidFill>
                  <a:srgbClr val="666666"/>
                </a:solidFill>
                <a:latin typeface="Verdana"/>
              </a:rPr>
              <a:t>1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71560" y="2430360"/>
            <a:ext cx="7408800" cy="2227320"/>
          </a:xfrm>
          <a:prstGeom prst="rect">
            <a:avLst/>
          </a:prstGeom>
          <a:noFill/>
          <a:ln w="25560">
            <a:solidFill>
              <a:srgbClr val="94143a"/>
            </a:solidFill>
            <a:miter/>
          </a:ln>
          <a:effectLst>
            <a:outerShdw dist="17819" dir="2700000" blurRad="0" rotWithShape="0">
              <a:srgbClr val="580b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94143a"/>
                </a:solidFill>
                <a:latin typeface="Verdana"/>
              </a:rPr>
              <a:t>FAST-</a:t>
            </a:r>
            <a:r>
              <a:rPr b="0" lang="en-US" sz="14000" spc="-1" strike="noStrike">
                <a:solidFill>
                  <a:srgbClr val="666666"/>
                </a:solidFill>
                <a:latin typeface="Verdana"/>
              </a:rPr>
              <a:t>2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217600" y="3503520"/>
            <a:ext cx="4751640" cy="2050920"/>
            <a:chOff x="2217600" y="3503520"/>
            <a:chExt cx="4751640" cy="2050920"/>
          </a:xfrm>
        </p:grpSpPr>
        <p:sp>
          <p:nvSpPr>
            <p:cNvPr id="162" name=""/>
            <p:cNvSpPr/>
            <p:nvPr/>
          </p:nvSpPr>
          <p:spPr>
            <a:xfrm>
              <a:off x="2217600" y="4114800"/>
              <a:ext cx="1943280" cy="1247760"/>
            </a:xfrm>
            <a:custGeom>
              <a:avLst/>
              <a:gdLst/>
              <a:ahLst/>
              <a:rect l="l" t="t" r="r" b="b"/>
              <a:pathLst>
                <a:path w="1224" h="786">
                  <a:moveTo>
                    <a:pt x="1224" y="378"/>
                  </a:moveTo>
                  <a:lnTo>
                    <a:pt x="1202" y="378"/>
                  </a:lnTo>
                  <a:lnTo>
                    <a:pt x="1149" y="370"/>
                  </a:lnTo>
                  <a:lnTo>
                    <a:pt x="1126" y="370"/>
                  </a:lnTo>
                  <a:lnTo>
                    <a:pt x="1096" y="370"/>
                  </a:lnTo>
                  <a:lnTo>
                    <a:pt x="1050" y="370"/>
                  </a:lnTo>
                  <a:lnTo>
                    <a:pt x="1028" y="363"/>
                  </a:lnTo>
                  <a:lnTo>
                    <a:pt x="997" y="363"/>
                  </a:lnTo>
                  <a:lnTo>
                    <a:pt x="952" y="355"/>
                  </a:lnTo>
                  <a:lnTo>
                    <a:pt x="929" y="355"/>
                  </a:lnTo>
                  <a:lnTo>
                    <a:pt x="899" y="355"/>
                  </a:lnTo>
                  <a:lnTo>
                    <a:pt x="854" y="348"/>
                  </a:lnTo>
                  <a:lnTo>
                    <a:pt x="831" y="348"/>
                  </a:lnTo>
                  <a:lnTo>
                    <a:pt x="808" y="340"/>
                  </a:lnTo>
                  <a:lnTo>
                    <a:pt x="763" y="332"/>
                  </a:lnTo>
                  <a:lnTo>
                    <a:pt x="740" y="332"/>
                  </a:lnTo>
                  <a:lnTo>
                    <a:pt x="718" y="325"/>
                  </a:lnTo>
                  <a:lnTo>
                    <a:pt x="672" y="325"/>
                  </a:lnTo>
                  <a:lnTo>
                    <a:pt x="650" y="317"/>
                  </a:lnTo>
                  <a:lnTo>
                    <a:pt x="635" y="317"/>
                  </a:lnTo>
                  <a:lnTo>
                    <a:pt x="589" y="302"/>
                  </a:lnTo>
                  <a:lnTo>
                    <a:pt x="567" y="302"/>
                  </a:lnTo>
                  <a:lnTo>
                    <a:pt x="551" y="295"/>
                  </a:lnTo>
                  <a:lnTo>
                    <a:pt x="506" y="287"/>
                  </a:lnTo>
                  <a:lnTo>
                    <a:pt x="491" y="287"/>
                  </a:lnTo>
                  <a:lnTo>
                    <a:pt x="468" y="280"/>
                  </a:lnTo>
                  <a:lnTo>
                    <a:pt x="431" y="272"/>
                  </a:lnTo>
                  <a:lnTo>
                    <a:pt x="415" y="264"/>
                  </a:lnTo>
                  <a:lnTo>
                    <a:pt x="400" y="264"/>
                  </a:lnTo>
                  <a:lnTo>
                    <a:pt x="362" y="249"/>
                  </a:lnTo>
                  <a:lnTo>
                    <a:pt x="347" y="249"/>
                  </a:lnTo>
                  <a:lnTo>
                    <a:pt x="332" y="242"/>
                  </a:lnTo>
                  <a:lnTo>
                    <a:pt x="294" y="227"/>
                  </a:lnTo>
                  <a:lnTo>
                    <a:pt x="279" y="227"/>
                  </a:lnTo>
                  <a:lnTo>
                    <a:pt x="264" y="219"/>
                  </a:lnTo>
                  <a:lnTo>
                    <a:pt x="234" y="212"/>
                  </a:lnTo>
                  <a:lnTo>
                    <a:pt x="226" y="204"/>
                  </a:lnTo>
                  <a:lnTo>
                    <a:pt x="211" y="196"/>
                  </a:lnTo>
                  <a:lnTo>
                    <a:pt x="181" y="181"/>
                  </a:lnTo>
                  <a:lnTo>
                    <a:pt x="174" y="181"/>
                  </a:lnTo>
                  <a:lnTo>
                    <a:pt x="158" y="174"/>
                  </a:lnTo>
                  <a:lnTo>
                    <a:pt x="136" y="159"/>
                  </a:lnTo>
                  <a:lnTo>
                    <a:pt x="128" y="151"/>
                  </a:lnTo>
                  <a:lnTo>
                    <a:pt x="113" y="151"/>
                  </a:lnTo>
                  <a:lnTo>
                    <a:pt x="98" y="136"/>
                  </a:lnTo>
                  <a:lnTo>
                    <a:pt x="90" y="128"/>
                  </a:lnTo>
                  <a:lnTo>
                    <a:pt x="75" y="121"/>
                  </a:lnTo>
                  <a:lnTo>
                    <a:pt x="60" y="113"/>
                  </a:lnTo>
                  <a:lnTo>
                    <a:pt x="53" y="106"/>
                  </a:lnTo>
                  <a:lnTo>
                    <a:pt x="45" y="98"/>
                  </a:lnTo>
                  <a:lnTo>
                    <a:pt x="37" y="83"/>
                  </a:lnTo>
                  <a:lnTo>
                    <a:pt x="30" y="76"/>
                  </a:lnTo>
                  <a:lnTo>
                    <a:pt x="22" y="68"/>
                  </a:lnTo>
                  <a:lnTo>
                    <a:pt x="15" y="60"/>
                  </a:lnTo>
                  <a:lnTo>
                    <a:pt x="15" y="53"/>
                  </a:lnTo>
                  <a:lnTo>
                    <a:pt x="7" y="4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0" y="416"/>
                  </a:lnTo>
                  <a:lnTo>
                    <a:pt x="0" y="423"/>
                  </a:lnTo>
                  <a:lnTo>
                    <a:pt x="0" y="431"/>
                  </a:lnTo>
                  <a:lnTo>
                    <a:pt x="0" y="438"/>
                  </a:lnTo>
                  <a:lnTo>
                    <a:pt x="7" y="453"/>
                  </a:lnTo>
                  <a:lnTo>
                    <a:pt x="15" y="461"/>
                  </a:lnTo>
                  <a:lnTo>
                    <a:pt x="15" y="468"/>
                  </a:lnTo>
                  <a:lnTo>
                    <a:pt x="22" y="476"/>
                  </a:lnTo>
                  <a:lnTo>
                    <a:pt x="30" y="484"/>
                  </a:lnTo>
                  <a:lnTo>
                    <a:pt x="37" y="491"/>
                  </a:lnTo>
                  <a:lnTo>
                    <a:pt x="45" y="506"/>
                  </a:lnTo>
                  <a:lnTo>
                    <a:pt x="53" y="514"/>
                  </a:lnTo>
                  <a:lnTo>
                    <a:pt x="60" y="521"/>
                  </a:lnTo>
                  <a:lnTo>
                    <a:pt x="75" y="529"/>
                  </a:lnTo>
                  <a:lnTo>
                    <a:pt x="90" y="536"/>
                  </a:lnTo>
                  <a:lnTo>
                    <a:pt x="98" y="544"/>
                  </a:lnTo>
                  <a:lnTo>
                    <a:pt x="113" y="559"/>
                  </a:lnTo>
                  <a:lnTo>
                    <a:pt x="128" y="559"/>
                  </a:lnTo>
                  <a:lnTo>
                    <a:pt x="136" y="567"/>
                  </a:lnTo>
                  <a:lnTo>
                    <a:pt x="158" y="582"/>
                  </a:lnTo>
                  <a:lnTo>
                    <a:pt x="174" y="589"/>
                  </a:lnTo>
                  <a:lnTo>
                    <a:pt x="181" y="589"/>
                  </a:lnTo>
                  <a:lnTo>
                    <a:pt x="211" y="604"/>
                  </a:lnTo>
                  <a:lnTo>
                    <a:pt x="226" y="612"/>
                  </a:lnTo>
                  <a:lnTo>
                    <a:pt x="234" y="620"/>
                  </a:lnTo>
                  <a:lnTo>
                    <a:pt x="264" y="627"/>
                  </a:lnTo>
                  <a:lnTo>
                    <a:pt x="279" y="635"/>
                  </a:lnTo>
                  <a:lnTo>
                    <a:pt x="294" y="635"/>
                  </a:lnTo>
                  <a:lnTo>
                    <a:pt x="332" y="650"/>
                  </a:lnTo>
                  <a:lnTo>
                    <a:pt x="347" y="657"/>
                  </a:lnTo>
                  <a:lnTo>
                    <a:pt x="362" y="657"/>
                  </a:lnTo>
                  <a:lnTo>
                    <a:pt x="400" y="672"/>
                  </a:lnTo>
                  <a:lnTo>
                    <a:pt x="415" y="672"/>
                  </a:lnTo>
                  <a:lnTo>
                    <a:pt x="431" y="680"/>
                  </a:lnTo>
                  <a:lnTo>
                    <a:pt x="468" y="688"/>
                  </a:lnTo>
                  <a:lnTo>
                    <a:pt x="491" y="695"/>
                  </a:lnTo>
                  <a:lnTo>
                    <a:pt x="506" y="695"/>
                  </a:lnTo>
                  <a:lnTo>
                    <a:pt x="551" y="703"/>
                  </a:lnTo>
                  <a:lnTo>
                    <a:pt x="567" y="710"/>
                  </a:lnTo>
                  <a:lnTo>
                    <a:pt x="589" y="710"/>
                  </a:lnTo>
                  <a:lnTo>
                    <a:pt x="635" y="725"/>
                  </a:lnTo>
                  <a:lnTo>
                    <a:pt x="650" y="725"/>
                  </a:lnTo>
                  <a:lnTo>
                    <a:pt x="672" y="733"/>
                  </a:lnTo>
                  <a:lnTo>
                    <a:pt x="718" y="733"/>
                  </a:lnTo>
                  <a:lnTo>
                    <a:pt x="740" y="740"/>
                  </a:lnTo>
                  <a:lnTo>
                    <a:pt x="763" y="740"/>
                  </a:lnTo>
                  <a:lnTo>
                    <a:pt x="808" y="748"/>
                  </a:lnTo>
                  <a:lnTo>
                    <a:pt x="831" y="756"/>
                  </a:lnTo>
                  <a:lnTo>
                    <a:pt x="854" y="756"/>
                  </a:lnTo>
                  <a:lnTo>
                    <a:pt x="899" y="763"/>
                  </a:lnTo>
                  <a:lnTo>
                    <a:pt x="929" y="763"/>
                  </a:lnTo>
                  <a:lnTo>
                    <a:pt x="952" y="763"/>
                  </a:lnTo>
                  <a:lnTo>
                    <a:pt x="997" y="771"/>
                  </a:lnTo>
                  <a:lnTo>
                    <a:pt x="1028" y="771"/>
                  </a:lnTo>
                  <a:lnTo>
                    <a:pt x="1050" y="778"/>
                  </a:lnTo>
                  <a:lnTo>
                    <a:pt x="1096" y="778"/>
                  </a:lnTo>
                  <a:lnTo>
                    <a:pt x="1126" y="778"/>
                  </a:lnTo>
                  <a:lnTo>
                    <a:pt x="1149" y="778"/>
                  </a:lnTo>
                  <a:lnTo>
                    <a:pt x="1202" y="786"/>
                  </a:lnTo>
                  <a:lnTo>
                    <a:pt x="1224" y="786"/>
                  </a:lnTo>
                  <a:lnTo>
                    <a:pt x="1224" y="378"/>
                  </a:lnTo>
                  <a:close/>
                </a:path>
              </a:pathLst>
            </a:custGeom>
            <a:solidFill>
              <a:srgbClr val="94143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7840" y="4114800"/>
              <a:ext cx="274680" cy="934920"/>
            </a:xfrm>
            <a:custGeom>
              <a:avLst/>
              <a:gdLst/>
              <a:ahLst/>
              <a:rect l="l" t="t" r="r" b="b"/>
              <a:pathLst>
                <a:path w="173" h="589">
                  <a:moveTo>
                    <a:pt x="173" y="0"/>
                  </a:moveTo>
                  <a:lnTo>
                    <a:pt x="173" y="8"/>
                  </a:lnTo>
                  <a:lnTo>
                    <a:pt x="166" y="15"/>
                  </a:lnTo>
                  <a:lnTo>
                    <a:pt x="166" y="23"/>
                  </a:lnTo>
                  <a:lnTo>
                    <a:pt x="166" y="30"/>
                  </a:lnTo>
                  <a:lnTo>
                    <a:pt x="158" y="45"/>
                  </a:lnTo>
                  <a:lnTo>
                    <a:pt x="158" y="53"/>
                  </a:lnTo>
                  <a:lnTo>
                    <a:pt x="151" y="60"/>
                  </a:lnTo>
                  <a:lnTo>
                    <a:pt x="143" y="68"/>
                  </a:lnTo>
                  <a:lnTo>
                    <a:pt x="136" y="76"/>
                  </a:lnTo>
                  <a:lnTo>
                    <a:pt x="136" y="83"/>
                  </a:lnTo>
                  <a:lnTo>
                    <a:pt x="121" y="98"/>
                  </a:lnTo>
                  <a:lnTo>
                    <a:pt x="113" y="106"/>
                  </a:lnTo>
                  <a:lnTo>
                    <a:pt x="105" y="113"/>
                  </a:lnTo>
                  <a:lnTo>
                    <a:pt x="90" y="121"/>
                  </a:lnTo>
                  <a:lnTo>
                    <a:pt x="83" y="128"/>
                  </a:lnTo>
                  <a:lnTo>
                    <a:pt x="75" y="136"/>
                  </a:lnTo>
                  <a:lnTo>
                    <a:pt x="52" y="151"/>
                  </a:lnTo>
                  <a:lnTo>
                    <a:pt x="45" y="151"/>
                  </a:lnTo>
                  <a:lnTo>
                    <a:pt x="30" y="159"/>
                  </a:lnTo>
                  <a:lnTo>
                    <a:pt x="7" y="174"/>
                  </a:lnTo>
                  <a:lnTo>
                    <a:pt x="0" y="181"/>
                  </a:lnTo>
                  <a:lnTo>
                    <a:pt x="0" y="589"/>
                  </a:lnTo>
                  <a:lnTo>
                    <a:pt x="7" y="582"/>
                  </a:lnTo>
                  <a:lnTo>
                    <a:pt x="30" y="567"/>
                  </a:lnTo>
                  <a:lnTo>
                    <a:pt x="45" y="559"/>
                  </a:lnTo>
                  <a:lnTo>
                    <a:pt x="52" y="559"/>
                  </a:lnTo>
                  <a:lnTo>
                    <a:pt x="75" y="544"/>
                  </a:lnTo>
                  <a:lnTo>
                    <a:pt x="83" y="536"/>
                  </a:lnTo>
                  <a:lnTo>
                    <a:pt x="90" y="529"/>
                  </a:lnTo>
                  <a:lnTo>
                    <a:pt x="105" y="521"/>
                  </a:lnTo>
                  <a:lnTo>
                    <a:pt x="113" y="514"/>
                  </a:lnTo>
                  <a:lnTo>
                    <a:pt x="121" y="506"/>
                  </a:lnTo>
                  <a:lnTo>
                    <a:pt x="136" y="491"/>
                  </a:lnTo>
                  <a:lnTo>
                    <a:pt x="136" y="484"/>
                  </a:lnTo>
                  <a:lnTo>
                    <a:pt x="143" y="476"/>
                  </a:lnTo>
                  <a:lnTo>
                    <a:pt x="151" y="468"/>
                  </a:lnTo>
                  <a:lnTo>
                    <a:pt x="158" y="461"/>
                  </a:lnTo>
                  <a:lnTo>
                    <a:pt x="158" y="453"/>
                  </a:lnTo>
                  <a:lnTo>
                    <a:pt x="166" y="438"/>
                  </a:lnTo>
                  <a:lnTo>
                    <a:pt x="166" y="431"/>
                  </a:lnTo>
                  <a:lnTo>
                    <a:pt x="166" y="423"/>
                  </a:lnTo>
                  <a:lnTo>
                    <a:pt x="173" y="416"/>
                  </a:lnTo>
                  <a:lnTo>
                    <a:pt x="173" y="40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94143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60880" y="4114800"/>
              <a:ext cx="407880" cy="1247760"/>
            </a:xfrm>
            <a:custGeom>
              <a:avLst/>
              <a:gdLst/>
              <a:ahLst/>
              <a:rect l="l" t="t" r="r" b="b"/>
              <a:pathLst>
                <a:path w="257" h="786">
                  <a:moveTo>
                    <a:pt x="257" y="0"/>
                  </a:moveTo>
                  <a:lnTo>
                    <a:pt x="0" y="378"/>
                  </a:lnTo>
                  <a:lnTo>
                    <a:pt x="0" y="786"/>
                  </a:lnTo>
                  <a:lnTo>
                    <a:pt x="257" y="40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94143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68760" y="4114800"/>
              <a:ext cx="2076480" cy="934920"/>
            </a:xfrm>
            <a:custGeom>
              <a:avLst/>
              <a:gdLst/>
              <a:ahLst/>
              <a:rect l="l" t="t" r="r" b="b"/>
              <a:pathLst>
                <a:path w="1308" h="589">
                  <a:moveTo>
                    <a:pt x="0" y="0"/>
                  </a:moveTo>
                  <a:lnTo>
                    <a:pt x="1308" y="181"/>
                  </a:lnTo>
                  <a:lnTo>
                    <a:pt x="1308" y="589"/>
                  </a:lnTo>
                  <a:lnTo>
                    <a:pt x="0" y="4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143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7600" y="3503520"/>
              <a:ext cx="4714920" cy="1211400"/>
            </a:xfrm>
            <a:custGeom>
              <a:avLst/>
              <a:gdLst/>
              <a:ahLst/>
              <a:rect l="l" t="t" r="r" b="b"/>
              <a:pathLst>
                <a:path w="2970" h="763">
                  <a:moveTo>
                    <a:pt x="1224" y="763"/>
                  </a:moveTo>
                  <a:lnTo>
                    <a:pt x="1202" y="763"/>
                  </a:lnTo>
                  <a:lnTo>
                    <a:pt x="1149" y="755"/>
                  </a:lnTo>
                  <a:lnTo>
                    <a:pt x="1126" y="755"/>
                  </a:lnTo>
                  <a:lnTo>
                    <a:pt x="1096" y="755"/>
                  </a:lnTo>
                  <a:lnTo>
                    <a:pt x="1050" y="755"/>
                  </a:lnTo>
                  <a:lnTo>
                    <a:pt x="1028" y="748"/>
                  </a:lnTo>
                  <a:lnTo>
                    <a:pt x="997" y="748"/>
                  </a:lnTo>
                  <a:lnTo>
                    <a:pt x="952" y="740"/>
                  </a:lnTo>
                  <a:lnTo>
                    <a:pt x="929" y="740"/>
                  </a:lnTo>
                  <a:lnTo>
                    <a:pt x="899" y="740"/>
                  </a:lnTo>
                  <a:lnTo>
                    <a:pt x="854" y="733"/>
                  </a:lnTo>
                  <a:lnTo>
                    <a:pt x="831" y="733"/>
                  </a:lnTo>
                  <a:lnTo>
                    <a:pt x="808" y="725"/>
                  </a:lnTo>
                  <a:lnTo>
                    <a:pt x="763" y="717"/>
                  </a:lnTo>
                  <a:lnTo>
                    <a:pt x="740" y="717"/>
                  </a:lnTo>
                  <a:lnTo>
                    <a:pt x="718" y="710"/>
                  </a:lnTo>
                  <a:lnTo>
                    <a:pt x="672" y="710"/>
                  </a:lnTo>
                  <a:lnTo>
                    <a:pt x="650" y="702"/>
                  </a:lnTo>
                  <a:lnTo>
                    <a:pt x="635" y="702"/>
                  </a:lnTo>
                  <a:lnTo>
                    <a:pt x="589" y="687"/>
                  </a:lnTo>
                  <a:lnTo>
                    <a:pt x="567" y="687"/>
                  </a:lnTo>
                  <a:lnTo>
                    <a:pt x="551" y="680"/>
                  </a:lnTo>
                  <a:lnTo>
                    <a:pt x="506" y="672"/>
                  </a:lnTo>
                  <a:lnTo>
                    <a:pt x="491" y="672"/>
                  </a:lnTo>
                  <a:lnTo>
                    <a:pt x="468" y="665"/>
                  </a:lnTo>
                  <a:lnTo>
                    <a:pt x="431" y="657"/>
                  </a:lnTo>
                  <a:lnTo>
                    <a:pt x="415" y="649"/>
                  </a:lnTo>
                  <a:lnTo>
                    <a:pt x="400" y="649"/>
                  </a:lnTo>
                  <a:lnTo>
                    <a:pt x="362" y="634"/>
                  </a:lnTo>
                  <a:lnTo>
                    <a:pt x="347" y="634"/>
                  </a:lnTo>
                  <a:lnTo>
                    <a:pt x="332" y="627"/>
                  </a:lnTo>
                  <a:lnTo>
                    <a:pt x="294" y="612"/>
                  </a:lnTo>
                  <a:lnTo>
                    <a:pt x="279" y="612"/>
                  </a:lnTo>
                  <a:lnTo>
                    <a:pt x="264" y="604"/>
                  </a:lnTo>
                  <a:lnTo>
                    <a:pt x="234" y="597"/>
                  </a:lnTo>
                  <a:lnTo>
                    <a:pt x="226" y="589"/>
                  </a:lnTo>
                  <a:lnTo>
                    <a:pt x="211" y="581"/>
                  </a:lnTo>
                  <a:lnTo>
                    <a:pt x="181" y="566"/>
                  </a:lnTo>
                  <a:lnTo>
                    <a:pt x="174" y="566"/>
                  </a:lnTo>
                  <a:lnTo>
                    <a:pt x="158" y="559"/>
                  </a:lnTo>
                  <a:lnTo>
                    <a:pt x="136" y="544"/>
                  </a:lnTo>
                  <a:lnTo>
                    <a:pt x="128" y="536"/>
                  </a:lnTo>
                  <a:lnTo>
                    <a:pt x="113" y="536"/>
                  </a:lnTo>
                  <a:lnTo>
                    <a:pt x="98" y="521"/>
                  </a:lnTo>
                  <a:lnTo>
                    <a:pt x="90" y="513"/>
                  </a:lnTo>
                  <a:lnTo>
                    <a:pt x="75" y="506"/>
                  </a:lnTo>
                  <a:lnTo>
                    <a:pt x="60" y="498"/>
                  </a:lnTo>
                  <a:lnTo>
                    <a:pt x="53" y="491"/>
                  </a:lnTo>
                  <a:lnTo>
                    <a:pt x="45" y="483"/>
                  </a:lnTo>
                  <a:lnTo>
                    <a:pt x="37" y="468"/>
                  </a:lnTo>
                  <a:lnTo>
                    <a:pt x="30" y="461"/>
                  </a:lnTo>
                  <a:lnTo>
                    <a:pt x="22" y="453"/>
                  </a:lnTo>
                  <a:lnTo>
                    <a:pt x="15" y="445"/>
                  </a:lnTo>
                  <a:lnTo>
                    <a:pt x="15" y="438"/>
                  </a:lnTo>
                  <a:lnTo>
                    <a:pt x="7" y="430"/>
                  </a:lnTo>
                  <a:lnTo>
                    <a:pt x="0" y="415"/>
                  </a:lnTo>
                  <a:lnTo>
                    <a:pt x="0" y="408"/>
                  </a:lnTo>
                  <a:lnTo>
                    <a:pt x="0" y="400"/>
                  </a:lnTo>
                  <a:lnTo>
                    <a:pt x="0" y="393"/>
                  </a:lnTo>
                  <a:lnTo>
                    <a:pt x="0" y="385"/>
                  </a:lnTo>
                  <a:lnTo>
                    <a:pt x="0" y="377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47"/>
                  </a:lnTo>
                  <a:lnTo>
                    <a:pt x="7" y="340"/>
                  </a:lnTo>
                  <a:lnTo>
                    <a:pt x="15" y="332"/>
                  </a:lnTo>
                  <a:lnTo>
                    <a:pt x="15" y="325"/>
                  </a:lnTo>
                  <a:lnTo>
                    <a:pt x="22" y="309"/>
                  </a:lnTo>
                  <a:lnTo>
                    <a:pt x="30" y="302"/>
                  </a:lnTo>
                  <a:lnTo>
                    <a:pt x="37" y="294"/>
                  </a:lnTo>
                  <a:lnTo>
                    <a:pt x="45" y="287"/>
                  </a:lnTo>
                  <a:lnTo>
                    <a:pt x="53" y="279"/>
                  </a:lnTo>
                  <a:lnTo>
                    <a:pt x="60" y="272"/>
                  </a:lnTo>
                  <a:lnTo>
                    <a:pt x="75" y="257"/>
                  </a:lnTo>
                  <a:lnTo>
                    <a:pt x="90" y="249"/>
                  </a:lnTo>
                  <a:lnTo>
                    <a:pt x="98" y="241"/>
                  </a:lnTo>
                  <a:lnTo>
                    <a:pt x="113" y="234"/>
                  </a:lnTo>
                  <a:lnTo>
                    <a:pt x="128" y="226"/>
                  </a:lnTo>
                  <a:lnTo>
                    <a:pt x="136" y="219"/>
                  </a:lnTo>
                  <a:lnTo>
                    <a:pt x="158" y="211"/>
                  </a:lnTo>
                  <a:lnTo>
                    <a:pt x="174" y="204"/>
                  </a:lnTo>
                  <a:lnTo>
                    <a:pt x="181" y="196"/>
                  </a:lnTo>
                  <a:lnTo>
                    <a:pt x="211" y="181"/>
                  </a:lnTo>
                  <a:lnTo>
                    <a:pt x="226" y="181"/>
                  </a:lnTo>
                  <a:lnTo>
                    <a:pt x="234" y="173"/>
                  </a:lnTo>
                  <a:lnTo>
                    <a:pt x="264" y="158"/>
                  </a:lnTo>
                  <a:lnTo>
                    <a:pt x="279" y="158"/>
                  </a:lnTo>
                  <a:lnTo>
                    <a:pt x="294" y="151"/>
                  </a:lnTo>
                  <a:lnTo>
                    <a:pt x="332" y="143"/>
                  </a:lnTo>
                  <a:lnTo>
                    <a:pt x="347" y="136"/>
                  </a:lnTo>
                  <a:lnTo>
                    <a:pt x="362" y="128"/>
                  </a:lnTo>
                  <a:lnTo>
                    <a:pt x="400" y="121"/>
                  </a:lnTo>
                  <a:lnTo>
                    <a:pt x="415" y="113"/>
                  </a:lnTo>
                  <a:lnTo>
                    <a:pt x="431" y="113"/>
                  </a:lnTo>
                  <a:lnTo>
                    <a:pt x="468" y="98"/>
                  </a:lnTo>
                  <a:lnTo>
                    <a:pt x="491" y="98"/>
                  </a:lnTo>
                  <a:lnTo>
                    <a:pt x="506" y="90"/>
                  </a:lnTo>
                  <a:lnTo>
                    <a:pt x="551" y="83"/>
                  </a:lnTo>
                  <a:lnTo>
                    <a:pt x="567" y="83"/>
                  </a:lnTo>
                  <a:lnTo>
                    <a:pt x="589" y="75"/>
                  </a:lnTo>
                  <a:lnTo>
                    <a:pt x="635" y="68"/>
                  </a:lnTo>
                  <a:lnTo>
                    <a:pt x="650" y="60"/>
                  </a:lnTo>
                  <a:lnTo>
                    <a:pt x="672" y="60"/>
                  </a:lnTo>
                  <a:lnTo>
                    <a:pt x="718" y="53"/>
                  </a:lnTo>
                  <a:lnTo>
                    <a:pt x="740" y="53"/>
                  </a:lnTo>
                  <a:lnTo>
                    <a:pt x="763" y="45"/>
                  </a:lnTo>
                  <a:lnTo>
                    <a:pt x="808" y="37"/>
                  </a:lnTo>
                  <a:lnTo>
                    <a:pt x="831" y="37"/>
                  </a:lnTo>
                  <a:lnTo>
                    <a:pt x="854" y="37"/>
                  </a:lnTo>
                  <a:lnTo>
                    <a:pt x="899" y="30"/>
                  </a:lnTo>
                  <a:lnTo>
                    <a:pt x="929" y="22"/>
                  </a:lnTo>
                  <a:lnTo>
                    <a:pt x="952" y="22"/>
                  </a:lnTo>
                  <a:lnTo>
                    <a:pt x="997" y="22"/>
                  </a:lnTo>
                  <a:lnTo>
                    <a:pt x="1028" y="15"/>
                  </a:lnTo>
                  <a:lnTo>
                    <a:pt x="1050" y="15"/>
                  </a:lnTo>
                  <a:lnTo>
                    <a:pt x="1096" y="7"/>
                  </a:lnTo>
                  <a:lnTo>
                    <a:pt x="1126" y="7"/>
                  </a:lnTo>
                  <a:lnTo>
                    <a:pt x="1149" y="7"/>
                  </a:lnTo>
                  <a:lnTo>
                    <a:pt x="1202" y="7"/>
                  </a:lnTo>
                  <a:lnTo>
                    <a:pt x="1224" y="7"/>
                  </a:lnTo>
                  <a:lnTo>
                    <a:pt x="1254" y="0"/>
                  </a:lnTo>
                  <a:lnTo>
                    <a:pt x="1300" y="0"/>
                  </a:lnTo>
                  <a:lnTo>
                    <a:pt x="1330" y="0"/>
                  </a:lnTo>
                  <a:lnTo>
                    <a:pt x="1353" y="0"/>
                  </a:lnTo>
                  <a:lnTo>
                    <a:pt x="1406" y="0"/>
                  </a:lnTo>
                  <a:lnTo>
                    <a:pt x="1428" y="0"/>
                  </a:lnTo>
                  <a:lnTo>
                    <a:pt x="1459" y="0"/>
                  </a:lnTo>
                  <a:lnTo>
                    <a:pt x="1511" y="0"/>
                  </a:lnTo>
                  <a:lnTo>
                    <a:pt x="1534" y="0"/>
                  </a:lnTo>
                  <a:lnTo>
                    <a:pt x="1564" y="0"/>
                  </a:lnTo>
                  <a:lnTo>
                    <a:pt x="1610" y="0"/>
                  </a:lnTo>
                  <a:lnTo>
                    <a:pt x="1640" y="0"/>
                  </a:lnTo>
                  <a:lnTo>
                    <a:pt x="1663" y="0"/>
                  </a:lnTo>
                  <a:lnTo>
                    <a:pt x="1716" y="0"/>
                  </a:lnTo>
                  <a:lnTo>
                    <a:pt x="1738" y="7"/>
                  </a:lnTo>
                  <a:lnTo>
                    <a:pt x="1769" y="7"/>
                  </a:lnTo>
                  <a:lnTo>
                    <a:pt x="1814" y="7"/>
                  </a:lnTo>
                  <a:lnTo>
                    <a:pt x="1844" y="7"/>
                  </a:lnTo>
                  <a:lnTo>
                    <a:pt x="1867" y="7"/>
                  </a:lnTo>
                  <a:lnTo>
                    <a:pt x="1920" y="15"/>
                  </a:lnTo>
                  <a:lnTo>
                    <a:pt x="1942" y="15"/>
                  </a:lnTo>
                  <a:lnTo>
                    <a:pt x="1965" y="22"/>
                  </a:lnTo>
                  <a:lnTo>
                    <a:pt x="2018" y="22"/>
                  </a:lnTo>
                  <a:lnTo>
                    <a:pt x="2041" y="22"/>
                  </a:lnTo>
                  <a:lnTo>
                    <a:pt x="2063" y="30"/>
                  </a:lnTo>
                  <a:lnTo>
                    <a:pt x="2109" y="37"/>
                  </a:lnTo>
                  <a:lnTo>
                    <a:pt x="2131" y="37"/>
                  </a:lnTo>
                  <a:lnTo>
                    <a:pt x="2154" y="37"/>
                  </a:lnTo>
                  <a:lnTo>
                    <a:pt x="2207" y="45"/>
                  </a:lnTo>
                  <a:lnTo>
                    <a:pt x="2230" y="53"/>
                  </a:lnTo>
                  <a:lnTo>
                    <a:pt x="2245" y="53"/>
                  </a:lnTo>
                  <a:lnTo>
                    <a:pt x="2290" y="60"/>
                  </a:lnTo>
                  <a:lnTo>
                    <a:pt x="2313" y="60"/>
                  </a:lnTo>
                  <a:lnTo>
                    <a:pt x="2335" y="68"/>
                  </a:lnTo>
                  <a:lnTo>
                    <a:pt x="2381" y="75"/>
                  </a:lnTo>
                  <a:lnTo>
                    <a:pt x="2396" y="83"/>
                  </a:lnTo>
                  <a:lnTo>
                    <a:pt x="2419" y="83"/>
                  </a:lnTo>
                  <a:lnTo>
                    <a:pt x="2456" y="90"/>
                  </a:lnTo>
                  <a:lnTo>
                    <a:pt x="2479" y="98"/>
                  </a:lnTo>
                  <a:lnTo>
                    <a:pt x="2494" y="98"/>
                  </a:lnTo>
                  <a:lnTo>
                    <a:pt x="2532" y="113"/>
                  </a:lnTo>
                  <a:lnTo>
                    <a:pt x="2555" y="113"/>
                  </a:lnTo>
                  <a:lnTo>
                    <a:pt x="2570" y="121"/>
                  </a:lnTo>
                  <a:lnTo>
                    <a:pt x="2608" y="128"/>
                  </a:lnTo>
                  <a:lnTo>
                    <a:pt x="2623" y="136"/>
                  </a:lnTo>
                  <a:lnTo>
                    <a:pt x="2638" y="143"/>
                  </a:lnTo>
                  <a:lnTo>
                    <a:pt x="2668" y="151"/>
                  </a:lnTo>
                  <a:lnTo>
                    <a:pt x="2683" y="158"/>
                  </a:lnTo>
                  <a:lnTo>
                    <a:pt x="2698" y="158"/>
                  </a:lnTo>
                  <a:lnTo>
                    <a:pt x="2729" y="173"/>
                  </a:lnTo>
                  <a:lnTo>
                    <a:pt x="2744" y="181"/>
                  </a:lnTo>
                  <a:lnTo>
                    <a:pt x="2759" y="181"/>
                  </a:lnTo>
                  <a:lnTo>
                    <a:pt x="2781" y="196"/>
                  </a:lnTo>
                  <a:lnTo>
                    <a:pt x="2797" y="204"/>
                  </a:lnTo>
                  <a:lnTo>
                    <a:pt x="2804" y="211"/>
                  </a:lnTo>
                  <a:lnTo>
                    <a:pt x="2827" y="219"/>
                  </a:lnTo>
                  <a:lnTo>
                    <a:pt x="2842" y="226"/>
                  </a:lnTo>
                  <a:lnTo>
                    <a:pt x="2849" y="234"/>
                  </a:lnTo>
                  <a:lnTo>
                    <a:pt x="2872" y="241"/>
                  </a:lnTo>
                  <a:lnTo>
                    <a:pt x="2880" y="249"/>
                  </a:lnTo>
                  <a:lnTo>
                    <a:pt x="2887" y="257"/>
                  </a:lnTo>
                  <a:lnTo>
                    <a:pt x="2902" y="272"/>
                  </a:lnTo>
                  <a:lnTo>
                    <a:pt x="2910" y="279"/>
                  </a:lnTo>
                  <a:lnTo>
                    <a:pt x="2918" y="287"/>
                  </a:lnTo>
                  <a:lnTo>
                    <a:pt x="2933" y="294"/>
                  </a:lnTo>
                  <a:lnTo>
                    <a:pt x="2933" y="302"/>
                  </a:lnTo>
                  <a:lnTo>
                    <a:pt x="2940" y="309"/>
                  </a:lnTo>
                  <a:lnTo>
                    <a:pt x="2948" y="325"/>
                  </a:lnTo>
                  <a:lnTo>
                    <a:pt x="2955" y="332"/>
                  </a:lnTo>
                  <a:lnTo>
                    <a:pt x="2955" y="340"/>
                  </a:lnTo>
                  <a:lnTo>
                    <a:pt x="2963" y="347"/>
                  </a:lnTo>
                  <a:lnTo>
                    <a:pt x="2963" y="355"/>
                  </a:lnTo>
                  <a:lnTo>
                    <a:pt x="2963" y="362"/>
                  </a:lnTo>
                  <a:lnTo>
                    <a:pt x="2970" y="377"/>
                  </a:lnTo>
                  <a:lnTo>
                    <a:pt x="2970" y="385"/>
                  </a:lnTo>
                  <a:lnTo>
                    <a:pt x="2970" y="393"/>
                  </a:lnTo>
                  <a:lnTo>
                    <a:pt x="2963" y="400"/>
                  </a:lnTo>
                  <a:lnTo>
                    <a:pt x="2963" y="408"/>
                  </a:lnTo>
                  <a:lnTo>
                    <a:pt x="2963" y="415"/>
                  </a:lnTo>
                  <a:lnTo>
                    <a:pt x="2955" y="430"/>
                  </a:lnTo>
                  <a:lnTo>
                    <a:pt x="2955" y="438"/>
                  </a:lnTo>
                  <a:lnTo>
                    <a:pt x="2948" y="445"/>
                  </a:lnTo>
                  <a:lnTo>
                    <a:pt x="2940" y="453"/>
                  </a:lnTo>
                  <a:lnTo>
                    <a:pt x="2933" y="461"/>
                  </a:lnTo>
                  <a:lnTo>
                    <a:pt x="2933" y="468"/>
                  </a:lnTo>
                  <a:lnTo>
                    <a:pt x="2918" y="483"/>
                  </a:lnTo>
                  <a:lnTo>
                    <a:pt x="2910" y="491"/>
                  </a:lnTo>
                  <a:lnTo>
                    <a:pt x="2902" y="498"/>
                  </a:lnTo>
                  <a:lnTo>
                    <a:pt x="2887" y="506"/>
                  </a:lnTo>
                  <a:lnTo>
                    <a:pt x="2880" y="513"/>
                  </a:lnTo>
                  <a:lnTo>
                    <a:pt x="2872" y="521"/>
                  </a:lnTo>
                  <a:lnTo>
                    <a:pt x="2849" y="536"/>
                  </a:lnTo>
                  <a:lnTo>
                    <a:pt x="2842" y="536"/>
                  </a:lnTo>
                  <a:lnTo>
                    <a:pt x="2827" y="544"/>
                  </a:lnTo>
                  <a:lnTo>
                    <a:pt x="2804" y="559"/>
                  </a:lnTo>
                  <a:lnTo>
                    <a:pt x="2797" y="566"/>
                  </a:lnTo>
                  <a:lnTo>
                    <a:pt x="1481" y="385"/>
                  </a:lnTo>
                  <a:lnTo>
                    <a:pt x="1224" y="763"/>
                  </a:lnTo>
                  <a:close/>
                </a:path>
              </a:pathLst>
            </a:custGeom>
            <a:solidFill>
              <a:srgbClr val="94143a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3720" y="4583160"/>
              <a:ext cx="2495520" cy="971280"/>
            </a:xfrm>
            <a:custGeom>
              <a:avLst/>
              <a:gdLst/>
              <a:ahLst/>
              <a:rect l="l" t="t" r="r" b="b"/>
              <a:pathLst>
                <a:path w="1572" h="612">
                  <a:moveTo>
                    <a:pt x="1572" y="0"/>
                  </a:moveTo>
                  <a:lnTo>
                    <a:pt x="1557" y="0"/>
                  </a:lnTo>
                  <a:lnTo>
                    <a:pt x="1534" y="15"/>
                  </a:lnTo>
                  <a:lnTo>
                    <a:pt x="1519" y="22"/>
                  </a:lnTo>
                  <a:lnTo>
                    <a:pt x="1504" y="30"/>
                  </a:lnTo>
                  <a:lnTo>
                    <a:pt x="1474" y="37"/>
                  </a:lnTo>
                  <a:lnTo>
                    <a:pt x="1459" y="45"/>
                  </a:lnTo>
                  <a:lnTo>
                    <a:pt x="1444" y="45"/>
                  </a:lnTo>
                  <a:lnTo>
                    <a:pt x="1413" y="60"/>
                  </a:lnTo>
                  <a:lnTo>
                    <a:pt x="1398" y="68"/>
                  </a:lnTo>
                  <a:lnTo>
                    <a:pt x="1383" y="68"/>
                  </a:lnTo>
                  <a:lnTo>
                    <a:pt x="1345" y="83"/>
                  </a:lnTo>
                  <a:lnTo>
                    <a:pt x="1330" y="83"/>
                  </a:lnTo>
                  <a:lnTo>
                    <a:pt x="1308" y="90"/>
                  </a:lnTo>
                  <a:lnTo>
                    <a:pt x="1270" y="98"/>
                  </a:lnTo>
                  <a:lnTo>
                    <a:pt x="1255" y="105"/>
                  </a:lnTo>
                  <a:lnTo>
                    <a:pt x="1232" y="105"/>
                  </a:lnTo>
                  <a:lnTo>
                    <a:pt x="1194" y="113"/>
                  </a:lnTo>
                  <a:lnTo>
                    <a:pt x="1171" y="121"/>
                  </a:lnTo>
                  <a:lnTo>
                    <a:pt x="1156" y="121"/>
                  </a:lnTo>
                  <a:lnTo>
                    <a:pt x="1111" y="136"/>
                  </a:lnTo>
                  <a:lnTo>
                    <a:pt x="1088" y="136"/>
                  </a:lnTo>
                  <a:lnTo>
                    <a:pt x="1066" y="143"/>
                  </a:lnTo>
                  <a:lnTo>
                    <a:pt x="1020" y="143"/>
                  </a:lnTo>
                  <a:lnTo>
                    <a:pt x="1005" y="151"/>
                  </a:lnTo>
                  <a:lnTo>
                    <a:pt x="982" y="151"/>
                  </a:lnTo>
                  <a:lnTo>
                    <a:pt x="930" y="158"/>
                  </a:lnTo>
                  <a:lnTo>
                    <a:pt x="907" y="166"/>
                  </a:lnTo>
                  <a:lnTo>
                    <a:pt x="884" y="166"/>
                  </a:lnTo>
                  <a:lnTo>
                    <a:pt x="839" y="173"/>
                  </a:lnTo>
                  <a:lnTo>
                    <a:pt x="816" y="173"/>
                  </a:lnTo>
                  <a:lnTo>
                    <a:pt x="794" y="173"/>
                  </a:lnTo>
                  <a:lnTo>
                    <a:pt x="741" y="181"/>
                  </a:lnTo>
                  <a:lnTo>
                    <a:pt x="718" y="181"/>
                  </a:lnTo>
                  <a:lnTo>
                    <a:pt x="695" y="189"/>
                  </a:lnTo>
                  <a:lnTo>
                    <a:pt x="642" y="189"/>
                  </a:lnTo>
                  <a:lnTo>
                    <a:pt x="620" y="189"/>
                  </a:lnTo>
                  <a:lnTo>
                    <a:pt x="589" y="189"/>
                  </a:lnTo>
                  <a:lnTo>
                    <a:pt x="544" y="196"/>
                  </a:lnTo>
                  <a:lnTo>
                    <a:pt x="514" y="196"/>
                  </a:lnTo>
                  <a:lnTo>
                    <a:pt x="491" y="196"/>
                  </a:lnTo>
                  <a:lnTo>
                    <a:pt x="438" y="196"/>
                  </a:lnTo>
                  <a:lnTo>
                    <a:pt x="416" y="196"/>
                  </a:lnTo>
                  <a:lnTo>
                    <a:pt x="385" y="204"/>
                  </a:lnTo>
                  <a:lnTo>
                    <a:pt x="340" y="204"/>
                  </a:lnTo>
                  <a:lnTo>
                    <a:pt x="310" y="204"/>
                  </a:lnTo>
                  <a:lnTo>
                    <a:pt x="287" y="204"/>
                  </a:lnTo>
                  <a:lnTo>
                    <a:pt x="234" y="204"/>
                  </a:lnTo>
                  <a:lnTo>
                    <a:pt x="204" y="204"/>
                  </a:lnTo>
                  <a:lnTo>
                    <a:pt x="181" y="204"/>
                  </a:lnTo>
                  <a:lnTo>
                    <a:pt x="128" y="204"/>
                  </a:lnTo>
                  <a:lnTo>
                    <a:pt x="106" y="196"/>
                  </a:lnTo>
                  <a:lnTo>
                    <a:pt x="75" y="196"/>
                  </a:lnTo>
                  <a:lnTo>
                    <a:pt x="30" y="196"/>
                  </a:lnTo>
                  <a:lnTo>
                    <a:pt x="0" y="196"/>
                  </a:lnTo>
                  <a:lnTo>
                    <a:pt x="0" y="604"/>
                  </a:lnTo>
                  <a:lnTo>
                    <a:pt x="30" y="604"/>
                  </a:lnTo>
                  <a:lnTo>
                    <a:pt x="75" y="604"/>
                  </a:lnTo>
                  <a:lnTo>
                    <a:pt x="106" y="604"/>
                  </a:lnTo>
                  <a:lnTo>
                    <a:pt x="128" y="612"/>
                  </a:lnTo>
                  <a:lnTo>
                    <a:pt x="181" y="612"/>
                  </a:lnTo>
                  <a:lnTo>
                    <a:pt x="204" y="612"/>
                  </a:lnTo>
                  <a:lnTo>
                    <a:pt x="234" y="612"/>
                  </a:lnTo>
                  <a:lnTo>
                    <a:pt x="287" y="612"/>
                  </a:lnTo>
                  <a:lnTo>
                    <a:pt x="310" y="612"/>
                  </a:lnTo>
                  <a:lnTo>
                    <a:pt x="340" y="612"/>
                  </a:lnTo>
                  <a:lnTo>
                    <a:pt x="385" y="612"/>
                  </a:lnTo>
                  <a:lnTo>
                    <a:pt x="416" y="604"/>
                  </a:lnTo>
                  <a:lnTo>
                    <a:pt x="438" y="604"/>
                  </a:lnTo>
                  <a:lnTo>
                    <a:pt x="491" y="604"/>
                  </a:lnTo>
                  <a:lnTo>
                    <a:pt x="514" y="604"/>
                  </a:lnTo>
                  <a:lnTo>
                    <a:pt x="544" y="604"/>
                  </a:lnTo>
                  <a:lnTo>
                    <a:pt x="589" y="597"/>
                  </a:lnTo>
                  <a:lnTo>
                    <a:pt x="620" y="597"/>
                  </a:lnTo>
                  <a:lnTo>
                    <a:pt x="642" y="597"/>
                  </a:lnTo>
                  <a:lnTo>
                    <a:pt x="695" y="597"/>
                  </a:lnTo>
                  <a:lnTo>
                    <a:pt x="718" y="589"/>
                  </a:lnTo>
                  <a:lnTo>
                    <a:pt x="741" y="589"/>
                  </a:lnTo>
                  <a:lnTo>
                    <a:pt x="794" y="581"/>
                  </a:lnTo>
                  <a:lnTo>
                    <a:pt x="816" y="581"/>
                  </a:lnTo>
                  <a:lnTo>
                    <a:pt x="839" y="581"/>
                  </a:lnTo>
                  <a:lnTo>
                    <a:pt x="884" y="574"/>
                  </a:lnTo>
                  <a:lnTo>
                    <a:pt x="907" y="574"/>
                  </a:lnTo>
                  <a:lnTo>
                    <a:pt x="930" y="566"/>
                  </a:lnTo>
                  <a:lnTo>
                    <a:pt x="982" y="559"/>
                  </a:lnTo>
                  <a:lnTo>
                    <a:pt x="1005" y="559"/>
                  </a:lnTo>
                  <a:lnTo>
                    <a:pt x="1020" y="551"/>
                  </a:lnTo>
                  <a:lnTo>
                    <a:pt x="1066" y="551"/>
                  </a:lnTo>
                  <a:lnTo>
                    <a:pt x="1088" y="544"/>
                  </a:lnTo>
                  <a:lnTo>
                    <a:pt x="1111" y="544"/>
                  </a:lnTo>
                  <a:lnTo>
                    <a:pt x="1156" y="529"/>
                  </a:lnTo>
                  <a:lnTo>
                    <a:pt x="1171" y="529"/>
                  </a:lnTo>
                  <a:lnTo>
                    <a:pt x="1194" y="521"/>
                  </a:lnTo>
                  <a:lnTo>
                    <a:pt x="1232" y="513"/>
                  </a:lnTo>
                  <a:lnTo>
                    <a:pt x="1255" y="513"/>
                  </a:lnTo>
                  <a:lnTo>
                    <a:pt x="1270" y="506"/>
                  </a:lnTo>
                  <a:lnTo>
                    <a:pt x="1308" y="498"/>
                  </a:lnTo>
                  <a:lnTo>
                    <a:pt x="1330" y="491"/>
                  </a:lnTo>
                  <a:lnTo>
                    <a:pt x="1345" y="491"/>
                  </a:lnTo>
                  <a:lnTo>
                    <a:pt x="1383" y="476"/>
                  </a:lnTo>
                  <a:lnTo>
                    <a:pt x="1398" y="476"/>
                  </a:lnTo>
                  <a:lnTo>
                    <a:pt x="1413" y="468"/>
                  </a:lnTo>
                  <a:lnTo>
                    <a:pt x="1444" y="453"/>
                  </a:lnTo>
                  <a:lnTo>
                    <a:pt x="1459" y="453"/>
                  </a:lnTo>
                  <a:lnTo>
                    <a:pt x="1474" y="445"/>
                  </a:lnTo>
                  <a:lnTo>
                    <a:pt x="1504" y="438"/>
                  </a:lnTo>
                  <a:lnTo>
                    <a:pt x="1519" y="430"/>
                  </a:lnTo>
                  <a:lnTo>
                    <a:pt x="1534" y="423"/>
                  </a:lnTo>
                  <a:lnTo>
                    <a:pt x="1557" y="408"/>
                  </a:lnTo>
                  <a:lnTo>
                    <a:pt x="1572" y="408"/>
                  </a:lnTo>
                  <a:lnTo>
                    <a:pt x="1572" y="0"/>
                  </a:lnTo>
                  <a:close/>
                </a:path>
              </a:pathLst>
            </a:custGeom>
            <a:solidFill>
              <a:srgbClr val="ff99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73720" y="4294080"/>
              <a:ext cx="2495520" cy="612720"/>
            </a:xfrm>
            <a:custGeom>
              <a:avLst/>
              <a:gdLst/>
              <a:ahLst/>
              <a:rect l="l" t="t" r="r" b="b"/>
              <a:pathLst>
                <a:path w="1572" h="386">
                  <a:moveTo>
                    <a:pt x="1572" y="182"/>
                  </a:moveTo>
                  <a:lnTo>
                    <a:pt x="1557" y="182"/>
                  </a:lnTo>
                  <a:lnTo>
                    <a:pt x="1534" y="197"/>
                  </a:lnTo>
                  <a:lnTo>
                    <a:pt x="1519" y="204"/>
                  </a:lnTo>
                  <a:lnTo>
                    <a:pt x="1504" y="212"/>
                  </a:lnTo>
                  <a:lnTo>
                    <a:pt x="1474" y="219"/>
                  </a:lnTo>
                  <a:lnTo>
                    <a:pt x="1459" y="227"/>
                  </a:lnTo>
                  <a:lnTo>
                    <a:pt x="1444" y="227"/>
                  </a:lnTo>
                  <a:lnTo>
                    <a:pt x="1413" y="242"/>
                  </a:lnTo>
                  <a:lnTo>
                    <a:pt x="1398" y="250"/>
                  </a:lnTo>
                  <a:lnTo>
                    <a:pt x="1383" y="250"/>
                  </a:lnTo>
                  <a:lnTo>
                    <a:pt x="1345" y="265"/>
                  </a:lnTo>
                  <a:lnTo>
                    <a:pt x="1330" y="265"/>
                  </a:lnTo>
                  <a:lnTo>
                    <a:pt x="1308" y="272"/>
                  </a:lnTo>
                  <a:lnTo>
                    <a:pt x="1270" y="280"/>
                  </a:lnTo>
                  <a:lnTo>
                    <a:pt x="1255" y="287"/>
                  </a:lnTo>
                  <a:lnTo>
                    <a:pt x="1232" y="287"/>
                  </a:lnTo>
                  <a:lnTo>
                    <a:pt x="1194" y="295"/>
                  </a:lnTo>
                  <a:lnTo>
                    <a:pt x="1171" y="303"/>
                  </a:lnTo>
                  <a:lnTo>
                    <a:pt x="1156" y="303"/>
                  </a:lnTo>
                  <a:lnTo>
                    <a:pt x="1111" y="318"/>
                  </a:lnTo>
                  <a:lnTo>
                    <a:pt x="1088" y="318"/>
                  </a:lnTo>
                  <a:lnTo>
                    <a:pt x="1066" y="325"/>
                  </a:lnTo>
                  <a:lnTo>
                    <a:pt x="1020" y="325"/>
                  </a:lnTo>
                  <a:lnTo>
                    <a:pt x="1005" y="333"/>
                  </a:lnTo>
                  <a:lnTo>
                    <a:pt x="982" y="333"/>
                  </a:lnTo>
                  <a:lnTo>
                    <a:pt x="930" y="340"/>
                  </a:lnTo>
                  <a:lnTo>
                    <a:pt x="907" y="348"/>
                  </a:lnTo>
                  <a:lnTo>
                    <a:pt x="884" y="348"/>
                  </a:lnTo>
                  <a:lnTo>
                    <a:pt x="839" y="355"/>
                  </a:lnTo>
                  <a:lnTo>
                    <a:pt x="816" y="355"/>
                  </a:lnTo>
                  <a:lnTo>
                    <a:pt x="794" y="355"/>
                  </a:lnTo>
                  <a:lnTo>
                    <a:pt x="741" y="363"/>
                  </a:lnTo>
                  <a:lnTo>
                    <a:pt x="718" y="363"/>
                  </a:lnTo>
                  <a:lnTo>
                    <a:pt x="695" y="371"/>
                  </a:lnTo>
                  <a:lnTo>
                    <a:pt x="642" y="371"/>
                  </a:lnTo>
                  <a:lnTo>
                    <a:pt x="620" y="371"/>
                  </a:lnTo>
                  <a:lnTo>
                    <a:pt x="589" y="371"/>
                  </a:lnTo>
                  <a:lnTo>
                    <a:pt x="544" y="378"/>
                  </a:lnTo>
                  <a:lnTo>
                    <a:pt x="514" y="378"/>
                  </a:lnTo>
                  <a:lnTo>
                    <a:pt x="491" y="378"/>
                  </a:lnTo>
                  <a:lnTo>
                    <a:pt x="438" y="378"/>
                  </a:lnTo>
                  <a:lnTo>
                    <a:pt x="416" y="378"/>
                  </a:lnTo>
                  <a:lnTo>
                    <a:pt x="385" y="386"/>
                  </a:lnTo>
                  <a:lnTo>
                    <a:pt x="340" y="386"/>
                  </a:lnTo>
                  <a:lnTo>
                    <a:pt x="310" y="386"/>
                  </a:lnTo>
                  <a:lnTo>
                    <a:pt x="287" y="386"/>
                  </a:lnTo>
                  <a:lnTo>
                    <a:pt x="234" y="386"/>
                  </a:lnTo>
                  <a:lnTo>
                    <a:pt x="204" y="386"/>
                  </a:lnTo>
                  <a:lnTo>
                    <a:pt x="181" y="386"/>
                  </a:lnTo>
                  <a:lnTo>
                    <a:pt x="128" y="386"/>
                  </a:lnTo>
                  <a:lnTo>
                    <a:pt x="106" y="378"/>
                  </a:lnTo>
                  <a:lnTo>
                    <a:pt x="75" y="378"/>
                  </a:lnTo>
                  <a:lnTo>
                    <a:pt x="30" y="378"/>
                  </a:lnTo>
                  <a:lnTo>
                    <a:pt x="0" y="378"/>
                  </a:lnTo>
                  <a:lnTo>
                    <a:pt x="257" y="0"/>
                  </a:lnTo>
                  <a:lnTo>
                    <a:pt x="1572" y="182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855720" y="1054080"/>
          <a:ext cx="98424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054080"/>
                    <a:ext cx="9842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029920" y="5661000"/>
            <a:ext cx="34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Bookman Old Style"/>
              </a:rPr>
              <a:t>30% BATTE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0360" y="282888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70% VI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01560" y="1054080"/>
            <a:ext cx="43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EZIOLOGIA DE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FARINGOTONSILL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919080" y="1054080"/>
            <a:ext cx="7354800" cy="5073840"/>
            <a:chOff x="919080" y="1054080"/>
            <a:chExt cx="7354800" cy="5073840"/>
          </a:xfrm>
        </p:grpSpPr>
        <p:sp>
          <p:nvSpPr>
            <p:cNvPr id="175" name=""/>
            <p:cNvSpPr/>
            <p:nvPr/>
          </p:nvSpPr>
          <p:spPr>
            <a:xfrm>
              <a:off x="5310000" y="5666040"/>
              <a:ext cx="2963520" cy="4615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&lt;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9080" y="5666040"/>
              <a:ext cx="4390920" cy="4615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HIV-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10000" y="5220000"/>
              <a:ext cx="2963520" cy="4456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&lt;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19080" y="5220000"/>
              <a:ext cx="4390920" cy="4456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Citomegalovir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10000" y="4773600"/>
              <a:ext cx="29635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&gt;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9080" y="4773600"/>
              <a:ext cx="43909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Epstein-Bar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10000" y="4327920"/>
              <a:ext cx="2963520" cy="4456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&lt;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9080" y="4327920"/>
              <a:ext cx="4390920" cy="4456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Influenza A 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10000" y="3881520"/>
              <a:ext cx="29635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&lt;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19080" y="3881520"/>
              <a:ext cx="43909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Coxackie A 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10000" y="3435120"/>
              <a:ext cx="29635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19080" y="3435120"/>
              <a:ext cx="43909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Parainfluenz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0000" y="2989080"/>
              <a:ext cx="2963520" cy="4456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9080" y="2989080"/>
              <a:ext cx="4390920" cy="4456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Herpes simplex 1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10000" y="2543040"/>
              <a:ext cx="29635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9080" y="2543040"/>
              <a:ext cx="43909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Adenovir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10000" y="2097000"/>
              <a:ext cx="2963520" cy="4456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5-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9080" y="2097000"/>
              <a:ext cx="4390920" cy="4456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Coronavir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000" y="1650600"/>
              <a:ext cx="29635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9080" y="1650600"/>
              <a:ext cx="4390920" cy="446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Rhinovir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10000" y="1054080"/>
              <a:ext cx="2963520" cy="5965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Bookman Old Style"/>
                </a:rPr>
                <a:t>INCIDENZA 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19080" y="1054080"/>
              <a:ext cx="4390920" cy="5965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Bookman Old Style"/>
                </a:rPr>
                <a:t>  </a:t>
              </a:r>
              <a:r>
                <a:rPr b="1" lang="en-US" sz="2400" spc="-1" strike="noStrike">
                  <a:solidFill>
                    <a:srgbClr val="666666"/>
                  </a:solidFill>
                  <a:latin typeface="Bookman Old Style"/>
                </a:rPr>
                <a:t>VIR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9080" y="1054080"/>
              <a:ext cx="735480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9080" y="165060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19080" y="209700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19080" y="254304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9080" y="298908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9080" y="343512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19080" y="388152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9080" y="432792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19080" y="477360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9080" y="522000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9080" y="5666040"/>
              <a:ext cx="73548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9080" y="6127920"/>
              <a:ext cx="735480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9080" y="1054080"/>
              <a:ext cx="0" cy="507384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10000" y="1054080"/>
              <a:ext cx="0" cy="507384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73880" y="1054080"/>
              <a:ext cx="0" cy="507384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901800" y="6286680"/>
            <a:ext cx="2552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 La Rosa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865080" y="1054080"/>
            <a:ext cx="7704360" cy="5450040"/>
            <a:chOff x="865080" y="1054080"/>
            <a:chExt cx="7704360" cy="5450040"/>
          </a:xfrm>
        </p:grpSpPr>
        <p:sp>
          <p:nvSpPr>
            <p:cNvPr id="214" name=""/>
            <p:cNvSpPr/>
            <p:nvPr/>
          </p:nvSpPr>
          <p:spPr>
            <a:xfrm>
              <a:off x="6400080" y="6089040"/>
              <a:ext cx="2169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&gt;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5080" y="6089040"/>
              <a:ext cx="5535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Bookman Old Style"/>
                </a:rPr>
                <a:t>Chlamydia pneumonia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00080" y="5674320"/>
              <a:ext cx="2169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5080" y="5674320"/>
              <a:ext cx="5535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Bookman Old Style"/>
                </a:rPr>
                <a:t>Mycoplasma pneumonia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0080" y="5259240"/>
              <a:ext cx="2169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5080" y="5259240"/>
              <a:ext cx="5535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Aerobi-anaerobi mist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00080" y="4844520"/>
              <a:ext cx="2169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5080" y="4844520"/>
              <a:ext cx="5535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Bookman Old Style"/>
                </a:rPr>
                <a:t>Francisella tularens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00080" y="4429440"/>
              <a:ext cx="2169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5080" y="4429440"/>
              <a:ext cx="5535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Bookman Old Style"/>
                </a:rPr>
                <a:t>Yersinia pest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00080" y="4014360"/>
              <a:ext cx="2169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5080" y="4014360"/>
              <a:ext cx="5535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Bookman Old Style"/>
                </a:rPr>
                <a:t>Yersinia enterocolitic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0080" y="3599640"/>
              <a:ext cx="2169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5080" y="3599640"/>
              <a:ext cx="5535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Bookman Old Style"/>
                </a:rPr>
                <a:t>Treponema pallid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080" y="3184920"/>
              <a:ext cx="2169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5080" y="3184920"/>
              <a:ext cx="5535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Bookman Old Style"/>
                </a:rPr>
                <a:t>Neisseria gonorrhoea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00080" y="2770200"/>
              <a:ext cx="2169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5080" y="2770200"/>
              <a:ext cx="5535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000000"/>
                  </a:solidFill>
                  <a:latin typeface="Bookman Old Style"/>
                </a:rPr>
                <a:t>Arcanobacterium haemolytic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00080" y="2355120"/>
              <a:ext cx="2169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5080" y="2355120"/>
              <a:ext cx="5535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Bookman Old Style"/>
                </a:rPr>
                <a:t>Corynebacterium diphteria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0080" y="1940400"/>
              <a:ext cx="2169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5-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5080" y="1940400"/>
              <a:ext cx="5535000" cy="4143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Bookman Old Style"/>
                </a:rPr>
                <a:t>Streptococchi ß-emol. (gr.C e G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00080" y="1525320"/>
              <a:ext cx="2169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15-3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5080" y="1525320"/>
              <a:ext cx="5535000" cy="4147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4143a"/>
                  </a:solidFill>
                  <a:latin typeface="Bookman Old Style"/>
                </a:rPr>
                <a:t>   </a:t>
              </a:r>
              <a:r>
                <a:rPr b="1" lang="en-US" sz="2200" spc="-1" strike="noStrike">
                  <a:solidFill>
                    <a:srgbClr val="94143a"/>
                  </a:solidFill>
                  <a:latin typeface="Bookman Old Style"/>
                </a:rPr>
                <a:t>Streptococco ß emolitico  gr. 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0080" y="1054080"/>
              <a:ext cx="2169000" cy="4712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66"/>
                  </a:solidFill>
                  <a:latin typeface="Bookman Old Style"/>
                </a:rPr>
                <a:t>INCIDENZA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5080" y="1054080"/>
              <a:ext cx="5535000" cy="4712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en-US" sz="2000" spc="-1" strike="noStrike">
                  <a:solidFill>
                    <a:srgbClr val="666666"/>
                  </a:solidFill>
                  <a:latin typeface="Bookman Old Style"/>
                </a:rPr>
                <a:t>BATTE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5080" y="1054080"/>
              <a:ext cx="770436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5080" y="152532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5080" y="194040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5080" y="235512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5080" y="277020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5080" y="318492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5080" y="359964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5080" y="401436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65080" y="442944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5080" y="484452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5080" y="525924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5080" y="567432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5080" y="6089040"/>
              <a:ext cx="770436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5080" y="6504120"/>
              <a:ext cx="770436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5080" y="1054080"/>
              <a:ext cx="0" cy="545004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00080" y="1054080"/>
              <a:ext cx="0" cy="545004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69440" y="1054080"/>
              <a:ext cx="0" cy="545004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854760" y="1450800"/>
            <a:ext cx="1150920" cy="1030320"/>
          </a:xfrm>
          <a:prstGeom prst="ellipse">
            <a:avLst/>
          </a:prstGeom>
          <a:noFill/>
          <a:ln w="57240">
            <a:solidFill>
              <a:srgbClr val="94143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6520" y="1054080"/>
            <a:ext cx="7419960" cy="825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Streptococco </a:t>
            </a:r>
            <a:r>
              <a:rPr b="1" lang="en-US" sz="2400" spc="-1" strike="noStrike">
                <a:solidFill>
                  <a:srgbClr val="94143a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-emolitico di gruppo A (SBEA) </a:t>
            </a:r>
            <a:br>
              <a:rPr sz="2400"/>
            </a:b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FARINGOTONSI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1680" y="2111400"/>
            <a:ext cx="853272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Bambini 3 – 15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ontatto diretto (la promiscuità favoris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la selezione di ceppi virul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ontagio indiretto (cibi, acqua, polvere, vesti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Portatori asintomatici (anche il 15-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2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Risposta anticorpale dopo 4-8 settim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 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(anticorpi opsonizzanti</a:t>
            </a:r>
            <a:r>
              <a:rPr b="0" lang="it-IT" sz="2400" spc="-1" strike="noStrike">
                <a:solidFill>
                  <a:srgbClr val="94143a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anti-M</a:t>
            </a:r>
            <a:r>
              <a:rPr b="0" lang="it-IT" sz="2400" spc="-1" strike="noStrike">
                <a:solidFill>
                  <a:srgbClr val="94143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4800" y="6008760"/>
            <a:ext cx="2230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 La Rosa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87400" y="1054080"/>
            <a:ext cx="7378560" cy="82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94143a">
                <a:alpha val="50000"/>
              </a:srgbClr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Fattori di risch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8840" y="2521080"/>
            <a:ext cx="8496360" cy="29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66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6666"/>
                </a:solidFill>
                <a:latin typeface="Bookman Old Style"/>
              </a:rPr>
              <a:t>Basso livello socio-econo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66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6666"/>
                </a:solidFill>
                <a:latin typeface="Bookman Old Style"/>
              </a:rPr>
              <a:t>Affollamento ambiente domest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66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6666"/>
                </a:solidFill>
                <a:latin typeface="Bookman Old Style"/>
              </a:rPr>
              <a:t>Scolarit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66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666666"/>
                </a:solidFill>
                <a:latin typeface="Bookman Old Style"/>
              </a:rPr>
              <a:t>Indoor pollution </a:t>
            </a:r>
            <a:r>
              <a:rPr b="1" lang="it-IT" sz="3000" spc="-1" strike="noStrike">
                <a:solidFill>
                  <a:srgbClr val="666666"/>
                </a:solidFill>
                <a:latin typeface="Bookman Old Style"/>
              </a:rPr>
              <a:t>(fumo di tabacco-stuf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6666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6666"/>
                </a:solidFill>
                <a:latin typeface="Bookman Old Style"/>
              </a:rPr>
              <a:t>Stagi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4800" y="6008760"/>
            <a:ext cx="2230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 La Rosa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6240" y="1054080"/>
            <a:ext cx="73994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Manifestazioni cliniche</a:t>
            </a:r>
            <a:br>
              <a:rPr sz="2400"/>
            </a:b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della faringotonsillite streptococc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5840" y="2173320"/>
            <a:ext cx="73216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Incubazione 2-4 gior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Faringodi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Febbre, malessere, cef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Nausea, vomito, dolori addomi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Iperemia, edema ed iperplasia linfoide della parete posteriore del fari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Ipertrofia ed iperemia tonsillare con essudato bianco-grigias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Linfoadenite (retroangolomandibol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800" y="6008760"/>
            <a:ext cx="2230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 La Rosa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ntestino%203" descr=""/>
          <p:cNvPicPr/>
          <p:nvPr/>
        </p:nvPicPr>
        <p:blipFill>
          <a:blip r:embed="rId1"/>
          <a:stretch/>
        </p:blipFill>
        <p:spPr>
          <a:xfrm>
            <a:off x="76320" y="5724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762120" y="343080"/>
            <a:ext cx="7637400" cy="5143320"/>
            <a:chOff x="762120" y="343080"/>
            <a:chExt cx="7637400" cy="5143320"/>
          </a:xfrm>
        </p:grpSpPr>
        <p:pic>
          <p:nvPicPr>
            <p:cNvPr id="59" name="microorganismo6" descr=""/>
            <p:cNvPicPr/>
            <p:nvPr/>
          </p:nvPicPr>
          <p:blipFill>
            <a:blip r:embed="rId2"/>
            <a:stretch/>
          </p:blipFill>
          <p:spPr>
            <a:xfrm>
              <a:off x="4343400" y="838080"/>
              <a:ext cx="16034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microorganismo6" descr=""/>
            <p:cNvPicPr/>
            <p:nvPr/>
          </p:nvPicPr>
          <p:blipFill>
            <a:blip r:embed="rId3"/>
            <a:stretch/>
          </p:blipFill>
          <p:spPr>
            <a:xfrm>
              <a:off x="6502320" y="343080"/>
              <a:ext cx="189720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microorganismo6" descr=""/>
            <p:cNvPicPr/>
            <p:nvPr/>
          </p:nvPicPr>
          <p:blipFill>
            <a:blip r:embed="rId4"/>
            <a:stretch/>
          </p:blipFill>
          <p:spPr>
            <a:xfrm>
              <a:off x="762120" y="2414520"/>
              <a:ext cx="4368600" cy="307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TONSILLITE" descr=""/>
          <p:cNvPicPr/>
          <p:nvPr/>
        </p:nvPicPr>
        <p:blipFill>
          <a:blip r:embed="rId5"/>
          <a:stretch/>
        </p:blipFill>
        <p:spPr>
          <a:xfrm>
            <a:off x="3124080" y="1600200"/>
            <a:ext cx="5181840" cy="4546440"/>
          </a:xfrm>
          <a:prstGeom prst="rect">
            <a:avLst/>
          </a:prstGeom>
          <a:ln w="57240">
            <a:solidFill>
              <a:srgbClr val="94143a">
                <a:alpha val="50000"/>
              </a:srgbClr>
            </a:solidFill>
            <a:miter/>
          </a:ln>
        </p:spPr>
      </p:pic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87400" y="3097080"/>
            <a:ext cx="7378560" cy="1129320"/>
          </a:xfrm>
          <a:prstGeom prst="rect">
            <a:avLst/>
          </a:prstGeom>
          <a:noFill/>
          <a:ln w="2844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94143a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La diagnosi clinic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non è uno strumento valid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6000" y="1054440"/>
            <a:ext cx="7399440" cy="6116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 Antiqua"/>
              </a:rPr>
              <a:t>Faringotonsillite streptococcic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6016320"/>
            <a:ext cx="5189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Am Academy of Pediatrics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777960" y="1054080"/>
            <a:ext cx="7596000" cy="5388120"/>
            <a:chOff x="777960" y="1054080"/>
            <a:chExt cx="7596000" cy="5388120"/>
          </a:xfrm>
        </p:grpSpPr>
        <p:sp>
          <p:nvSpPr>
            <p:cNvPr id="271" name=""/>
            <p:cNvSpPr/>
            <p:nvPr/>
          </p:nvSpPr>
          <p:spPr>
            <a:xfrm>
              <a:off x="6565320" y="612504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56680" y="612504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7960" y="612504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Mialg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65320" y="580824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56680" y="580824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7960" y="580824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Secrezione nas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5320" y="5491080"/>
              <a:ext cx="180828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56680" y="5491080"/>
              <a:ext cx="180864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/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7960" y="5491080"/>
              <a:ext cx="397872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4143a"/>
                  </a:solidFill>
                  <a:latin typeface="Bookman Old Style"/>
                </a:rPr>
                <a:t>Laringite ipoglot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65320" y="517428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56680" y="517428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/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960" y="517428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Stomatite/af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65320" y="485748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56680" y="485748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7960" y="485748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To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65320" y="454032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56680" y="454032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7960" y="454032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Congiuntiv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65320" y="4223160"/>
              <a:ext cx="180828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56680" y="4223160"/>
              <a:ext cx="180864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960" y="4223160"/>
              <a:ext cx="397872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Esan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5320" y="390636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56680" y="390636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7960" y="390636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4143a"/>
                  </a:solidFill>
                  <a:latin typeface="Bookman Old Style"/>
                </a:rPr>
                <a:t>Tumefazione e dolenzia linfonodi cervica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65320" y="358956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56680" y="358956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7960" y="358956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Essudato purulento tonsill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65320" y="327276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56680" y="327276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960" y="327276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4143a"/>
                  </a:solidFill>
                  <a:latin typeface="Bookman Old Style"/>
                </a:rPr>
                <a:t>Iperemia e petecchie faringotonsilla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65320" y="2955600"/>
              <a:ext cx="180828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56680" y="2955600"/>
              <a:ext cx="180864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7960" y="2955600"/>
              <a:ext cx="397872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Nausea, vomito, dolori addomina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65320" y="263844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56680" y="263844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7960" y="263844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Cefalea (in bambini grand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65320" y="232164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56680" y="232164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7960" y="232164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4143a"/>
                  </a:solidFill>
                  <a:latin typeface="Bookman Old Style"/>
                </a:rPr>
                <a:t>Faringodin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65320" y="200484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56680" y="200484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7960" y="200484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Ugola arrossata e tumefat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65320" y="1687680"/>
              <a:ext cx="180828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6680" y="1687680"/>
              <a:ext cx="180864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7960" y="1687680"/>
              <a:ext cx="3978720" cy="31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94143a"/>
                  </a:solidFill>
                  <a:latin typeface="Bookman Old Style"/>
                </a:rPr>
                <a:t>Iperpires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65320" y="137088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56680" y="137088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++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960" y="137088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4143a"/>
                  </a:solidFill>
                  <a:latin typeface="Bookman Old Style"/>
                </a:rPr>
                <a:t>Esordio improvvi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65320" y="1054080"/>
              <a:ext cx="180828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6666"/>
                  </a:solidFill>
                  <a:latin typeface="Bookman Old Style"/>
                </a:rPr>
                <a:t>FT Vir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56680" y="1054080"/>
              <a:ext cx="180864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6666"/>
                  </a:solidFill>
                  <a:latin typeface="Bookman Old Style"/>
                </a:rPr>
                <a:t>FT da SB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7960" y="1054080"/>
              <a:ext cx="3978720" cy="316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6666"/>
                  </a:solidFill>
                  <a:latin typeface="Bookman Old Style"/>
                </a:rPr>
                <a:t>SEGNI E SINTO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960" y="1054080"/>
              <a:ext cx="7596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7960" y="137088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7960" y="168768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7960" y="200484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7960" y="232164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960" y="263844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7960" y="295560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7960" y="327276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7960" y="358956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7960" y="390636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7960" y="422316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7960" y="454032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7960" y="485748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7960" y="517428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7960" y="549108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7960" y="580824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960" y="6125040"/>
              <a:ext cx="7596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7960" y="6442200"/>
              <a:ext cx="7596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960" y="1054080"/>
              <a:ext cx="0" cy="53881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56680" y="1054080"/>
              <a:ext cx="0" cy="5388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65320" y="1054080"/>
              <a:ext cx="0" cy="5388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73960" y="1054080"/>
              <a:ext cx="0" cy="53881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866160" y="6505560"/>
            <a:ext cx="1407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en-US" sz="1200" spc="-1" strike="noStrike">
                <a:solidFill>
                  <a:srgbClr val="666666"/>
                </a:solidFill>
                <a:latin typeface="Bookman Old Style"/>
              </a:rPr>
              <a:t> Principi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29280" y="1316160"/>
            <a:ext cx="1041480" cy="3247920"/>
          </a:xfrm>
          <a:prstGeom prst="ellipse">
            <a:avLst/>
          </a:prstGeom>
          <a:noFill/>
          <a:ln w="57240">
            <a:solidFill>
              <a:srgbClr val="94143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020720" y="4538520"/>
            <a:ext cx="893880" cy="1889280"/>
          </a:xfrm>
          <a:prstGeom prst="ellipse">
            <a:avLst/>
          </a:prstGeom>
          <a:noFill/>
          <a:ln w="38160">
            <a:solidFill>
              <a:srgbClr val="94143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30240" y="1298520"/>
            <a:ext cx="729288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4143a"/>
                </a:solidFill>
                <a:latin typeface="Bookman Old Style"/>
              </a:rPr>
              <a:t>Hayes CS </a:t>
            </a:r>
            <a:r>
              <a:rPr b="1" i="1" lang="it-IT" sz="3200" spc="-1" strike="noStrike">
                <a:solidFill>
                  <a:srgbClr val="94143a"/>
                </a:solidFill>
                <a:latin typeface="Bookman Old Style"/>
              </a:rPr>
              <a:t>et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94143a"/>
                </a:solidFill>
                <a:latin typeface="Bookman Old Style"/>
              </a:rPr>
              <a:t> “</a:t>
            </a:r>
            <a:r>
              <a:rPr b="1" i="1" lang="it-IT" sz="3200" spc="-1" strike="noStrike">
                <a:solidFill>
                  <a:srgbClr val="94143a"/>
                </a:solidFill>
                <a:latin typeface="Bookman Old Style"/>
              </a:rPr>
              <a:t>Manageme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94143a"/>
                </a:solidFill>
                <a:latin typeface="Bookman Old Style"/>
              </a:rPr>
              <a:t>Group-A beta-haemolytic streptococcal pharyngit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Am Fam Physician 63; 1557-64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804960" y="1655640"/>
            <a:ext cx="754380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Comic Sans MS"/>
              </a:rPr>
              <a:t>…</a:t>
            </a:r>
            <a:r>
              <a:rPr b="1" lang="en-US" sz="2200" spc="-1" strike="noStrike">
                <a:solidFill>
                  <a:srgbClr val="94143a"/>
                </a:solidFill>
                <a:latin typeface="Comic Sans MS"/>
              </a:rPr>
              <a:t>.I MEDICI CHE SI AFFIDANO ESCLUSIVAME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Comic Sans MS"/>
              </a:rPr>
              <a:t>ALL’IMPRESSIONE CLIN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Comic Sans MS"/>
              </a:rPr>
              <a:t>TENDONO A TRATTARE IN EC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Comic Sans MS"/>
              </a:rPr>
              <a:t>O IN DIFETTO I LORO PAZIENT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Comic Sans MS"/>
              </a:rPr>
              <a:t>QUESTO SI VERIF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Comic Sans MS"/>
              </a:rPr>
              <a:t>DA UN LATO PER PAURA DI  “PERDERE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Comic Sans MS"/>
              </a:rPr>
              <a:t>UN’INFEZIONE CHE PUO’ COMPLICARSI, DALL’ALTRO PERCHÉ TENDO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Comic Sans MS"/>
              </a:rPr>
              <a:t>A SOTTOVALUTARE IL PROBLEMA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880920" y="3059280"/>
            <a:ext cx="7390080" cy="1647000"/>
          </a:xfrm>
          <a:prstGeom prst="rect">
            <a:avLst/>
          </a:prstGeom>
          <a:noFill/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2. La diagnosi meri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la dimostrazion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dello streptococco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80920" y="1053360"/>
            <a:ext cx="739152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35080" y="6105600"/>
            <a:ext cx="5081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 Antiqua"/>
              </a:rPr>
              <a:t>Am Academy of Pediatrics</a:t>
            </a:r>
            <a:r>
              <a:rPr b="0" lang="it-IT" sz="2000" spc="-1" strike="noStrike">
                <a:solidFill>
                  <a:srgbClr val="666666"/>
                </a:solidFill>
                <a:latin typeface="Book Antiqua"/>
              </a:rPr>
              <a:t>,</a:t>
            </a:r>
            <a:r>
              <a:rPr b="1" lang="it-IT" sz="2000" spc="-1" strike="noStrike">
                <a:solidFill>
                  <a:srgbClr val="666666"/>
                </a:solidFill>
                <a:latin typeface="Book Antiqua"/>
              </a:rPr>
              <a:t>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1054080"/>
            <a:ext cx="780912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28496" dir="3825519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Diagnosi di FT acuta da SB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23720" y="2023560"/>
            <a:ext cx="8305920" cy="3356280"/>
          </a:xfrm>
          <a:prstGeom prst="rect">
            <a:avLst/>
          </a:prstGeom>
          <a:noFill/>
          <a:ln w="1260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Il complesso dei segni e sinto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non consente, nella maggioranz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dei casi, una diagnosi eziologic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L’obbiettivo delle indagi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di laboratorio è quello di accert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la presenza dello SB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0040" y="5886360"/>
            <a:ext cx="819468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6666"/>
                </a:solidFill>
                <a:latin typeface="Bookman Old Style"/>
              </a:rPr>
              <a:t>Hayes CS </a:t>
            </a:r>
            <a:r>
              <a:rPr b="1" i="1" lang="it-IT" sz="1400" spc="-1" strike="noStrike">
                <a:solidFill>
                  <a:srgbClr val="666666"/>
                </a:solidFill>
                <a:latin typeface="Bookman Old Style"/>
              </a:rPr>
              <a:t>et al</a:t>
            </a:r>
            <a:r>
              <a:rPr b="1" lang="it-IT" sz="1400" spc="-1" strike="noStrike">
                <a:solidFill>
                  <a:srgbClr val="666666"/>
                </a:solidFill>
                <a:latin typeface="Bookman Old Style"/>
              </a:rPr>
              <a:t> “</a:t>
            </a:r>
            <a:r>
              <a:rPr b="1" i="1" lang="it-IT" sz="1400" spc="-1" strike="noStrike">
                <a:solidFill>
                  <a:srgbClr val="666666"/>
                </a:solidFill>
                <a:latin typeface="Bookman Old Style"/>
              </a:rPr>
              <a:t>Management of Group-A beta-haemolytic streptococcal pharyngitis”</a:t>
            </a:r>
            <a:br>
              <a:rPr sz="1400"/>
            </a:br>
            <a:r>
              <a:rPr b="1" lang="it-IT" sz="1400" spc="-1" strike="noStrike">
                <a:solidFill>
                  <a:srgbClr val="666666"/>
                </a:solidFill>
                <a:latin typeface="Bookman Old Style"/>
              </a:rPr>
              <a:t>Am Fam Physician 63; 1557-64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rretta%20esecuzione%20di%20un%20tampone%20faringeo" descr=""/>
          <p:cNvPicPr/>
          <p:nvPr/>
        </p:nvPicPr>
        <p:blipFill>
          <a:blip r:embed="rId1"/>
          <a:stretch/>
        </p:blipFill>
        <p:spPr>
          <a:xfrm>
            <a:off x="2467080" y="2271600"/>
            <a:ext cx="4219560" cy="4446720"/>
          </a:xfrm>
          <a:prstGeom prst="rect">
            <a:avLst/>
          </a:prstGeom>
          <a:ln w="25560">
            <a:solidFill>
              <a:srgbClr val="94143a"/>
            </a:solidFill>
            <a:miter/>
          </a:ln>
        </p:spPr>
      </p:pic>
      <p:sp>
        <p:nvSpPr>
          <p:cNvPr id="356" name=""/>
          <p:cNvSpPr/>
          <p:nvPr/>
        </p:nvSpPr>
        <p:spPr>
          <a:xfrm>
            <a:off x="690480" y="1053720"/>
            <a:ext cx="7772400" cy="10076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: </a:t>
            </a:r>
            <a:br>
              <a:rPr sz="3000"/>
            </a:b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tampone faringe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054080"/>
            <a:ext cx="7772400" cy="10076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: </a:t>
            </a:r>
            <a:br>
              <a:rPr sz="3000"/>
            </a:b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tampone faringeo CLASS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4160" y="2916360"/>
            <a:ext cx="866772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10% di falsi neg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Una coltura negativa esclude la necessità di una terap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Incubazione sino a 48 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Sensibilità ad eritromic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7120" y="6200640"/>
            <a:ext cx="2036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en-US" sz="1800" spc="-1" strike="noStrike">
                <a:solidFill>
                  <a:srgbClr val="666666"/>
                </a:solidFill>
                <a:latin typeface="Bookman Old Style"/>
              </a:rPr>
              <a:t> Marone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rretta%20esecuzione%20di%20un%20tampone%20faringeo" descr=""/>
          <p:cNvPicPr/>
          <p:nvPr/>
        </p:nvPicPr>
        <p:blipFill>
          <a:blip r:embed="rId1"/>
          <a:stretch/>
        </p:blipFill>
        <p:spPr>
          <a:xfrm>
            <a:off x="2335320" y="1492200"/>
            <a:ext cx="4483080" cy="4724280"/>
          </a:xfrm>
          <a:prstGeom prst="rect">
            <a:avLst/>
          </a:prstGeom>
          <a:ln w="25560">
            <a:solidFill>
              <a:srgbClr val="94143a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28200" y="2878200"/>
            <a:ext cx="7896600" cy="164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4143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Strofinare il tampone su entram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le tonsille o fosse tonsillari,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orofaringe e nasofaringe posterio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123480" y="2004480"/>
            <a:ext cx="8845560" cy="372780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29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Bookman Old Style"/>
              </a:rPr>
              <a:t>VANTAGGI DEI TEST RAP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20000"/>
              </a:lnSpc>
              <a:spcBef>
                <a:spcPts val="601"/>
              </a:spcBef>
              <a:buClr>
                <a:srgbClr val="9414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rapidità di inquadramento diagno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20000"/>
              </a:lnSpc>
              <a:spcBef>
                <a:spcPts val="601"/>
              </a:spcBef>
              <a:buClr>
                <a:srgbClr val="9414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risparmio di esami di laboratorio terapia mi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20000"/>
              </a:lnSpc>
              <a:spcBef>
                <a:spcPts val="601"/>
              </a:spcBef>
              <a:buClr>
                <a:srgbClr val="9414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riduzione dei disagi ai famigliari dei piccoli pazi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20000"/>
              </a:lnSpc>
              <a:spcBef>
                <a:spcPts val="601"/>
              </a:spcBef>
              <a:buClr>
                <a:srgbClr val="9414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qualificazione dell’ambulatorio del pedia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20000"/>
              </a:lnSpc>
              <a:spcBef>
                <a:spcPts val="601"/>
              </a:spcBef>
              <a:buClr>
                <a:srgbClr val="94143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risparmio di risorse econom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0920" y="1049400"/>
            <a:ext cx="739152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Faringotonsilliti acute diagnosticate nel triennio 1994-1996 (800 assistiti/anno): </a:t>
            </a:r>
            <a:br>
              <a:rPr sz="2400"/>
            </a:b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dati di un Pediatra di fami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9080" y="2682720"/>
          <a:ext cx="7315200" cy="2971800"/>
        </p:xfrm>
        <a:graphic>
          <a:graphicData uri="http://schemas.openxmlformats.org/drawingml/2006/table">
            <a:tbl>
              <a:tblPr/>
              <a:tblGrid>
                <a:gridCol w="4419720"/>
                <a:gridCol w="2895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  </a:t>
                      </a:r>
                      <a:r>
                        <a:rPr b="0" lang="it-IT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Nr. Bambini affet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5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Totale episo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6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  </a:t>
                      </a:r>
                      <a:r>
                        <a:rPr b="0" lang="it-IT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Nr. episodi/bambi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1,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Visite totali x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8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  </a:t>
                      </a:r>
                      <a:r>
                        <a:rPr b="0" lang="it-IT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Nr. Visite/episo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4143a"/>
                          </a:solidFill>
                          <a:latin typeface="Arial Rounded MT Bold"/>
                        </a:rPr>
                        <a:t>1,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004040" y="6089760"/>
            <a:ext cx="2006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 Brivio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461880" y="1650960"/>
            <a:ext cx="8229600" cy="4079880"/>
            <a:chOff x="461880" y="1650960"/>
            <a:chExt cx="8229600" cy="4079880"/>
          </a:xfrm>
        </p:grpSpPr>
        <p:sp>
          <p:nvSpPr>
            <p:cNvPr id="364" name=""/>
            <p:cNvSpPr/>
            <p:nvPr/>
          </p:nvSpPr>
          <p:spPr>
            <a:xfrm>
              <a:off x="461880" y="5359320"/>
              <a:ext cx="8229600" cy="37152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666666"/>
                  </a:solidFill>
                  <a:latin typeface="Bookman Old Style"/>
                </a:rPr>
                <a:t>da:</a:t>
              </a:r>
              <a:r>
                <a:rPr b="0" lang="it-IT" sz="1600" spc="-1" strike="noStrike">
                  <a:solidFill>
                    <a:srgbClr val="666666"/>
                  </a:solidFill>
                  <a:latin typeface="Bookman Old Style"/>
                </a:rPr>
                <a:t> </a:t>
              </a:r>
              <a:r>
                <a:rPr b="1" lang="it-IT" sz="1600" spc="-1" strike="noStrike">
                  <a:solidFill>
                    <a:srgbClr val="666666"/>
                  </a:solidFill>
                  <a:latin typeface="Bookman Old Style"/>
                </a:rPr>
                <a:t>Facklam 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72160" y="4789440"/>
              <a:ext cx="1219320" cy="5698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76880" y="4789440"/>
              <a:ext cx="1295280" cy="5698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89-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81600" y="4789440"/>
              <a:ext cx="1295280" cy="5698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78-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2960" y="4789440"/>
              <a:ext cx="2438640" cy="5698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Immuno-ot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1880" y="4789440"/>
              <a:ext cx="1981080" cy="56988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OIA M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72160" y="4208400"/>
              <a:ext cx="121932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76880" y="4208400"/>
              <a:ext cx="129528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94-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81600" y="4208400"/>
              <a:ext cx="129528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84-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42960" y="4208400"/>
              <a:ext cx="243864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Agglutin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1880" y="4208400"/>
              <a:ext cx="198108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94143a"/>
                  </a:solidFill>
                  <a:latin typeface="Bookman Old Style"/>
                </a:rPr>
                <a:t>Directi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72160" y="3627360"/>
              <a:ext cx="121932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76880" y="3627360"/>
              <a:ext cx="129528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90-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81600" y="3627360"/>
              <a:ext cx="129528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69-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2960" y="3627360"/>
              <a:ext cx="243864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94143a"/>
                  </a:solidFill>
                  <a:latin typeface="Bookman Old Style"/>
                </a:rPr>
                <a:t>Immuino-enzima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1880" y="3627360"/>
              <a:ext cx="198108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Test Pack P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72160" y="3046320"/>
              <a:ext cx="121932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76880" y="3046320"/>
              <a:ext cx="129528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81600" y="3046320"/>
              <a:ext cx="129528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55-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42960" y="3046320"/>
              <a:ext cx="243864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4143a"/>
                  </a:solidFill>
                  <a:latin typeface="Bookman Old Style"/>
                </a:rPr>
                <a:t>Immuno-enzima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1880" y="3046320"/>
              <a:ext cx="1981080" cy="5810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94143a"/>
                  </a:solidFill>
                  <a:latin typeface="Bookman Old Style"/>
                </a:rPr>
                <a:t>Icon F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72160" y="2346120"/>
              <a:ext cx="1219320" cy="7002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STUDI PUBBLICA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76880" y="2346120"/>
              <a:ext cx="1295280" cy="7002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SPECIFICITÀ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81600" y="2346120"/>
              <a:ext cx="1295280" cy="7002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SENSIBILITÀ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42960" y="2346120"/>
              <a:ext cx="2438640" cy="7002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METOD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1880" y="2346120"/>
              <a:ext cx="1981080" cy="7002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1880" y="1650960"/>
              <a:ext cx="8229600" cy="6951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66"/>
                  </a:solidFill>
                  <a:latin typeface="Bookman Old Style"/>
                </a:rPr>
                <a:t>SENSIBILITA’ E SPECIFICITA’ DI 4 TEST DI DIAGNOSI RAP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66"/>
                  </a:solidFill>
                  <a:latin typeface="Bookman Old Style"/>
                </a:rPr>
                <a:t>PER GLI ANTIGENI DI SBEA COME DAI DATI DELLA LETTERA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1880" y="1650960"/>
              <a:ext cx="822960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1880" y="2346120"/>
              <a:ext cx="82296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1880" y="3046320"/>
              <a:ext cx="82296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1880" y="5359320"/>
              <a:ext cx="8229600" cy="0"/>
            </a:xfrm>
            <a:prstGeom prst="line">
              <a:avLst/>
            </a:prstGeom>
            <a:ln w="1260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1880" y="5730840"/>
              <a:ext cx="822960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1880" y="5359320"/>
              <a:ext cx="0" cy="37152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691480" y="5359320"/>
              <a:ext cx="0" cy="37152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1880" y="2346120"/>
              <a:ext cx="0" cy="3013200"/>
            </a:xfrm>
            <a:prstGeom prst="line">
              <a:avLst/>
            </a:prstGeom>
            <a:ln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1880" y="1650960"/>
              <a:ext cx="0" cy="69516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91480" y="2346120"/>
              <a:ext cx="0" cy="3013200"/>
            </a:xfrm>
            <a:prstGeom prst="line">
              <a:avLst/>
            </a:prstGeom>
            <a:ln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91480" y="1650960"/>
              <a:ext cx="0" cy="69516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orretta%20esecuzione%20di%20un%20tampone%20faringeo" descr=""/>
          <p:cNvPicPr/>
          <p:nvPr/>
        </p:nvPicPr>
        <p:blipFill>
          <a:blip r:embed="rId1"/>
          <a:stretch/>
        </p:blipFill>
        <p:spPr>
          <a:xfrm>
            <a:off x="2346480" y="2287440"/>
            <a:ext cx="4458960" cy="4372200"/>
          </a:xfrm>
          <a:prstGeom prst="rect">
            <a:avLst/>
          </a:prstGeom>
          <a:ln w="25560">
            <a:solidFill>
              <a:srgbClr val="666666"/>
            </a:solidFill>
            <a:miter/>
          </a:ln>
        </p:spPr>
      </p:pic>
      <p:sp>
        <p:nvSpPr>
          <p:cNvPr id="403" name=""/>
          <p:cNvSpPr/>
          <p:nvPr/>
        </p:nvSpPr>
        <p:spPr>
          <a:xfrm>
            <a:off x="690480" y="1056600"/>
            <a:ext cx="7772400" cy="10076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 Antiqua"/>
              </a:rPr>
              <a:t>Faringotonsillite streptococcica: </a:t>
            </a:r>
            <a:br>
              <a:rPr sz="3000"/>
            </a:br>
            <a:r>
              <a:rPr b="1" lang="it-IT" sz="3000" spc="-1" strike="noStrike">
                <a:solidFill>
                  <a:srgbClr val="94143a"/>
                </a:solidFill>
                <a:latin typeface="Book Antiqua"/>
              </a:rPr>
              <a:t>test rapid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97040" y="3692160"/>
            <a:ext cx="5759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4143a"/>
            </a:solidFill>
            <a:miter/>
          </a:ln>
          <a:effectLst>
            <a:outerShdw dist="17819" dir="2700000" blurRad="0" rotWithShape="0">
              <a:srgbClr val="580b2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 Antiqua"/>
              </a:rPr>
              <a:t>. Tecnica di esecuzione</a:t>
            </a:r>
            <a:br>
              <a:rPr sz="3600"/>
            </a:br>
            <a:r>
              <a:rPr b="1" lang="en-US" sz="3600" spc="-1" strike="noStrike">
                <a:solidFill>
                  <a:srgbClr val="94143a"/>
                </a:solidFill>
                <a:latin typeface="Book Antiqua"/>
              </a:rPr>
              <a:t>. Carica batt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52320" y="1200240"/>
            <a:ext cx="7909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Dajani A </a:t>
            </a:r>
            <a:r>
              <a:rPr b="1" i="1" lang="it-IT" sz="2600" spc="-1" strike="noStrike">
                <a:solidFill>
                  <a:srgbClr val="94143a"/>
                </a:solidFill>
                <a:latin typeface="Bookman Old Style"/>
              </a:rPr>
              <a:t>et 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it-IT" sz="2800" spc="-1" strike="noStrike">
                <a:solidFill>
                  <a:srgbClr val="94143a"/>
                </a:solidFill>
                <a:latin typeface="Bookman Old Style"/>
              </a:rPr>
              <a:t>“</a:t>
            </a:r>
            <a:r>
              <a:rPr b="1" i="1" lang="it-IT" sz="2800" spc="-1" strike="noStrike">
                <a:solidFill>
                  <a:srgbClr val="94143a"/>
                </a:solidFill>
                <a:latin typeface="Bookman Old Style"/>
              </a:rPr>
              <a:t>Treatment of acute streptococcal   pharyngitis and 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4143a"/>
                </a:solidFill>
                <a:latin typeface="Bookman Old Style"/>
              </a:rPr>
              <a:t>of rheumatic fe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4143a"/>
                </a:solidFill>
                <a:latin typeface="Bookman Old Style"/>
              </a:rPr>
              <a:t>a statement for health professionals”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Pediatrics 96; 758-64,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2320" y="4098960"/>
            <a:ext cx="784872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Hayes CS </a:t>
            </a:r>
            <a:r>
              <a:rPr b="1" i="1" lang="it-IT" sz="2600" spc="-1" strike="noStrike">
                <a:solidFill>
                  <a:srgbClr val="94143a"/>
                </a:solidFill>
                <a:latin typeface="Bookman Old Style"/>
              </a:rPr>
              <a:t>et 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 “</a:t>
            </a:r>
            <a:r>
              <a:rPr b="1" i="1" lang="it-IT" sz="2800" spc="-1" strike="noStrike">
                <a:solidFill>
                  <a:srgbClr val="94143a"/>
                </a:solidFill>
                <a:latin typeface="Bookman Old Style"/>
              </a:rPr>
              <a:t>Management of Group-A beta-haemolytic streptococcal pharyngiti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Am Fam Physician 63; 1557-64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744480" y="2714760"/>
            <a:ext cx="7683480" cy="1647000"/>
          </a:xfrm>
          <a:prstGeom prst="rect">
            <a:avLst/>
          </a:prstGeom>
          <a:noFill/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4. La guarigione clinic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non richiede (quasi mai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4143a"/>
                </a:solidFill>
                <a:latin typeface="Bookman Old Style"/>
              </a:rPr>
              <a:t>la conferma batteriologic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0480" y="1054800"/>
            <a:ext cx="777240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 Antiqua"/>
              </a:rPr>
              <a:t>Faringotonsillite streptococc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87680" y="5817600"/>
            <a:ext cx="57769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66"/>
                </a:solidFill>
                <a:latin typeface="Book Antiqua"/>
              </a:rPr>
              <a:t>Am Academy of Pediatrics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90480" y="1053720"/>
            <a:ext cx="7772400" cy="685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36147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Tampone di cont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92000" y="2322000"/>
            <a:ext cx="7608960" cy="303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143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Paziente con precedente 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di malattia reuma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Ripetersi di infezioni intra-famigli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2800" spc="-1" strike="noStrike">
                <a:solidFill>
                  <a:srgbClr val="94143a"/>
                </a:solidFill>
                <a:latin typeface="Bookman Old Style"/>
              </a:rPr>
              <a:t>o in comunità chiuse con meccanismo “</a:t>
            </a:r>
            <a:r>
              <a:rPr b="1" i="1" lang="it-IT" sz="2800" spc="-1" strike="noStrike">
                <a:solidFill>
                  <a:srgbClr val="94143a"/>
                </a:solidFill>
                <a:latin typeface="Bookman Old Style"/>
              </a:rPr>
              <a:t>ping-pong spread”</a:t>
            </a:r>
            <a:r>
              <a:rPr b="1" i="1" lang="it-IT" sz="2800" spc="-1" strike="noStrike">
                <a:solidFill>
                  <a:srgbClr val="94143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4920" y="6097680"/>
            <a:ext cx="4763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Gerber MA. Pediatr Infect Dis J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804960" y="1824120"/>
            <a:ext cx="7543800" cy="4760640"/>
            <a:chOff x="804960" y="1824120"/>
            <a:chExt cx="7543800" cy="4760640"/>
          </a:xfrm>
        </p:grpSpPr>
        <p:sp>
          <p:nvSpPr>
            <p:cNvPr id="414" name=""/>
            <p:cNvSpPr/>
            <p:nvPr/>
          </p:nvSpPr>
          <p:spPr>
            <a:xfrm>
              <a:off x="804960" y="1824120"/>
              <a:ext cx="7543800" cy="476064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7280" indent="-287280" algn="just">
                <a:lnSpc>
                  <a:spcPct val="100000"/>
                </a:lnSpc>
                <a:buClr>
                  <a:srgbClr val="94143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Bookman Old Style"/>
                </a:rPr>
                <a:t>Un titolo elevato non è automaticamente diagnostico di una infezione da SBEA: è più utile dimostrare un titolo in aumento rispetto ad un valore precedente (infezioni ravvicinate possono infatti comportare un titolo elevato per molto temp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7280" indent="-287280" algn="just">
                <a:lnSpc>
                  <a:spcPct val="100000"/>
                </a:lnSpc>
                <a:buClr>
                  <a:srgbClr val="94143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7280" indent="-287280" algn="just">
                <a:lnSpc>
                  <a:spcPct val="100000"/>
                </a:lnSpc>
                <a:buClr>
                  <a:srgbClr val="94143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Bookman Old Style"/>
                </a:rPr>
                <a:t>Non è utile per una diagnosi precoce dato che raggiunge il massimo solo dopo 1-2 settimane ed è limitato da una precoce somministrazione di antibiot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7280" indent="-287280" algn="just">
                <a:lnSpc>
                  <a:spcPct val="100000"/>
                </a:lnSpc>
                <a:buClr>
                  <a:srgbClr val="94143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7280" indent="-287280" algn="just">
                <a:lnSpc>
                  <a:spcPct val="100000"/>
                </a:lnSpc>
                <a:buClr>
                  <a:srgbClr val="94143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Bookman Old Style"/>
                </a:rPr>
                <a:t>Può elevarsi anche in caso di infezioni da streptococchi di gruppo C e G che producono streptolisina O e che possono anch’essi essere responsabili di faringotonsilli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7280" indent="-287280" algn="just">
                <a:lnSpc>
                  <a:spcPct val="100000"/>
                </a:lnSpc>
                <a:buClr>
                  <a:srgbClr val="94143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7280" indent="-287280" algn="just">
                <a:lnSpc>
                  <a:spcPct val="100000"/>
                </a:lnSpc>
                <a:buClr>
                  <a:srgbClr val="94143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4143a"/>
                  </a:solidFill>
                  <a:latin typeface="Bookman Old Style"/>
                </a:rPr>
                <a:t>Un TASL falsamente elevato può aversi nei casi in cui nel siero del paziente siano presenti inibitori aspecifici dell’emoli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4960" y="1824120"/>
              <a:ext cx="754380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4960" y="6584760"/>
              <a:ext cx="754380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4960" y="1824120"/>
              <a:ext cx="0" cy="476064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48760" y="1824120"/>
              <a:ext cx="0" cy="476064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160280" y="1054080"/>
            <a:ext cx="68313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Significato e limiti del TASL nelle FT da SB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0120" y="1054080"/>
            <a:ext cx="7953480" cy="435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40186" dir="430364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Definizione di caso proposta per la S-T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6045120"/>
            <a:ext cx="8151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4143a"/>
                </a:solidFill>
                <a:latin typeface="Bookman Old Style"/>
              </a:rPr>
              <a:t>Isolamento di streptococco di gruppo A da siti normalmente non sterili + segni clinici (A e 2 o più di B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4400" y="5783400"/>
            <a:ext cx="7863120" cy="31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Bookman Old Style"/>
              </a:rPr>
              <a:t>CASO PROBA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4400" y="5211720"/>
            <a:ext cx="78631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4143a"/>
                </a:solidFill>
                <a:latin typeface="Bookman Old Style"/>
              </a:rPr>
              <a:t>Isolamento di streptococco di gruppo A da siti normalmente sterili + segni clinici (A e 2 o più di 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4400" y="4952880"/>
            <a:ext cx="7863120" cy="31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Bookman Old Style"/>
              </a:rPr>
              <a:t>CASO ACCER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400" y="3222720"/>
            <a:ext cx="78631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94143a"/>
                </a:solidFill>
                <a:latin typeface="Bookman Old Style"/>
              </a:rPr>
              <a:t>Due o più dei seguenti sintom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94143a"/>
                </a:solidFill>
                <a:latin typeface="Bookman Old Style"/>
              </a:rPr>
              <a:t>- danno ren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94143a"/>
                </a:solidFill>
                <a:latin typeface="Bookman Old Style"/>
              </a:rPr>
              <a:t>- coagulopatia: piastrine &lt;100.000/mm</a:t>
            </a:r>
            <a:r>
              <a:rPr b="1" lang="it-IT" sz="1500" spc="-1" strike="noStrike" baseline="50000">
                <a:solidFill>
                  <a:srgbClr val="94143a"/>
                </a:solidFill>
                <a:latin typeface="Bookman Old Style"/>
              </a:rPr>
              <a:t>3</a:t>
            </a:r>
            <a:r>
              <a:rPr b="1" lang="it-IT" sz="1500" spc="-1" strike="noStrike">
                <a:solidFill>
                  <a:srgbClr val="94143a"/>
                </a:solidFill>
                <a:latin typeface="Bookman Old Style"/>
              </a:rPr>
              <a:t> o evidenza di C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94143a"/>
                </a:solidFill>
                <a:latin typeface="Bookman Old Style"/>
              </a:rPr>
              <a:t>- danno epat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94143a"/>
                </a:solidFill>
                <a:latin typeface="Bookman Old Style"/>
              </a:rPr>
              <a:t>- insorgenza di ARDS (Adult Respitatory Distress Syndrom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94143a"/>
                </a:solidFill>
                <a:latin typeface="Bookman Old Style"/>
              </a:rPr>
              <a:t>- rash scarlattiniforme che va incontro a desquamazi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94143a"/>
                </a:solidFill>
                <a:latin typeface="Bookman Old Style"/>
              </a:rPr>
              <a:t>- necrosi dei  tessuti  molli (fascite, miosite o gangren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4400" y="2854440"/>
            <a:ext cx="786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4143a"/>
                </a:solidFill>
                <a:latin typeface="Bookman Old Style"/>
              </a:rPr>
              <a:t>Ipotensi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4400" y="2473200"/>
            <a:ext cx="7863120" cy="31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Bookman Old Style"/>
              </a:rPr>
              <a:t>SEGNI CLI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4400" y="2052720"/>
            <a:ext cx="78631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4143a"/>
                </a:solidFill>
                <a:latin typeface="Bookman Old Style"/>
              </a:rPr>
              <a:t>Da siti non sterili (escreato, vagina, lesioni cutanee superficiali…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4400" y="1741320"/>
            <a:ext cx="78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94143a"/>
                </a:solidFill>
                <a:latin typeface="Times New Roman"/>
              </a:rPr>
              <a:t>Da siti normalmente sterili (sangue, liquor, materiale bioptico, ferite chirurgiche…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4400" y="1744560"/>
            <a:ext cx="7863120" cy="31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Bookman Old Style"/>
              </a:rPr>
              <a:t>ISOLAMENTO DI STREPTOCOCCHI DI GRUPP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4400" y="1741320"/>
            <a:ext cx="0" cy="27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4400" y="1430280"/>
            <a:ext cx="0" cy="3110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507520" y="1741320"/>
            <a:ext cx="0" cy="27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4400" y="2017800"/>
            <a:ext cx="7863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4400" y="2298600"/>
            <a:ext cx="0" cy="1282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4400" y="2017800"/>
            <a:ext cx="0" cy="280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507520" y="2298600"/>
            <a:ext cx="0" cy="1282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507520" y="2017800"/>
            <a:ext cx="0" cy="280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4400" y="3581280"/>
            <a:ext cx="0" cy="30290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507520" y="3581280"/>
            <a:ext cx="0" cy="30290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2292480"/>
            <a:ext cx="9143640" cy="3972960"/>
            <a:chOff x="0" y="2292480"/>
            <a:chExt cx="9143640" cy="3972960"/>
          </a:xfrm>
        </p:grpSpPr>
        <p:sp>
          <p:nvSpPr>
            <p:cNvPr id="442" name=""/>
            <p:cNvSpPr/>
            <p:nvPr/>
          </p:nvSpPr>
          <p:spPr>
            <a:xfrm>
              <a:off x="6311520" y="5163480"/>
              <a:ext cx="2831760" cy="110196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Esantema diffuso scarlattiniforme con desquamazione (Pastia positiv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41400" y="5163480"/>
              <a:ext cx="2670120" cy="110196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Febbre; infezione stafilococcica della gola senza faring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65840" y="5163480"/>
              <a:ext cx="1375200" cy="110196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Scarlattinoide stafilococco (scarlattina stafilococcic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5163480"/>
              <a:ext cx="2265840" cy="110196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94143a"/>
                  </a:solidFill>
                  <a:latin typeface="Bookman Old Style"/>
                </a:rPr>
                <a:t>Staphylococcus aureus</a:t>
              </a: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 (produttore di tossina esfoliativa) (specie fagogruppo II)</a:t>
              </a:r>
              <a:r>
                <a:rPr b="1" lang="it-IT" sz="1200" spc="-1" strike="noStrike" baseline="50000">
                  <a:solidFill>
                    <a:srgbClr val="94143a"/>
                  </a:solidFill>
                  <a:latin typeface="Bookman Old Style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11520" y="3811680"/>
              <a:ext cx="2831760" cy="135180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Esantema maculo-papulare scarlattiforme (desquamazione possibi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41400" y="3811680"/>
              <a:ext cx="2670120" cy="135180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Shock, interessamento renale, epatico, SNC, CID; frequente la presenza di fascite necrotizzante, miosite, gangr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65840" y="3811680"/>
              <a:ext cx="1375200" cy="135180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Streptococcal-T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3811680"/>
              <a:ext cx="2265840" cy="135180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Alcuni sierotipi di </a:t>
              </a:r>
              <a:r>
                <a:rPr b="1" i="1" lang="it-IT" sz="1200" spc="-1" strike="noStrike">
                  <a:solidFill>
                    <a:srgbClr val="94143a"/>
                  </a:solidFill>
                  <a:latin typeface="Bookman Old Style"/>
                </a:rPr>
                <a:t>Streptococcus</a:t>
              </a: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 (M1 e M3) (produttori di tossina pirogenica, soprattutto di tipo 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1520" y="2709000"/>
              <a:ext cx="2831760" cy="110232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Eritema diffuso maculo-papulare fine e fitto, più intenso in regione di piega (segno di Pastia); desquam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41400" y="2709000"/>
              <a:ext cx="2670120" cy="110232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Febbre faringite, linfoadeniti cervicali; rash che compare entro 2 giorni dai primi sintomi; incubazione 3-4 gior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65840" y="2709000"/>
              <a:ext cx="1375200" cy="110232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4143a"/>
                  </a:solidFill>
                  <a:latin typeface="Bookman Old Style"/>
                </a:rPr>
                <a:t>Scarlatti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2709000"/>
              <a:ext cx="2265840" cy="110232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94143a"/>
                  </a:solidFill>
                  <a:latin typeface="Bookman Old Style"/>
                </a:rPr>
                <a:t>Streptococcus pyogenes</a:t>
              </a: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 (produttore di tossina pirogenica</a:t>
              </a:r>
              <a:r>
                <a:rPr b="1" lang="it-IT" sz="1200" spc="-1" strike="noStrike" baseline="50000">
                  <a:solidFill>
                    <a:srgbClr val="94143a"/>
                  </a:solidFill>
                  <a:latin typeface="Bookman Old Style"/>
                </a:rPr>
                <a:t>1</a:t>
              </a:r>
              <a:r>
                <a:rPr b="1" lang="it-IT" sz="1200" spc="-1" strike="noStrike">
                  <a:solidFill>
                    <a:srgbClr val="94143a"/>
                  </a:solidFill>
                  <a:latin typeface="Bookman Old Style"/>
                </a:rPr>
                <a:t>= eritrotossin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11520" y="2292480"/>
              <a:ext cx="2831760" cy="41652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TIPO DI ESANT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E DISTRIBU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41400" y="2292480"/>
              <a:ext cx="2670120" cy="41652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CARATTERISTICHE CLIN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5840" y="2292480"/>
              <a:ext cx="1375200" cy="41652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MALATT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2292480"/>
              <a:ext cx="2265840" cy="416520"/>
            </a:xfrm>
            <a:prstGeom prst="rect">
              <a:avLst/>
            </a:prstGeom>
            <a:noFill/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66"/>
                  </a:solidFill>
                  <a:latin typeface="Bookman Old Style"/>
                </a:rPr>
                <a:t>EZIOLOG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2709000"/>
              <a:ext cx="9143640" cy="0"/>
            </a:xfrm>
            <a:prstGeom prst="line">
              <a:avLst/>
            </a:prstGeom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0" y="3811680"/>
              <a:ext cx="9143640" cy="0"/>
            </a:xfrm>
            <a:prstGeom prst="line">
              <a:avLst/>
            </a:prstGeom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5163480"/>
              <a:ext cx="9143640" cy="0"/>
            </a:xfrm>
            <a:prstGeom prst="line">
              <a:avLst/>
            </a:prstGeom>
            <a:ln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6265440"/>
              <a:ext cx="9143640" cy="0"/>
            </a:xfrm>
            <a:prstGeom prst="line">
              <a:avLst/>
            </a:prstGeom>
            <a:ln cap="sq"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2292480"/>
              <a:ext cx="9143640" cy="0"/>
            </a:xfrm>
            <a:prstGeom prst="line">
              <a:avLst/>
            </a:prstGeom>
            <a:ln cap="sq"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2292480"/>
              <a:ext cx="0" cy="3972960"/>
            </a:xfrm>
            <a:prstGeom prst="line">
              <a:avLst/>
            </a:prstGeom>
            <a:ln cap="sq"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143640" y="2292480"/>
              <a:ext cx="0" cy="3972960"/>
            </a:xfrm>
            <a:prstGeom prst="line">
              <a:avLst/>
            </a:prstGeom>
            <a:ln cap="sq" w="64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09600" y="1054080"/>
            <a:ext cx="8534520" cy="10087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SCARLATTINA ED ESANTEMI SCARLATTINIFORMI DA CEPPI EMERGENTI DI STREPTOCOCCO, DA </a:t>
            </a:r>
            <a:r>
              <a:rPr b="1" i="1" lang="en-US" sz="2000" spc="-1" strike="noStrike">
                <a:solidFill>
                  <a:srgbClr val="94143a"/>
                </a:solidFill>
                <a:latin typeface="Bookman Old Style"/>
              </a:rPr>
              <a:t>STAPHYLOCOCCUS  AUREUS</a:t>
            </a: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 E DA </a:t>
            </a:r>
            <a:r>
              <a:rPr b="1" i="1" lang="en-US" sz="2000" spc="-1" strike="noStrike">
                <a:solidFill>
                  <a:srgbClr val="94143a"/>
                </a:solidFill>
                <a:latin typeface="Bookman Old Style"/>
              </a:rPr>
              <a:t>ARCANOBATTERIUM HAEMOLYTIC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455320" y="16956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143a"/>
                </a:solidFill>
                <a:latin typeface="Times New Roman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2560" y="6337440"/>
            <a:ext cx="7639200" cy="32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6666"/>
                </a:solidFill>
                <a:latin typeface="Bookman Old Style"/>
              </a:rPr>
              <a:t>da Burgio GR, Perinotto G, Ugazio AG. Pediatria Essenziale. 4</a:t>
            </a:r>
            <a:r>
              <a:rPr b="1" i="1" lang="it-IT" sz="1400" spc="-1" strike="noStrike" baseline="50000">
                <a:solidFill>
                  <a:srgbClr val="666666"/>
                </a:solidFill>
                <a:latin typeface="Bookman Old Style"/>
              </a:rPr>
              <a:t>a</a:t>
            </a:r>
            <a:r>
              <a:rPr b="1" i="1" lang="it-IT" sz="1400" spc="-1" strike="noStrike">
                <a:solidFill>
                  <a:srgbClr val="666666"/>
                </a:solidFill>
                <a:latin typeface="Bookman Old Style"/>
              </a:rPr>
              <a:t> edizione. Torino UTET,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158760" y="1054080"/>
            <a:ext cx="8873280" cy="5633640"/>
            <a:chOff x="158760" y="1054080"/>
            <a:chExt cx="8873280" cy="5633640"/>
          </a:xfrm>
        </p:grpSpPr>
        <p:sp>
          <p:nvSpPr>
            <p:cNvPr id="469" name=""/>
            <p:cNvSpPr/>
            <p:nvPr/>
          </p:nvSpPr>
          <p:spPr>
            <a:xfrm>
              <a:off x="6261480" y="5618160"/>
              <a:ext cx="2738160" cy="61596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94143a"/>
                  </a:solidFill>
                  <a:latin typeface="Bookman Old Style"/>
                </a:rPr>
                <a:t>Rash del tutto scarlattiniform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79560" y="5618160"/>
              <a:ext cx="2581920" cy="61596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94143a"/>
                  </a:solidFill>
                  <a:latin typeface="Bookman Old Style"/>
                </a:rPr>
                <a:t>Febbre e faringite (predilige gli adolescenti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49000" y="5618160"/>
              <a:ext cx="1330200" cy="61596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94143a"/>
                  </a:solidFill>
                  <a:latin typeface="Bookman Old Style"/>
                </a:rPr>
                <a:t>Malattia similscarlattin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8760" y="5618160"/>
              <a:ext cx="2190240" cy="61596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100" spc="-1" strike="noStrike">
                  <a:solidFill>
                    <a:srgbClr val="94143a"/>
                  </a:solidFill>
                  <a:latin typeface="Bookman Old Style"/>
                </a:rPr>
                <a:t>Arcanobacterium haemolyticu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61480" y="3989520"/>
              <a:ext cx="2738160" cy="162864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94143a"/>
                  </a:solidFill>
                  <a:latin typeface="Bookman Old Style"/>
                </a:rPr>
                <a:t>Eritema diffuso, rosso carico, cui fa seguito desquamazi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79560" y="3989520"/>
              <a:ext cx="2581920" cy="162864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94143a"/>
                  </a:solidFill>
                  <a:latin typeface="Bookman Old Style"/>
                </a:rPr>
                <a:t>Febbre, mialgie, vomito, diarrea, confusione mentale (obnubilamento del sensorio), ipotenbsione; seria compromis-sione viscerale (specie in adolescenti e in fase mestrua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49000" y="3989520"/>
              <a:ext cx="1330200" cy="162864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94143a"/>
                  </a:solidFill>
                  <a:latin typeface="Bookman Old Style"/>
                </a:rPr>
                <a:t>Sindrome dello shock tossico (TS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8760" y="3989520"/>
              <a:ext cx="2190240" cy="162864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100" spc="-1" strike="noStrike">
                  <a:solidFill>
                    <a:srgbClr val="94143a"/>
                  </a:solidFill>
                  <a:latin typeface="Bookman Old Style"/>
                </a:rPr>
                <a:t>Staphylococcus aureus</a:t>
              </a:r>
              <a:r>
                <a:rPr b="1" lang="it-IT" sz="1100" spc="-1" strike="noStrike">
                  <a:solidFill>
                    <a:srgbClr val="94143a"/>
                  </a:solidFill>
                  <a:latin typeface="Bookman Old Style"/>
                </a:rPr>
                <a:t> (specie fagogruppo I) (produttore di TSST-1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61480" y="2612880"/>
              <a:ext cx="2738160" cy="137664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94143a"/>
                  </a:solidFill>
                  <a:latin typeface="Bookman Old Style"/>
                </a:rPr>
                <a:t>Rash maculare diffuso, al tronco e alle estremità prossimali, eritematoso, confluente (emorragico in caso di endocardit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79560" y="2612880"/>
              <a:ext cx="2581920" cy="137664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94143a"/>
                  </a:solidFill>
                  <a:latin typeface="Bookman Old Style"/>
                </a:rPr>
                <a:t>Sepsi grave con osteomielite, artrite, endocardite e/o polmoni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49000" y="2612880"/>
              <a:ext cx="1330200" cy="137664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94143a"/>
                  </a:solidFill>
                  <a:latin typeface="Bookman Old Style"/>
                </a:rPr>
                <a:t>Seps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8760" y="2612880"/>
              <a:ext cx="2190240" cy="137664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100" spc="-1" strike="noStrike">
                  <a:solidFill>
                    <a:srgbClr val="94143a"/>
                  </a:solidFill>
                  <a:latin typeface="Bookman Old Style"/>
                </a:rPr>
                <a:t>Staphylococcus aureus</a:t>
              </a:r>
              <a:r>
                <a:rPr b="1" lang="it-IT" sz="1100" spc="-1" strike="noStrike">
                  <a:solidFill>
                    <a:srgbClr val="94143a"/>
                  </a:solidFill>
                  <a:latin typeface="Bookman Old Style"/>
                </a:rPr>
                <a:t> (non-produttore di tossina esfoliativ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61480" y="2189160"/>
              <a:ext cx="2738160" cy="42372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Bookman Old Style"/>
                </a:rPr>
                <a:t>TIPO DI ESANTE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Bookman Old Style"/>
                </a:rPr>
                <a:t>E DISTRIBUZI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79560" y="2189160"/>
              <a:ext cx="2581920" cy="42372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Bookman Old Style"/>
                </a:rPr>
                <a:t>CARATTERISTICHE CLIN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49000" y="2189160"/>
              <a:ext cx="1330200" cy="42372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Bookman Old Style"/>
                </a:rPr>
                <a:t>MALATT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8760" y="2189160"/>
              <a:ext cx="2190240" cy="423720"/>
            </a:xfrm>
            <a:prstGeom prst="rect">
              <a:avLst/>
            </a:prstGeom>
            <a:noFill/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Bookman Old Style"/>
                </a:rPr>
                <a:t>EZIOLOG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760" y="2612880"/>
              <a:ext cx="8841240" cy="0"/>
            </a:xfrm>
            <a:prstGeom prst="line">
              <a:avLst/>
            </a:prstGeom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8760" y="5618160"/>
              <a:ext cx="8841240" cy="0"/>
            </a:xfrm>
            <a:prstGeom prst="line">
              <a:avLst/>
            </a:prstGeom>
            <a:ln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8760" y="6234120"/>
              <a:ext cx="8841240" cy="0"/>
            </a:xfrm>
            <a:prstGeom prst="line">
              <a:avLst/>
            </a:prstGeom>
            <a:ln cap="sq"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8760" y="2189160"/>
              <a:ext cx="8841240" cy="0"/>
            </a:xfrm>
            <a:prstGeom prst="line">
              <a:avLst/>
            </a:prstGeom>
            <a:ln cap="sq"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8760" y="2189160"/>
              <a:ext cx="0" cy="4044960"/>
            </a:xfrm>
            <a:prstGeom prst="line">
              <a:avLst/>
            </a:prstGeom>
            <a:ln cap="sq"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0000" y="2189160"/>
              <a:ext cx="0" cy="4044960"/>
            </a:xfrm>
            <a:prstGeom prst="line">
              <a:avLst/>
            </a:prstGeom>
            <a:ln cap="sq" w="32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0600" y="1054080"/>
              <a:ext cx="8763120" cy="1008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4143a"/>
                  </a:solidFill>
                  <a:latin typeface="Times New Roman"/>
                </a:rPr>
                <a:t>SCARLATTINA ED ESANTEMI SCARLATTINIFORMI DA CEPPI EMERGENTI DI STREPTOCOCCO, DA </a:t>
              </a:r>
              <a:r>
                <a:rPr b="0" i="1" lang="en-US" sz="2000" spc="-1" strike="noStrike">
                  <a:solidFill>
                    <a:srgbClr val="94143a"/>
                  </a:solidFill>
                  <a:latin typeface="Times New Roman"/>
                </a:rPr>
                <a:t>STAPHYLOCOCCUS AURE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4143a"/>
                  </a:solidFill>
                  <a:latin typeface="Times New Roman"/>
                </a:rPr>
                <a:t>E DA </a:t>
              </a:r>
              <a:r>
                <a:rPr b="0" i="1" lang="en-US" sz="2000" spc="-1" strike="noStrike">
                  <a:solidFill>
                    <a:srgbClr val="94143a"/>
                  </a:solidFill>
                  <a:latin typeface="Times New Roman"/>
                </a:rPr>
                <a:t>ARCANOBACTERIUM HAEMOLYTIC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656200" y="18352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4143a"/>
                  </a:solidFill>
                  <a:latin typeface="Times New Roman"/>
                </a:rPr>
                <a:t>2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60480" y="6399360"/>
              <a:ext cx="6586200" cy="2883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666666"/>
                  </a:solidFill>
                  <a:latin typeface="Bookman Old Style"/>
                </a:rPr>
                <a:t>da Burgio GR, Perinotto G, Ugazio AG. Pediatria Essenziale. 4</a:t>
              </a:r>
              <a:r>
                <a:rPr b="1" i="1" lang="it-IT" sz="1200" spc="-1" strike="noStrike" baseline="50000">
                  <a:solidFill>
                    <a:srgbClr val="666666"/>
                  </a:solidFill>
                  <a:latin typeface="Bookman Old Style"/>
                </a:rPr>
                <a:t>a</a:t>
              </a:r>
              <a:r>
                <a:rPr b="1" i="1" lang="it-IT" sz="1200" spc="-1" strike="noStrike">
                  <a:solidFill>
                    <a:srgbClr val="666666"/>
                  </a:solidFill>
                  <a:latin typeface="Bookman Old Style"/>
                </a:rPr>
                <a:t> edizione. Torino UTET, 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09600" y="21607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66"/>
                </a:solidFill>
                <a:latin typeface="Bookman Old Style"/>
              </a:rPr>
              <a:t>SUPPU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ellulite, ascesso retrofaringeo o peritonsil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Otite, sinusite, mastoi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Linfoadenite latero-cervi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Meningite, battieriemia, polmonite, STSS (r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9600" y="44197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66"/>
                </a:solidFill>
                <a:latin typeface="Bookman Old Style"/>
              </a:rPr>
              <a:t>NON SUPPU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Febbre reu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Glomerulonefrite a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ctr">
              <a:lnSpc>
                <a:spcPct val="100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P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90480" y="1053720"/>
            <a:ext cx="7772400" cy="8859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28496" dir="157448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Faringotonsillite da SBEA</a:t>
            </a:r>
            <a:br>
              <a:rPr sz="2600"/>
            </a:b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TERAP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7200" y="6378480"/>
            <a:ext cx="4405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it-IT" sz="1600" spc="-1" strike="noStrike">
                <a:solidFill>
                  <a:srgbClr val="666666"/>
                </a:solidFill>
                <a:latin typeface="Bookman Old Style"/>
              </a:rPr>
              <a:t> Burgio, Pediatria Essenziale IV ed.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78120" y="4343400"/>
            <a:ext cx="1795680" cy="1730520"/>
          </a:xfrm>
          <a:prstGeom prst="noSmoking">
            <a:avLst>
              <a:gd name="adj" fmla="val 125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78120" y="2351160"/>
            <a:ext cx="1795680" cy="1730160"/>
          </a:xfrm>
          <a:prstGeom prst="noSmoking">
            <a:avLst>
              <a:gd name="adj" fmla="val 125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NSILLITE" descr=""/>
          <p:cNvPicPr/>
          <p:nvPr/>
        </p:nvPicPr>
        <p:blipFill>
          <a:blip r:embed="rId1"/>
          <a:stretch/>
        </p:blipFill>
        <p:spPr>
          <a:xfrm>
            <a:off x="1986120" y="1406520"/>
            <a:ext cx="5181480" cy="4546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9520" y="1069560"/>
            <a:ext cx="6934320" cy="5181480"/>
          </a:xfrm>
          <a:prstGeom prst="rect">
            <a:avLst/>
          </a:prstGeom>
          <a:noFill/>
          <a:ln w="76320">
            <a:solidFill>
              <a:srgbClr val="94143a">
                <a:alpha val="50000"/>
              </a:srgbClr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Bookman Old Style"/>
              </a:rPr>
              <a:t>In Italia la FT rappresenta il 20% delle visite totali nei bambini di età &lt; 14 anni e cioè circa 6.000.000 di accessi medici/anno 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57360" y="2316240"/>
            <a:ext cx="8072280" cy="3934440"/>
          </a:xfrm>
          <a:prstGeom prst="rect">
            <a:avLst/>
          </a:prstGeom>
          <a:noFill/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3. I casi positi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devono essere tratt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A. benzatina penicill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B. penicillina orale 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C. cefalosporine ora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D. macroli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0480" y="1053360"/>
            <a:ext cx="777240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90480" y="1053360"/>
            <a:ext cx="777240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8989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Faringotonsillite streptococc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0880" y="2362320"/>
            <a:ext cx="8534520" cy="3385800"/>
          </a:xfrm>
          <a:prstGeom prst="rect">
            <a:avLst/>
          </a:prstGeom>
          <a:noFill/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5.   Le ricadute vanno trat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con schemi alternati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A. cefalospor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B. amoxicillina-clavulanic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C. macroli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D. clindamici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22120" y="1053720"/>
            <a:ext cx="6908760" cy="725400"/>
          </a:xfrm>
          <a:prstGeom prst="rect">
            <a:avLst/>
          </a:prstGeom>
          <a:solidFill>
            <a:srgbClr val="ffffcc"/>
          </a:solidFill>
          <a:ln w="57240">
            <a:solidFill>
              <a:srgbClr val="94143a">
                <a:alpha val="50000"/>
              </a:srgbClr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TERAPIA ANTIBIO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73520" y="2909880"/>
            <a:ext cx="3833640" cy="116064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73720" y="3187800"/>
            <a:ext cx="246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MIR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27520" y="4249800"/>
            <a:ext cx="3833640" cy="1160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73400" y="4564080"/>
            <a:ext cx="32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RAGION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74840" y="2940120"/>
            <a:ext cx="2092320" cy="969840"/>
          </a:xfrm>
          <a:custGeom>
            <a:avLst/>
            <a:gdLst>
              <a:gd name="textAreaLeft" fmla="*/ 261360 w 2092320"/>
              <a:gd name="textAreaRight" fmla="*/ 1830960 w 2092320"/>
              <a:gd name="textAreaTop" fmla="*/ 242280 h 969840"/>
              <a:gd name="textAreaBottom" fmla="*/ 727560 h 9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74840" y="4314960"/>
            <a:ext cx="2092320" cy="969840"/>
          </a:xfrm>
          <a:custGeom>
            <a:avLst/>
            <a:gdLst>
              <a:gd name="textAreaLeft" fmla="*/ 261360 w 2092320"/>
              <a:gd name="textAreaRight" fmla="*/ 1830960 w 2092320"/>
              <a:gd name="textAreaTop" fmla="*/ 242280 h 969840"/>
              <a:gd name="textAreaBottom" fmla="*/ 727560 h 9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90480" y="1054080"/>
            <a:ext cx="7772400" cy="820800"/>
          </a:xfrm>
          <a:prstGeom prst="rect">
            <a:avLst/>
          </a:prstGeom>
          <a:solidFill>
            <a:srgbClr val="ffcc99"/>
          </a:solidFill>
          <a:ln w="28440">
            <a:solidFill>
              <a:srgbClr val="94143a">
                <a:alpha val="50000"/>
              </a:srgbClr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TERAPIA MIR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08680" y="6172200"/>
            <a:ext cx="6273720" cy="352080"/>
          </a:xfrm>
          <a:prstGeom prst="rect">
            <a:avLst/>
          </a:prstGeom>
          <a:solidFill>
            <a:srgbClr val="ffffcc"/>
          </a:solidFill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SCELTA DELL’ANTIBIOTICO DA  SOMMINIST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72080" y="4795920"/>
            <a:ext cx="6947280" cy="85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ISOLAMENTO, IDENTIFICAZIONE E DETERMINAZIONE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DELLA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SENSIBILITA’ “IN VITR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2240" y="3957480"/>
            <a:ext cx="5825520" cy="352080"/>
          </a:xfrm>
          <a:prstGeom prst="rect">
            <a:avLst/>
          </a:prstGeom>
          <a:solidFill>
            <a:srgbClr val="ffffcc"/>
          </a:solidFill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INVIO AL LABORATORIO DI MICROBI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54760" y="3009960"/>
            <a:ext cx="6183720" cy="412920"/>
          </a:xfrm>
          <a:prstGeom prst="rect">
            <a:avLst/>
          </a:prstGeom>
          <a:solidFill>
            <a:srgbClr val="ffffcc"/>
          </a:solidFill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PRELIEVO DEL MATERIALE PAT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14120" y="2060640"/>
            <a:ext cx="3463560" cy="412920"/>
          </a:xfrm>
          <a:prstGeom prst="rect">
            <a:avLst/>
          </a:prstGeom>
          <a:solidFill>
            <a:srgbClr val="ffffcc"/>
          </a:solidFill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SEDE DELL’INF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76600" y="2617920"/>
            <a:ext cx="203400" cy="228600"/>
          </a:xfrm>
          <a:prstGeom prst="downArrow">
            <a:avLst>
              <a:gd name="adj1" fmla="val 50000"/>
              <a:gd name="adj2" fmla="val 28097"/>
            </a:avLst>
          </a:prstGeom>
          <a:solidFill>
            <a:srgbClr val="94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76600" y="3608280"/>
            <a:ext cx="203400" cy="228600"/>
          </a:xfrm>
          <a:prstGeom prst="downArrow">
            <a:avLst>
              <a:gd name="adj1" fmla="val 50000"/>
              <a:gd name="adj2" fmla="val 28097"/>
            </a:avLst>
          </a:prstGeom>
          <a:solidFill>
            <a:srgbClr val="94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76600" y="4446720"/>
            <a:ext cx="203400" cy="228600"/>
          </a:xfrm>
          <a:prstGeom prst="downArrow">
            <a:avLst>
              <a:gd name="adj1" fmla="val 50000"/>
              <a:gd name="adj2" fmla="val 28097"/>
            </a:avLst>
          </a:prstGeom>
          <a:solidFill>
            <a:srgbClr val="94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76600" y="5818320"/>
            <a:ext cx="203400" cy="228600"/>
          </a:xfrm>
          <a:prstGeom prst="downArrow">
            <a:avLst>
              <a:gd name="adj1" fmla="val 50000"/>
              <a:gd name="adj2" fmla="val 28097"/>
            </a:avLst>
          </a:prstGeom>
          <a:solidFill>
            <a:srgbClr val="94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90480" y="1053720"/>
            <a:ext cx="7772400" cy="795240"/>
          </a:xfrm>
          <a:prstGeom prst="rect">
            <a:avLst/>
          </a:prstGeom>
          <a:solidFill>
            <a:srgbClr val="ffcc99"/>
          </a:solidFill>
          <a:ln w="28440">
            <a:solidFill>
              <a:srgbClr val="94143a">
                <a:alpha val="50000"/>
              </a:srgbClr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TERAPIA RAGION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1640" y="2976480"/>
            <a:ext cx="5588280" cy="2832120"/>
          </a:xfrm>
          <a:prstGeom prst="rect">
            <a:avLst/>
          </a:prstGeom>
          <a:noFill/>
          <a:ln w="5724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ETA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SEDE DELL’INFE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DATI EPIDEMIOLOG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2217600" y="3503520"/>
            <a:ext cx="4751640" cy="2050920"/>
            <a:chOff x="2217600" y="3503520"/>
            <a:chExt cx="4751640" cy="2050920"/>
          </a:xfrm>
        </p:grpSpPr>
        <p:sp>
          <p:nvSpPr>
            <p:cNvPr id="524" name=""/>
            <p:cNvSpPr/>
            <p:nvPr/>
          </p:nvSpPr>
          <p:spPr>
            <a:xfrm>
              <a:off x="2217600" y="4114800"/>
              <a:ext cx="1943280" cy="1247760"/>
            </a:xfrm>
            <a:custGeom>
              <a:avLst/>
              <a:gdLst/>
              <a:ahLst/>
              <a:rect l="l" t="t" r="r" b="b"/>
              <a:pathLst>
                <a:path w="1224" h="786">
                  <a:moveTo>
                    <a:pt x="1224" y="378"/>
                  </a:moveTo>
                  <a:lnTo>
                    <a:pt x="1202" y="378"/>
                  </a:lnTo>
                  <a:lnTo>
                    <a:pt x="1149" y="370"/>
                  </a:lnTo>
                  <a:lnTo>
                    <a:pt x="1126" y="370"/>
                  </a:lnTo>
                  <a:lnTo>
                    <a:pt x="1096" y="370"/>
                  </a:lnTo>
                  <a:lnTo>
                    <a:pt x="1050" y="370"/>
                  </a:lnTo>
                  <a:lnTo>
                    <a:pt x="1028" y="363"/>
                  </a:lnTo>
                  <a:lnTo>
                    <a:pt x="997" y="363"/>
                  </a:lnTo>
                  <a:lnTo>
                    <a:pt x="952" y="355"/>
                  </a:lnTo>
                  <a:lnTo>
                    <a:pt x="929" y="355"/>
                  </a:lnTo>
                  <a:lnTo>
                    <a:pt x="899" y="355"/>
                  </a:lnTo>
                  <a:lnTo>
                    <a:pt x="854" y="348"/>
                  </a:lnTo>
                  <a:lnTo>
                    <a:pt x="831" y="348"/>
                  </a:lnTo>
                  <a:lnTo>
                    <a:pt x="808" y="340"/>
                  </a:lnTo>
                  <a:lnTo>
                    <a:pt x="763" y="332"/>
                  </a:lnTo>
                  <a:lnTo>
                    <a:pt x="740" y="332"/>
                  </a:lnTo>
                  <a:lnTo>
                    <a:pt x="718" y="325"/>
                  </a:lnTo>
                  <a:lnTo>
                    <a:pt x="672" y="325"/>
                  </a:lnTo>
                  <a:lnTo>
                    <a:pt x="650" y="317"/>
                  </a:lnTo>
                  <a:lnTo>
                    <a:pt x="635" y="317"/>
                  </a:lnTo>
                  <a:lnTo>
                    <a:pt x="589" y="302"/>
                  </a:lnTo>
                  <a:lnTo>
                    <a:pt x="567" y="302"/>
                  </a:lnTo>
                  <a:lnTo>
                    <a:pt x="551" y="295"/>
                  </a:lnTo>
                  <a:lnTo>
                    <a:pt x="506" y="287"/>
                  </a:lnTo>
                  <a:lnTo>
                    <a:pt x="491" y="287"/>
                  </a:lnTo>
                  <a:lnTo>
                    <a:pt x="468" y="280"/>
                  </a:lnTo>
                  <a:lnTo>
                    <a:pt x="431" y="272"/>
                  </a:lnTo>
                  <a:lnTo>
                    <a:pt x="415" y="264"/>
                  </a:lnTo>
                  <a:lnTo>
                    <a:pt x="400" y="264"/>
                  </a:lnTo>
                  <a:lnTo>
                    <a:pt x="362" y="249"/>
                  </a:lnTo>
                  <a:lnTo>
                    <a:pt x="347" y="249"/>
                  </a:lnTo>
                  <a:lnTo>
                    <a:pt x="332" y="242"/>
                  </a:lnTo>
                  <a:lnTo>
                    <a:pt x="294" y="227"/>
                  </a:lnTo>
                  <a:lnTo>
                    <a:pt x="279" y="227"/>
                  </a:lnTo>
                  <a:lnTo>
                    <a:pt x="264" y="219"/>
                  </a:lnTo>
                  <a:lnTo>
                    <a:pt x="234" y="212"/>
                  </a:lnTo>
                  <a:lnTo>
                    <a:pt x="226" y="204"/>
                  </a:lnTo>
                  <a:lnTo>
                    <a:pt x="211" y="196"/>
                  </a:lnTo>
                  <a:lnTo>
                    <a:pt x="181" y="181"/>
                  </a:lnTo>
                  <a:lnTo>
                    <a:pt x="174" y="181"/>
                  </a:lnTo>
                  <a:lnTo>
                    <a:pt x="158" y="174"/>
                  </a:lnTo>
                  <a:lnTo>
                    <a:pt x="136" y="159"/>
                  </a:lnTo>
                  <a:lnTo>
                    <a:pt x="128" y="151"/>
                  </a:lnTo>
                  <a:lnTo>
                    <a:pt x="113" y="151"/>
                  </a:lnTo>
                  <a:lnTo>
                    <a:pt x="98" y="136"/>
                  </a:lnTo>
                  <a:lnTo>
                    <a:pt x="90" y="128"/>
                  </a:lnTo>
                  <a:lnTo>
                    <a:pt x="75" y="121"/>
                  </a:lnTo>
                  <a:lnTo>
                    <a:pt x="60" y="113"/>
                  </a:lnTo>
                  <a:lnTo>
                    <a:pt x="53" y="106"/>
                  </a:lnTo>
                  <a:lnTo>
                    <a:pt x="45" y="98"/>
                  </a:lnTo>
                  <a:lnTo>
                    <a:pt x="37" y="83"/>
                  </a:lnTo>
                  <a:lnTo>
                    <a:pt x="30" y="76"/>
                  </a:lnTo>
                  <a:lnTo>
                    <a:pt x="22" y="68"/>
                  </a:lnTo>
                  <a:lnTo>
                    <a:pt x="15" y="60"/>
                  </a:lnTo>
                  <a:lnTo>
                    <a:pt x="15" y="53"/>
                  </a:lnTo>
                  <a:lnTo>
                    <a:pt x="7" y="4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0" y="416"/>
                  </a:lnTo>
                  <a:lnTo>
                    <a:pt x="0" y="423"/>
                  </a:lnTo>
                  <a:lnTo>
                    <a:pt x="0" y="431"/>
                  </a:lnTo>
                  <a:lnTo>
                    <a:pt x="0" y="438"/>
                  </a:lnTo>
                  <a:lnTo>
                    <a:pt x="7" y="453"/>
                  </a:lnTo>
                  <a:lnTo>
                    <a:pt x="15" y="461"/>
                  </a:lnTo>
                  <a:lnTo>
                    <a:pt x="15" y="468"/>
                  </a:lnTo>
                  <a:lnTo>
                    <a:pt x="22" y="476"/>
                  </a:lnTo>
                  <a:lnTo>
                    <a:pt x="30" y="484"/>
                  </a:lnTo>
                  <a:lnTo>
                    <a:pt x="37" y="491"/>
                  </a:lnTo>
                  <a:lnTo>
                    <a:pt x="45" y="506"/>
                  </a:lnTo>
                  <a:lnTo>
                    <a:pt x="53" y="514"/>
                  </a:lnTo>
                  <a:lnTo>
                    <a:pt x="60" y="521"/>
                  </a:lnTo>
                  <a:lnTo>
                    <a:pt x="75" y="529"/>
                  </a:lnTo>
                  <a:lnTo>
                    <a:pt x="90" y="536"/>
                  </a:lnTo>
                  <a:lnTo>
                    <a:pt x="98" y="544"/>
                  </a:lnTo>
                  <a:lnTo>
                    <a:pt x="113" y="559"/>
                  </a:lnTo>
                  <a:lnTo>
                    <a:pt x="128" y="559"/>
                  </a:lnTo>
                  <a:lnTo>
                    <a:pt x="136" y="567"/>
                  </a:lnTo>
                  <a:lnTo>
                    <a:pt x="158" y="582"/>
                  </a:lnTo>
                  <a:lnTo>
                    <a:pt x="174" y="589"/>
                  </a:lnTo>
                  <a:lnTo>
                    <a:pt x="181" y="589"/>
                  </a:lnTo>
                  <a:lnTo>
                    <a:pt x="211" y="604"/>
                  </a:lnTo>
                  <a:lnTo>
                    <a:pt x="226" y="612"/>
                  </a:lnTo>
                  <a:lnTo>
                    <a:pt x="234" y="620"/>
                  </a:lnTo>
                  <a:lnTo>
                    <a:pt x="264" y="627"/>
                  </a:lnTo>
                  <a:lnTo>
                    <a:pt x="279" y="635"/>
                  </a:lnTo>
                  <a:lnTo>
                    <a:pt x="294" y="635"/>
                  </a:lnTo>
                  <a:lnTo>
                    <a:pt x="332" y="650"/>
                  </a:lnTo>
                  <a:lnTo>
                    <a:pt x="347" y="657"/>
                  </a:lnTo>
                  <a:lnTo>
                    <a:pt x="362" y="657"/>
                  </a:lnTo>
                  <a:lnTo>
                    <a:pt x="400" y="672"/>
                  </a:lnTo>
                  <a:lnTo>
                    <a:pt x="415" y="672"/>
                  </a:lnTo>
                  <a:lnTo>
                    <a:pt x="431" y="680"/>
                  </a:lnTo>
                  <a:lnTo>
                    <a:pt x="468" y="688"/>
                  </a:lnTo>
                  <a:lnTo>
                    <a:pt x="491" y="695"/>
                  </a:lnTo>
                  <a:lnTo>
                    <a:pt x="506" y="695"/>
                  </a:lnTo>
                  <a:lnTo>
                    <a:pt x="551" y="703"/>
                  </a:lnTo>
                  <a:lnTo>
                    <a:pt x="567" y="710"/>
                  </a:lnTo>
                  <a:lnTo>
                    <a:pt x="589" y="710"/>
                  </a:lnTo>
                  <a:lnTo>
                    <a:pt x="635" y="725"/>
                  </a:lnTo>
                  <a:lnTo>
                    <a:pt x="650" y="725"/>
                  </a:lnTo>
                  <a:lnTo>
                    <a:pt x="672" y="733"/>
                  </a:lnTo>
                  <a:lnTo>
                    <a:pt x="718" y="733"/>
                  </a:lnTo>
                  <a:lnTo>
                    <a:pt x="740" y="740"/>
                  </a:lnTo>
                  <a:lnTo>
                    <a:pt x="763" y="740"/>
                  </a:lnTo>
                  <a:lnTo>
                    <a:pt x="808" y="748"/>
                  </a:lnTo>
                  <a:lnTo>
                    <a:pt x="831" y="756"/>
                  </a:lnTo>
                  <a:lnTo>
                    <a:pt x="854" y="756"/>
                  </a:lnTo>
                  <a:lnTo>
                    <a:pt x="899" y="763"/>
                  </a:lnTo>
                  <a:lnTo>
                    <a:pt x="929" y="763"/>
                  </a:lnTo>
                  <a:lnTo>
                    <a:pt x="952" y="763"/>
                  </a:lnTo>
                  <a:lnTo>
                    <a:pt x="997" y="771"/>
                  </a:lnTo>
                  <a:lnTo>
                    <a:pt x="1028" y="771"/>
                  </a:lnTo>
                  <a:lnTo>
                    <a:pt x="1050" y="778"/>
                  </a:lnTo>
                  <a:lnTo>
                    <a:pt x="1096" y="778"/>
                  </a:lnTo>
                  <a:lnTo>
                    <a:pt x="1126" y="778"/>
                  </a:lnTo>
                  <a:lnTo>
                    <a:pt x="1149" y="778"/>
                  </a:lnTo>
                  <a:lnTo>
                    <a:pt x="1202" y="786"/>
                  </a:lnTo>
                  <a:lnTo>
                    <a:pt x="1224" y="786"/>
                  </a:lnTo>
                  <a:lnTo>
                    <a:pt x="1224" y="378"/>
                  </a:lnTo>
                  <a:close/>
                </a:path>
              </a:pathLst>
            </a:custGeom>
            <a:solidFill>
              <a:srgbClr val="94143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57840" y="4114800"/>
              <a:ext cx="274680" cy="934920"/>
            </a:xfrm>
            <a:custGeom>
              <a:avLst/>
              <a:gdLst/>
              <a:ahLst/>
              <a:rect l="l" t="t" r="r" b="b"/>
              <a:pathLst>
                <a:path w="173" h="589">
                  <a:moveTo>
                    <a:pt x="173" y="0"/>
                  </a:moveTo>
                  <a:lnTo>
                    <a:pt x="173" y="8"/>
                  </a:lnTo>
                  <a:lnTo>
                    <a:pt x="166" y="15"/>
                  </a:lnTo>
                  <a:lnTo>
                    <a:pt x="166" y="23"/>
                  </a:lnTo>
                  <a:lnTo>
                    <a:pt x="166" y="30"/>
                  </a:lnTo>
                  <a:lnTo>
                    <a:pt x="158" y="45"/>
                  </a:lnTo>
                  <a:lnTo>
                    <a:pt x="158" y="53"/>
                  </a:lnTo>
                  <a:lnTo>
                    <a:pt x="151" y="60"/>
                  </a:lnTo>
                  <a:lnTo>
                    <a:pt x="143" y="68"/>
                  </a:lnTo>
                  <a:lnTo>
                    <a:pt x="136" y="76"/>
                  </a:lnTo>
                  <a:lnTo>
                    <a:pt x="136" y="83"/>
                  </a:lnTo>
                  <a:lnTo>
                    <a:pt x="121" y="98"/>
                  </a:lnTo>
                  <a:lnTo>
                    <a:pt x="113" y="106"/>
                  </a:lnTo>
                  <a:lnTo>
                    <a:pt x="105" y="113"/>
                  </a:lnTo>
                  <a:lnTo>
                    <a:pt x="90" y="121"/>
                  </a:lnTo>
                  <a:lnTo>
                    <a:pt x="83" y="128"/>
                  </a:lnTo>
                  <a:lnTo>
                    <a:pt x="75" y="136"/>
                  </a:lnTo>
                  <a:lnTo>
                    <a:pt x="52" y="151"/>
                  </a:lnTo>
                  <a:lnTo>
                    <a:pt x="45" y="151"/>
                  </a:lnTo>
                  <a:lnTo>
                    <a:pt x="30" y="159"/>
                  </a:lnTo>
                  <a:lnTo>
                    <a:pt x="7" y="174"/>
                  </a:lnTo>
                  <a:lnTo>
                    <a:pt x="0" y="181"/>
                  </a:lnTo>
                  <a:lnTo>
                    <a:pt x="0" y="589"/>
                  </a:lnTo>
                  <a:lnTo>
                    <a:pt x="7" y="582"/>
                  </a:lnTo>
                  <a:lnTo>
                    <a:pt x="30" y="567"/>
                  </a:lnTo>
                  <a:lnTo>
                    <a:pt x="45" y="559"/>
                  </a:lnTo>
                  <a:lnTo>
                    <a:pt x="52" y="559"/>
                  </a:lnTo>
                  <a:lnTo>
                    <a:pt x="75" y="544"/>
                  </a:lnTo>
                  <a:lnTo>
                    <a:pt x="83" y="536"/>
                  </a:lnTo>
                  <a:lnTo>
                    <a:pt x="90" y="529"/>
                  </a:lnTo>
                  <a:lnTo>
                    <a:pt x="105" y="521"/>
                  </a:lnTo>
                  <a:lnTo>
                    <a:pt x="113" y="514"/>
                  </a:lnTo>
                  <a:lnTo>
                    <a:pt x="121" y="506"/>
                  </a:lnTo>
                  <a:lnTo>
                    <a:pt x="136" y="491"/>
                  </a:lnTo>
                  <a:lnTo>
                    <a:pt x="136" y="484"/>
                  </a:lnTo>
                  <a:lnTo>
                    <a:pt x="143" y="476"/>
                  </a:lnTo>
                  <a:lnTo>
                    <a:pt x="151" y="468"/>
                  </a:lnTo>
                  <a:lnTo>
                    <a:pt x="158" y="461"/>
                  </a:lnTo>
                  <a:lnTo>
                    <a:pt x="158" y="453"/>
                  </a:lnTo>
                  <a:lnTo>
                    <a:pt x="166" y="438"/>
                  </a:lnTo>
                  <a:lnTo>
                    <a:pt x="166" y="431"/>
                  </a:lnTo>
                  <a:lnTo>
                    <a:pt x="166" y="423"/>
                  </a:lnTo>
                  <a:lnTo>
                    <a:pt x="173" y="416"/>
                  </a:lnTo>
                  <a:lnTo>
                    <a:pt x="173" y="40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94143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60880" y="4114800"/>
              <a:ext cx="407880" cy="1247760"/>
            </a:xfrm>
            <a:custGeom>
              <a:avLst/>
              <a:gdLst/>
              <a:ahLst/>
              <a:rect l="l" t="t" r="r" b="b"/>
              <a:pathLst>
                <a:path w="257" h="786">
                  <a:moveTo>
                    <a:pt x="257" y="0"/>
                  </a:moveTo>
                  <a:lnTo>
                    <a:pt x="0" y="378"/>
                  </a:lnTo>
                  <a:lnTo>
                    <a:pt x="0" y="786"/>
                  </a:lnTo>
                  <a:lnTo>
                    <a:pt x="257" y="40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94143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68760" y="4114800"/>
              <a:ext cx="2076480" cy="934920"/>
            </a:xfrm>
            <a:custGeom>
              <a:avLst/>
              <a:gdLst/>
              <a:ahLst/>
              <a:rect l="l" t="t" r="r" b="b"/>
              <a:pathLst>
                <a:path w="1308" h="589">
                  <a:moveTo>
                    <a:pt x="0" y="0"/>
                  </a:moveTo>
                  <a:lnTo>
                    <a:pt x="1308" y="181"/>
                  </a:lnTo>
                  <a:lnTo>
                    <a:pt x="1308" y="589"/>
                  </a:lnTo>
                  <a:lnTo>
                    <a:pt x="0" y="4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143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17600" y="3503520"/>
              <a:ext cx="4714920" cy="1211400"/>
            </a:xfrm>
            <a:custGeom>
              <a:avLst/>
              <a:gdLst/>
              <a:ahLst/>
              <a:rect l="l" t="t" r="r" b="b"/>
              <a:pathLst>
                <a:path w="2970" h="763">
                  <a:moveTo>
                    <a:pt x="1224" y="763"/>
                  </a:moveTo>
                  <a:lnTo>
                    <a:pt x="1202" y="763"/>
                  </a:lnTo>
                  <a:lnTo>
                    <a:pt x="1149" y="755"/>
                  </a:lnTo>
                  <a:lnTo>
                    <a:pt x="1126" y="755"/>
                  </a:lnTo>
                  <a:lnTo>
                    <a:pt x="1096" y="755"/>
                  </a:lnTo>
                  <a:lnTo>
                    <a:pt x="1050" y="755"/>
                  </a:lnTo>
                  <a:lnTo>
                    <a:pt x="1028" y="748"/>
                  </a:lnTo>
                  <a:lnTo>
                    <a:pt x="997" y="748"/>
                  </a:lnTo>
                  <a:lnTo>
                    <a:pt x="952" y="740"/>
                  </a:lnTo>
                  <a:lnTo>
                    <a:pt x="929" y="740"/>
                  </a:lnTo>
                  <a:lnTo>
                    <a:pt x="899" y="740"/>
                  </a:lnTo>
                  <a:lnTo>
                    <a:pt x="854" y="733"/>
                  </a:lnTo>
                  <a:lnTo>
                    <a:pt x="831" y="733"/>
                  </a:lnTo>
                  <a:lnTo>
                    <a:pt x="808" y="725"/>
                  </a:lnTo>
                  <a:lnTo>
                    <a:pt x="763" y="717"/>
                  </a:lnTo>
                  <a:lnTo>
                    <a:pt x="740" y="717"/>
                  </a:lnTo>
                  <a:lnTo>
                    <a:pt x="718" y="710"/>
                  </a:lnTo>
                  <a:lnTo>
                    <a:pt x="672" y="710"/>
                  </a:lnTo>
                  <a:lnTo>
                    <a:pt x="650" y="702"/>
                  </a:lnTo>
                  <a:lnTo>
                    <a:pt x="635" y="702"/>
                  </a:lnTo>
                  <a:lnTo>
                    <a:pt x="589" y="687"/>
                  </a:lnTo>
                  <a:lnTo>
                    <a:pt x="567" y="687"/>
                  </a:lnTo>
                  <a:lnTo>
                    <a:pt x="551" y="680"/>
                  </a:lnTo>
                  <a:lnTo>
                    <a:pt x="506" y="672"/>
                  </a:lnTo>
                  <a:lnTo>
                    <a:pt x="491" y="672"/>
                  </a:lnTo>
                  <a:lnTo>
                    <a:pt x="468" y="665"/>
                  </a:lnTo>
                  <a:lnTo>
                    <a:pt x="431" y="657"/>
                  </a:lnTo>
                  <a:lnTo>
                    <a:pt x="415" y="649"/>
                  </a:lnTo>
                  <a:lnTo>
                    <a:pt x="400" y="649"/>
                  </a:lnTo>
                  <a:lnTo>
                    <a:pt x="362" y="634"/>
                  </a:lnTo>
                  <a:lnTo>
                    <a:pt x="347" y="634"/>
                  </a:lnTo>
                  <a:lnTo>
                    <a:pt x="332" y="627"/>
                  </a:lnTo>
                  <a:lnTo>
                    <a:pt x="294" y="612"/>
                  </a:lnTo>
                  <a:lnTo>
                    <a:pt x="279" y="612"/>
                  </a:lnTo>
                  <a:lnTo>
                    <a:pt x="264" y="604"/>
                  </a:lnTo>
                  <a:lnTo>
                    <a:pt x="234" y="597"/>
                  </a:lnTo>
                  <a:lnTo>
                    <a:pt x="226" y="589"/>
                  </a:lnTo>
                  <a:lnTo>
                    <a:pt x="211" y="581"/>
                  </a:lnTo>
                  <a:lnTo>
                    <a:pt x="181" y="566"/>
                  </a:lnTo>
                  <a:lnTo>
                    <a:pt x="174" y="566"/>
                  </a:lnTo>
                  <a:lnTo>
                    <a:pt x="158" y="559"/>
                  </a:lnTo>
                  <a:lnTo>
                    <a:pt x="136" y="544"/>
                  </a:lnTo>
                  <a:lnTo>
                    <a:pt x="128" y="536"/>
                  </a:lnTo>
                  <a:lnTo>
                    <a:pt x="113" y="536"/>
                  </a:lnTo>
                  <a:lnTo>
                    <a:pt x="98" y="521"/>
                  </a:lnTo>
                  <a:lnTo>
                    <a:pt x="90" y="513"/>
                  </a:lnTo>
                  <a:lnTo>
                    <a:pt x="75" y="506"/>
                  </a:lnTo>
                  <a:lnTo>
                    <a:pt x="60" y="498"/>
                  </a:lnTo>
                  <a:lnTo>
                    <a:pt x="53" y="491"/>
                  </a:lnTo>
                  <a:lnTo>
                    <a:pt x="45" y="483"/>
                  </a:lnTo>
                  <a:lnTo>
                    <a:pt x="37" y="468"/>
                  </a:lnTo>
                  <a:lnTo>
                    <a:pt x="30" y="461"/>
                  </a:lnTo>
                  <a:lnTo>
                    <a:pt x="22" y="453"/>
                  </a:lnTo>
                  <a:lnTo>
                    <a:pt x="15" y="445"/>
                  </a:lnTo>
                  <a:lnTo>
                    <a:pt x="15" y="438"/>
                  </a:lnTo>
                  <a:lnTo>
                    <a:pt x="7" y="430"/>
                  </a:lnTo>
                  <a:lnTo>
                    <a:pt x="0" y="415"/>
                  </a:lnTo>
                  <a:lnTo>
                    <a:pt x="0" y="408"/>
                  </a:lnTo>
                  <a:lnTo>
                    <a:pt x="0" y="400"/>
                  </a:lnTo>
                  <a:lnTo>
                    <a:pt x="0" y="393"/>
                  </a:lnTo>
                  <a:lnTo>
                    <a:pt x="0" y="385"/>
                  </a:lnTo>
                  <a:lnTo>
                    <a:pt x="0" y="377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47"/>
                  </a:lnTo>
                  <a:lnTo>
                    <a:pt x="7" y="340"/>
                  </a:lnTo>
                  <a:lnTo>
                    <a:pt x="15" y="332"/>
                  </a:lnTo>
                  <a:lnTo>
                    <a:pt x="15" y="325"/>
                  </a:lnTo>
                  <a:lnTo>
                    <a:pt x="22" y="309"/>
                  </a:lnTo>
                  <a:lnTo>
                    <a:pt x="30" y="302"/>
                  </a:lnTo>
                  <a:lnTo>
                    <a:pt x="37" y="294"/>
                  </a:lnTo>
                  <a:lnTo>
                    <a:pt x="45" y="287"/>
                  </a:lnTo>
                  <a:lnTo>
                    <a:pt x="53" y="279"/>
                  </a:lnTo>
                  <a:lnTo>
                    <a:pt x="60" y="272"/>
                  </a:lnTo>
                  <a:lnTo>
                    <a:pt x="75" y="257"/>
                  </a:lnTo>
                  <a:lnTo>
                    <a:pt x="90" y="249"/>
                  </a:lnTo>
                  <a:lnTo>
                    <a:pt x="98" y="241"/>
                  </a:lnTo>
                  <a:lnTo>
                    <a:pt x="113" y="234"/>
                  </a:lnTo>
                  <a:lnTo>
                    <a:pt x="128" y="226"/>
                  </a:lnTo>
                  <a:lnTo>
                    <a:pt x="136" y="219"/>
                  </a:lnTo>
                  <a:lnTo>
                    <a:pt x="158" y="211"/>
                  </a:lnTo>
                  <a:lnTo>
                    <a:pt x="174" y="204"/>
                  </a:lnTo>
                  <a:lnTo>
                    <a:pt x="181" y="196"/>
                  </a:lnTo>
                  <a:lnTo>
                    <a:pt x="211" y="181"/>
                  </a:lnTo>
                  <a:lnTo>
                    <a:pt x="226" y="181"/>
                  </a:lnTo>
                  <a:lnTo>
                    <a:pt x="234" y="173"/>
                  </a:lnTo>
                  <a:lnTo>
                    <a:pt x="264" y="158"/>
                  </a:lnTo>
                  <a:lnTo>
                    <a:pt x="279" y="158"/>
                  </a:lnTo>
                  <a:lnTo>
                    <a:pt x="294" y="151"/>
                  </a:lnTo>
                  <a:lnTo>
                    <a:pt x="332" y="143"/>
                  </a:lnTo>
                  <a:lnTo>
                    <a:pt x="347" y="136"/>
                  </a:lnTo>
                  <a:lnTo>
                    <a:pt x="362" y="128"/>
                  </a:lnTo>
                  <a:lnTo>
                    <a:pt x="400" y="121"/>
                  </a:lnTo>
                  <a:lnTo>
                    <a:pt x="415" y="113"/>
                  </a:lnTo>
                  <a:lnTo>
                    <a:pt x="431" y="113"/>
                  </a:lnTo>
                  <a:lnTo>
                    <a:pt x="468" y="98"/>
                  </a:lnTo>
                  <a:lnTo>
                    <a:pt x="491" y="98"/>
                  </a:lnTo>
                  <a:lnTo>
                    <a:pt x="506" y="90"/>
                  </a:lnTo>
                  <a:lnTo>
                    <a:pt x="551" y="83"/>
                  </a:lnTo>
                  <a:lnTo>
                    <a:pt x="567" y="83"/>
                  </a:lnTo>
                  <a:lnTo>
                    <a:pt x="589" y="75"/>
                  </a:lnTo>
                  <a:lnTo>
                    <a:pt x="635" y="68"/>
                  </a:lnTo>
                  <a:lnTo>
                    <a:pt x="650" y="60"/>
                  </a:lnTo>
                  <a:lnTo>
                    <a:pt x="672" y="60"/>
                  </a:lnTo>
                  <a:lnTo>
                    <a:pt x="718" y="53"/>
                  </a:lnTo>
                  <a:lnTo>
                    <a:pt x="740" y="53"/>
                  </a:lnTo>
                  <a:lnTo>
                    <a:pt x="763" y="45"/>
                  </a:lnTo>
                  <a:lnTo>
                    <a:pt x="808" y="37"/>
                  </a:lnTo>
                  <a:lnTo>
                    <a:pt x="831" y="37"/>
                  </a:lnTo>
                  <a:lnTo>
                    <a:pt x="854" y="37"/>
                  </a:lnTo>
                  <a:lnTo>
                    <a:pt x="899" y="30"/>
                  </a:lnTo>
                  <a:lnTo>
                    <a:pt x="929" y="22"/>
                  </a:lnTo>
                  <a:lnTo>
                    <a:pt x="952" y="22"/>
                  </a:lnTo>
                  <a:lnTo>
                    <a:pt x="997" y="22"/>
                  </a:lnTo>
                  <a:lnTo>
                    <a:pt x="1028" y="15"/>
                  </a:lnTo>
                  <a:lnTo>
                    <a:pt x="1050" y="15"/>
                  </a:lnTo>
                  <a:lnTo>
                    <a:pt x="1096" y="7"/>
                  </a:lnTo>
                  <a:lnTo>
                    <a:pt x="1126" y="7"/>
                  </a:lnTo>
                  <a:lnTo>
                    <a:pt x="1149" y="7"/>
                  </a:lnTo>
                  <a:lnTo>
                    <a:pt x="1202" y="7"/>
                  </a:lnTo>
                  <a:lnTo>
                    <a:pt x="1224" y="7"/>
                  </a:lnTo>
                  <a:lnTo>
                    <a:pt x="1254" y="0"/>
                  </a:lnTo>
                  <a:lnTo>
                    <a:pt x="1300" y="0"/>
                  </a:lnTo>
                  <a:lnTo>
                    <a:pt x="1330" y="0"/>
                  </a:lnTo>
                  <a:lnTo>
                    <a:pt x="1353" y="0"/>
                  </a:lnTo>
                  <a:lnTo>
                    <a:pt x="1406" y="0"/>
                  </a:lnTo>
                  <a:lnTo>
                    <a:pt x="1428" y="0"/>
                  </a:lnTo>
                  <a:lnTo>
                    <a:pt x="1459" y="0"/>
                  </a:lnTo>
                  <a:lnTo>
                    <a:pt x="1511" y="0"/>
                  </a:lnTo>
                  <a:lnTo>
                    <a:pt x="1534" y="0"/>
                  </a:lnTo>
                  <a:lnTo>
                    <a:pt x="1564" y="0"/>
                  </a:lnTo>
                  <a:lnTo>
                    <a:pt x="1610" y="0"/>
                  </a:lnTo>
                  <a:lnTo>
                    <a:pt x="1640" y="0"/>
                  </a:lnTo>
                  <a:lnTo>
                    <a:pt x="1663" y="0"/>
                  </a:lnTo>
                  <a:lnTo>
                    <a:pt x="1716" y="0"/>
                  </a:lnTo>
                  <a:lnTo>
                    <a:pt x="1738" y="7"/>
                  </a:lnTo>
                  <a:lnTo>
                    <a:pt x="1769" y="7"/>
                  </a:lnTo>
                  <a:lnTo>
                    <a:pt x="1814" y="7"/>
                  </a:lnTo>
                  <a:lnTo>
                    <a:pt x="1844" y="7"/>
                  </a:lnTo>
                  <a:lnTo>
                    <a:pt x="1867" y="7"/>
                  </a:lnTo>
                  <a:lnTo>
                    <a:pt x="1920" y="15"/>
                  </a:lnTo>
                  <a:lnTo>
                    <a:pt x="1942" y="15"/>
                  </a:lnTo>
                  <a:lnTo>
                    <a:pt x="1965" y="22"/>
                  </a:lnTo>
                  <a:lnTo>
                    <a:pt x="2018" y="22"/>
                  </a:lnTo>
                  <a:lnTo>
                    <a:pt x="2041" y="22"/>
                  </a:lnTo>
                  <a:lnTo>
                    <a:pt x="2063" y="30"/>
                  </a:lnTo>
                  <a:lnTo>
                    <a:pt x="2109" y="37"/>
                  </a:lnTo>
                  <a:lnTo>
                    <a:pt x="2131" y="37"/>
                  </a:lnTo>
                  <a:lnTo>
                    <a:pt x="2154" y="37"/>
                  </a:lnTo>
                  <a:lnTo>
                    <a:pt x="2207" y="45"/>
                  </a:lnTo>
                  <a:lnTo>
                    <a:pt x="2230" y="53"/>
                  </a:lnTo>
                  <a:lnTo>
                    <a:pt x="2245" y="53"/>
                  </a:lnTo>
                  <a:lnTo>
                    <a:pt x="2290" y="60"/>
                  </a:lnTo>
                  <a:lnTo>
                    <a:pt x="2313" y="60"/>
                  </a:lnTo>
                  <a:lnTo>
                    <a:pt x="2335" y="68"/>
                  </a:lnTo>
                  <a:lnTo>
                    <a:pt x="2381" y="75"/>
                  </a:lnTo>
                  <a:lnTo>
                    <a:pt x="2396" y="83"/>
                  </a:lnTo>
                  <a:lnTo>
                    <a:pt x="2419" y="83"/>
                  </a:lnTo>
                  <a:lnTo>
                    <a:pt x="2456" y="90"/>
                  </a:lnTo>
                  <a:lnTo>
                    <a:pt x="2479" y="98"/>
                  </a:lnTo>
                  <a:lnTo>
                    <a:pt x="2494" y="98"/>
                  </a:lnTo>
                  <a:lnTo>
                    <a:pt x="2532" y="113"/>
                  </a:lnTo>
                  <a:lnTo>
                    <a:pt x="2555" y="113"/>
                  </a:lnTo>
                  <a:lnTo>
                    <a:pt x="2570" y="121"/>
                  </a:lnTo>
                  <a:lnTo>
                    <a:pt x="2608" y="128"/>
                  </a:lnTo>
                  <a:lnTo>
                    <a:pt x="2623" y="136"/>
                  </a:lnTo>
                  <a:lnTo>
                    <a:pt x="2638" y="143"/>
                  </a:lnTo>
                  <a:lnTo>
                    <a:pt x="2668" y="151"/>
                  </a:lnTo>
                  <a:lnTo>
                    <a:pt x="2683" y="158"/>
                  </a:lnTo>
                  <a:lnTo>
                    <a:pt x="2698" y="158"/>
                  </a:lnTo>
                  <a:lnTo>
                    <a:pt x="2729" y="173"/>
                  </a:lnTo>
                  <a:lnTo>
                    <a:pt x="2744" y="181"/>
                  </a:lnTo>
                  <a:lnTo>
                    <a:pt x="2759" y="181"/>
                  </a:lnTo>
                  <a:lnTo>
                    <a:pt x="2781" y="196"/>
                  </a:lnTo>
                  <a:lnTo>
                    <a:pt x="2797" y="204"/>
                  </a:lnTo>
                  <a:lnTo>
                    <a:pt x="2804" y="211"/>
                  </a:lnTo>
                  <a:lnTo>
                    <a:pt x="2827" y="219"/>
                  </a:lnTo>
                  <a:lnTo>
                    <a:pt x="2842" y="226"/>
                  </a:lnTo>
                  <a:lnTo>
                    <a:pt x="2849" y="234"/>
                  </a:lnTo>
                  <a:lnTo>
                    <a:pt x="2872" y="241"/>
                  </a:lnTo>
                  <a:lnTo>
                    <a:pt x="2880" y="249"/>
                  </a:lnTo>
                  <a:lnTo>
                    <a:pt x="2887" y="257"/>
                  </a:lnTo>
                  <a:lnTo>
                    <a:pt x="2902" y="272"/>
                  </a:lnTo>
                  <a:lnTo>
                    <a:pt x="2910" y="279"/>
                  </a:lnTo>
                  <a:lnTo>
                    <a:pt x="2918" y="287"/>
                  </a:lnTo>
                  <a:lnTo>
                    <a:pt x="2933" y="294"/>
                  </a:lnTo>
                  <a:lnTo>
                    <a:pt x="2933" y="302"/>
                  </a:lnTo>
                  <a:lnTo>
                    <a:pt x="2940" y="309"/>
                  </a:lnTo>
                  <a:lnTo>
                    <a:pt x="2948" y="325"/>
                  </a:lnTo>
                  <a:lnTo>
                    <a:pt x="2955" y="332"/>
                  </a:lnTo>
                  <a:lnTo>
                    <a:pt x="2955" y="340"/>
                  </a:lnTo>
                  <a:lnTo>
                    <a:pt x="2963" y="347"/>
                  </a:lnTo>
                  <a:lnTo>
                    <a:pt x="2963" y="355"/>
                  </a:lnTo>
                  <a:lnTo>
                    <a:pt x="2963" y="362"/>
                  </a:lnTo>
                  <a:lnTo>
                    <a:pt x="2970" y="377"/>
                  </a:lnTo>
                  <a:lnTo>
                    <a:pt x="2970" y="385"/>
                  </a:lnTo>
                  <a:lnTo>
                    <a:pt x="2970" y="393"/>
                  </a:lnTo>
                  <a:lnTo>
                    <a:pt x="2963" y="400"/>
                  </a:lnTo>
                  <a:lnTo>
                    <a:pt x="2963" y="408"/>
                  </a:lnTo>
                  <a:lnTo>
                    <a:pt x="2963" y="415"/>
                  </a:lnTo>
                  <a:lnTo>
                    <a:pt x="2955" y="430"/>
                  </a:lnTo>
                  <a:lnTo>
                    <a:pt x="2955" y="438"/>
                  </a:lnTo>
                  <a:lnTo>
                    <a:pt x="2948" y="445"/>
                  </a:lnTo>
                  <a:lnTo>
                    <a:pt x="2940" y="453"/>
                  </a:lnTo>
                  <a:lnTo>
                    <a:pt x="2933" y="461"/>
                  </a:lnTo>
                  <a:lnTo>
                    <a:pt x="2933" y="468"/>
                  </a:lnTo>
                  <a:lnTo>
                    <a:pt x="2918" y="483"/>
                  </a:lnTo>
                  <a:lnTo>
                    <a:pt x="2910" y="491"/>
                  </a:lnTo>
                  <a:lnTo>
                    <a:pt x="2902" y="498"/>
                  </a:lnTo>
                  <a:lnTo>
                    <a:pt x="2887" y="506"/>
                  </a:lnTo>
                  <a:lnTo>
                    <a:pt x="2880" y="513"/>
                  </a:lnTo>
                  <a:lnTo>
                    <a:pt x="2872" y="521"/>
                  </a:lnTo>
                  <a:lnTo>
                    <a:pt x="2849" y="536"/>
                  </a:lnTo>
                  <a:lnTo>
                    <a:pt x="2842" y="536"/>
                  </a:lnTo>
                  <a:lnTo>
                    <a:pt x="2827" y="544"/>
                  </a:lnTo>
                  <a:lnTo>
                    <a:pt x="2804" y="559"/>
                  </a:lnTo>
                  <a:lnTo>
                    <a:pt x="2797" y="566"/>
                  </a:lnTo>
                  <a:lnTo>
                    <a:pt x="1481" y="385"/>
                  </a:lnTo>
                  <a:lnTo>
                    <a:pt x="1224" y="763"/>
                  </a:lnTo>
                  <a:close/>
                </a:path>
              </a:pathLst>
            </a:custGeom>
            <a:solidFill>
              <a:srgbClr val="94143a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73720" y="4583160"/>
              <a:ext cx="2495520" cy="971280"/>
            </a:xfrm>
            <a:custGeom>
              <a:avLst/>
              <a:gdLst/>
              <a:ahLst/>
              <a:rect l="l" t="t" r="r" b="b"/>
              <a:pathLst>
                <a:path w="1572" h="612">
                  <a:moveTo>
                    <a:pt x="1572" y="0"/>
                  </a:moveTo>
                  <a:lnTo>
                    <a:pt x="1557" y="0"/>
                  </a:lnTo>
                  <a:lnTo>
                    <a:pt x="1534" y="15"/>
                  </a:lnTo>
                  <a:lnTo>
                    <a:pt x="1519" y="22"/>
                  </a:lnTo>
                  <a:lnTo>
                    <a:pt x="1504" y="30"/>
                  </a:lnTo>
                  <a:lnTo>
                    <a:pt x="1474" y="37"/>
                  </a:lnTo>
                  <a:lnTo>
                    <a:pt x="1459" y="45"/>
                  </a:lnTo>
                  <a:lnTo>
                    <a:pt x="1444" y="45"/>
                  </a:lnTo>
                  <a:lnTo>
                    <a:pt x="1413" y="60"/>
                  </a:lnTo>
                  <a:lnTo>
                    <a:pt x="1398" y="68"/>
                  </a:lnTo>
                  <a:lnTo>
                    <a:pt x="1383" y="68"/>
                  </a:lnTo>
                  <a:lnTo>
                    <a:pt x="1345" y="83"/>
                  </a:lnTo>
                  <a:lnTo>
                    <a:pt x="1330" y="83"/>
                  </a:lnTo>
                  <a:lnTo>
                    <a:pt x="1308" y="90"/>
                  </a:lnTo>
                  <a:lnTo>
                    <a:pt x="1270" y="98"/>
                  </a:lnTo>
                  <a:lnTo>
                    <a:pt x="1255" y="105"/>
                  </a:lnTo>
                  <a:lnTo>
                    <a:pt x="1232" y="105"/>
                  </a:lnTo>
                  <a:lnTo>
                    <a:pt x="1194" y="113"/>
                  </a:lnTo>
                  <a:lnTo>
                    <a:pt x="1171" y="121"/>
                  </a:lnTo>
                  <a:lnTo>
                    <a:pt x="1156" y="121"/>
                  </a:lnTo>
                  <a:lnTo>
                    <a:pt x="1111" y="136"/>
                  </a:lnTo>
                  <a:lnTo>
                    <a:pt x="1088" y="136"/>
                  </a:lnTo>
                  <a:lnTo>
                    <a:pt x="1066" y="143"/>
                  </a:lnTo>
                  <a:lnTo>
                    <a:pt x="1020" y="143"/>
                  </a:lnTo>
                  <a:lnTo>
                    <a:pt x="1005" y="151"/>
                  </a:lnTo>
                  <a:lnTo>
                    <a:pt x="982" y="151"/>
                  </a:lnTo>
                  <a:lnTo>
                    <a:pt x="930" y="158"/>
                  </a:lnTo>
                  <a:lnTo>
                    <a:pt x="907" y="166"/>
                  </a:lnTo>
                  <a:lnTo>
                    <a:pt x="884" y="166"/>
                  </a:lnTo>
                  <a:lnTo>
                    <a:pt x="839" y="173"/>
                  </a:lnTo>
                  <a:lnTo>
                    <a:pt x="816" y="173"/>
                  </a:lnTo>
                  <a:lnTo>
                    <a:pt x="794" y="173"/>
                  </a:lnTo>
                  <a:lnTo>
                    <a:pt x="741" y="181"/>
                  </a:lnTo>
                  <a:lnTo>
                    <a:pt x="718" y="181"/>
                  </a:lnTo>
                  <a:lnTo>
                    <a:pt x="695" y="189"/>
                  </a:lnTo>
                  <a:lnTo>
                    <a:pt x="642" y="189"/>
                  </a:lnTo>
                  <a:lnTo>
                    <a:pt x="620" y="189"/>
                  </a:lnTo>
                  <a:lnTo>
                    <a:pt x="589" y="189"/>
                  </a:lnTo>
                  <a:lnTo>
                    <a:pt x="544" y="196"/>
                  </a:lnTo>
                  <a:lnTo>
                    <a:pt x="514" y="196"/>
                  </a:lnTo>
                  <a:lnTo>
                    <a:pt x="491" y="196"/>
                  </a:lnTo>
                  <a:lnTo>
                    <a:pt x="438" y="196"/>
                  </a:lnTo>
                  <a:lnTo>
                    <a:pt x="416" y="196"/>
                  </a:lnTo>
                  <a:lnTo>
                    <a:pt x="385" y="204"/>
                  </a:lnTo>
                  <a:lnTo>
                    <a:pt x="340" y="204"/>
                  </a:lnTo>
                  <a:lnTo>
                    <a:pt x="310" y="204"/>
                  </a:lnTo>
                  <a:lnTo>
                    <a:pt x="287" y="204"/>
                  </a:lnTo>
                  <a:lnTo>
                    <a:pt x="234" y="204"/>
                  </a:lnTo>
                  <a:lnTo>
                    <a:pt x="204" y="204"/>
                  </a:lnTo>
                  <a:lnTo>
                    <a:pt x="181" y="204"/>
                  </a:lnTo>
                  <a:lnTo>
                    <a:pt x="128" y="204"/>
                  </a:lnTo>
                  <a:lnTo>
                    <a:pt x="106" y="196"/>
                  </a:lnTo>
                  <a:lnTo>
                    <a:pt x="75" y="196"/>
                  </a:lnTo>
                  <a:lnTo>
                    <a:pt x="30" y="196"/>
                  </a:lnTo>
                  <a:lnTo>
                    <a:pt x="0" y="196"/>
                  </a:lnTo>
                  <a:lnTo>
                    <a:pt x="0" y="604"/>
                  </a:lnTo>
                  <a:lnTo>
                    <a:pt x="30" y="604"/>
                  </a:lnTo>
                  <a:lnTo>
                    <a:pt x="75" y="604"/>
                  </a:lnTo>
                  <a:lnTo>
                    <a:pt x="106" y="604"/>
                  </a:lnTo>
                  <a:lnTo>
                    <a:pt x="128" y="612"/>
                  </a:lnTo>
                  <a:lnTo>
                    <a:pt x="181" y="612"/>
                  </a:lnTo>
                  <a:lnTo>
                    <a:pt x="204" y="612"/>
                  </a:lnTo>
                  <a:lnTo>
                    <a:pt x="234" y="612"/>
                  </a:lnTo>
                  <a:lnTo>
                    <a:pt x="287" y="612"/>
                  </a:lnTo>
                  <a:lnTo>
                    <a:pt x="310" y="612"/>
                  </a:lnTo>
                  <a:lnTo>
                    <a:pt x="340" y="612"/>
                  </a:lnTo>
                  <a:lnTo>
                    <a:pt x="385" y="612"/>
                  </a:lnTo>
                  <a:lnTo>
                    <a:pt x="416" y="604"/>
                  </a:lnTo>
                  <a:lnTo>
                    <a:pt x="438" y="604"/>
                  </a:lnTo>
                  <a:lnTo>
                    <a:pt x="491" y="604"/>
                  </a:lnTo>
                  <a:lnTo>
                    <a:pt x="514" y="604"/>
                  </a:lnTo>
                  <a:lnTo>
                    <a:pt x="544" y="604"/>
                  </a:lnTo>
                  <a:lnTo>
                    <a:pt x="589" y="597"/>
                  </a:lnTo>
                  <a:lnTo>
                    <a:pt x="620" y="597"/>
                  </a:lnTo>
                  <a:lnTo>
                    <a:pt x="642" y="597"/>
                  </a:lnTo>
                  <a:lnTo>
                    <a:pt x="695" y="597"/>
                  </a:lnTo>
                  <a:lnTo>
                    <a:pt x="718" y="589"/>
                  </a:lnTo>
                  <a:lnTo>
                    <a:pt x="741" y="589"/>
                  </a:lnTo>
                  <a:lnTo>
                    <a:pt x="794" y="581"/>
                  </a:lnTo>
                  <a:lnTo>
                    <a:pt x="816" y="581"/>
                  </a:lnTo>
                  <a:lnTo>
                    <a:pt x="839" y="581"/>
                  </a:lnTo>
                  <a:lnTo>
                    <a:pt x="884" y="574"/>
                  </a:lnTo>
                  <a:lnTo>
                    <a:pt x="907" y="574"/>
                  </a:lnTo>
                  <a:lnTo>
                    <a:pt x="930" y="566"/>
                  </a:lnTo>
                  <a:lnTo>
                    <a:pt x="982" y="559"/>
                  </a:lnTo>
                  <a:lnTo>
                    <a:pt x="1005" y="559"/>
                  </a:lnTo>
                  <a:lnTo>
                    <a:pt x="1020" y="551"/>
                  </a:lnTo>
                  <a:lnTo>
                    <a:pt x="1066" y="551"/>
                  </a:lnTo>
                  <a:lnTo>
                    <a:pt x="1088" y="544"/>
                  </a:lnTo>
                  <a:lnTo>
                    <a:pt x="1111" y="544"/>
                  </a:lnTo>
                  <a:lnTo>
                    <a:pt x="1156" y="529"/>
                  </a:lnTo>
                  <a:lnTo>
                    <a:pt x="1171" y="529"/>
                  </a:lnTo>
                  <a:lnTo>
                    <a:pt x="1194" y="521"/>
                  </a:lnTo>
                  <a:lnTo>
                    <a:pt x="1232" y="513"/>
                  </a:lnTo>
                  <a:lnTo>
                    <a:pt x="1255" y="513"/>
                  </a:lnTo>
                  <a:lnTo>
                    <a:pt x="1270" y="506"/>
                  </a:lnTo>
                  <a:lnTo>
                    <a:pt x="1308" y="498"/>
                  </a:lnTo>
                  <a:lnTo>
                    <a:pt x="1330" y="491"/>
                  </a:lnTo>
                  <a:lnTo>
                    <a:pt x="1345" y="491"/>
                  </a:lnTo>
                  <a:lnTo>
                    <a:pt x="1383" y="476"/>
                  </a:lnTo>
                  <a:lnTo>
                    <a:pt x="1398" y="476"/>
                  </a:lnTo>
                  <a:lnTo>
                    <a:pt x="1413" y="468"/>
                  </a:lnTo>
                  <a:lnTo>
                    <a:pt x="1444" y="453"/>
                  </a:lnTo>
                  <a:lnTo>
                    <a:pt x="1459" y="453"/>
                  </a:lnTo>
                  <a:lnTo>
                    <a:pt x="1474" y="445"/>
                  </a:lnTo>
                  <a:lnTo>
                    <a:pt x="1504" y="438"/>
                  </a:lnTo>
                  <a:lnTo>
                    <a:pt x="1519" y="430"/>
                  </a:lnTo>
                  <a:lnTo>
                    <a:pt x="1534" y="423"/>
                  </a:lnTo>
                  <a:lnTo>
                    <a:pt x="1557" y="408"/>
                  </a:lnTo>
                  <a:lnTo>
                    <a:pt x="1572" y="408"/>
                  </a:lnTo>
                  <a:lnTo>
                    <a:pt x="1572" y="0"/>
                  </a:lnTo>
                  <a:close/>
                </a:path>
              </a:pathLst>
            </a:custGeom>
            <a:solidFill>
              <a:srgbClr val="ff99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3720" y="4294080"/>
              <a:ext cx="2495520" cy="612720"/>
            </a:xfrm>
            <a:custGeom>
              <a:avLst/>
              <a:gdLst/>
              <a:ahLst/>
              <a:rect l="l" t="t" r="r" b="b"/>
              <a:pathLst>
                <a:path w="1572" h="386">
                  <a:moveTo>
                    <a:pt x="1572" y="182"/>
                  </a:moveTo>
                  <a:lnTo>
                    <a:pt x="1557" y="182"/>
                  </a:lnTo>
                  <a:lnTo>
                    <a:pt x="1534" y="197"/>
                  </a:lnTo>
                  <a:lnTo>
                    <a:pt x="1519" y="204"/>
                  </a:lnTo>
                  <a:lnTo>
                    <a:pt x="1504" y="212"/>
                  </a:lnTo>
                  <a:lnTo>
                    <a:pt x="1474" y="219"/>
                  </a:lnTo>
                  <a:lnTo>
                    <a:pt x="1459" y="227"/>
                  </a:lnTo>
                  <a:lnTo>
                    <a:pt x="1444" y="227"/>
                  </a:lnTo>
                  <a:lnTo>
                    <a:pt x="1413" y="242"/>
                  </a:lnTo>
                  <a:lnTo>
                    <a:pt x="1398" y="250"/>
                  </a:lnTo>
                  <a:lnTo>
                    <a:pt x="1383" y="250"/>
                  </a:lnTo>
                  <a:lnTo>
                    <a:pt x="1345" y="265"/>
                  </a:lnTo>
                  <a:lnTo>
                    <a:pt x="1330" y="265"/>
                  </a:lnTo>
                  <a:lnTo>
                    <a:pt x="1308" y="272"/>
                  </a:lnTo>
                  <a:lnTo>
                    <a:pt x="1270" y="280"/>
                  </a:lnTo>
                  <a:lnTo>
                    <a:pt x="1255" y="287"/>
                  </a:lnTo>
                  <a:lnTo>
                    <a:pt x="1232" y="287"/>
                  </a:lnTo>
                  <a:lnTo>
                    <a:pt x="1194" y="295"/>
                  </a:lnTo>
                  <a:lnTo>
                    <a:pt x="1171" y="303"/>
                  </a:lnTo>
                  <a:lnTo>
                    <a:pt x="1156" y="303"/>
                  </a:lnTo>
                  <a:lnTo>
                    <a:pt x="1111" y="318"/>
                  </a:lnTo>
                  <a:lnTo>
                    <a:pt x="1088" y="318"/>
                  </a:lnTo>
                  <a:lnTo>
                    <a:pt x="1066" y="325"/>
                  </a:lnTo>
                  <a:lnTo>
                    <a:pt x="1020" y="325"/>
                  </a:lnTo>
                  <a:lnTo>
                    <a:pt x="1005" y="333"/>
                  </a:lnTo>
                  <a:lnTo>
                    <a:pt x="982" y="333"/>
                  </a:lnTo>
                  <a:lnTo>
                    <a:pt x="930" y="340"/>
                  </a:lnTo>
                  <a:lnTo>
                    <a:pt x="907" y="348"/>
                  </a:lnTo>
                  <a:lnTo>
                    <a:pt x="884" y="348"/>
                  </a:lnTo>
                  <a:lnTo>
                    <a:pt x="839" y="355"/>
                  </a:lnTo>
                  <a:lnTo>
                    <a:pt x="816" y="355"/>
                  </a:lnTo>
                  <a:lnTo>
                    <a:pt x="794" y="355"/>
                  </a:lnTo>
                  <a:lnTo>
                    <a:pt x="741" y="363"/>
                  </a:lnTo>
                  <a:lnTo>
                    <a:pt x="718" y="363"/>
                  </a:lnTo>
                  <a:lnTo>
                    <a:pt x="695" y="371"/>
                  </a:lnTo>
                  <a:lnTo>
                    <a:pt x="642" y="371"/>
                  </a:lnTo>
                  <a:lnTo>
                    <a:pt x="620" y="371"/>
                  </a:lnTo>
                  <a:lnTo>
                    <a:pt x="589" y="371"/>
                  </a:lnTo>
                  <a:lnTo>
                    <a:pt x="544" y="378"/>
                  </a:lnTo>
                  <a:lnTo>
                    <a:pt x="514" y="378"/>
                  </a:lnTo>
                  <a:lnTo>
                    <a:pt x="491" y="378"/>
                  </a:lnTo>
                  <a:lnTo>
                    <a:pt x="438" y="378"/>
                  </a:lnTo>
                  <a:lnTo>
                    <a:pt x="416" y="378"/>
                  </a:lnTo>
                  <a:lnTo>
                    <a:pt x="385" y="386"/>
                  </a:lnTo>
                  <a:lnTo>
                    <a:pt x="340" y="386"/>
                  </a:lnTo>
                  <a:lnTo>
                    <a:pt x="310" y="386"/>
                  </a:lnTo>
                  <a:lnTo>
                    <a:pt x="287" y="386"/>
                  </a:lnTo>
                  <a:lnTo>
                    <a:pt x="234" y="386"/>
                  </a:lnTo>
                  <a:lnTo>
                    <a:pt x="204" y="386"/>
                  </a:lnTo>
                  <a:lnTo>
                    <a:pt x="181" y="386"/>
                  </a:lnTo>
                  <a:lnTo>
                    <a:pt x="128" y="386"/>
                  </a:lnTo>
                  <a:lnTo>
                    <a:pt x="106" y="378"/>
                  </a:lnTo>
                  <a:lnTo>
                    <a:pt x="75" y="378"/>
                  </a:lnTo>
                  <a:lnTo>
                    <a:pt x="30" y="378"/>
                  </a:lnTo>
                  <a:lnTo>
                    <a:pt x="0" y="378"/>
                  </a:lnTo>
                  <a:lnTo>
                    <a:pt x="257" y="0"/>
                  </a:lnTo>
                  <a:lnTo>
                    <a:pt x="1572" y="182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855720" y="1054080"/>
          <a:ext cx="98424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054080"/>
                    <a:ext cx="9842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5029920" y="5661000"/>
            <a:ext cx="34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Bookman Old Style"/>
              </a:rPr>
              <a:t>30% BATTE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0360" y="282888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70% VI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01560" y="1054080"/>
            <a:ext cx="43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EZIOLOGIA DE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FARINGOTONSILL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652320" y="1054080"/>
            <a:ext cx="7848360" cy="5499000"/>
            <a:chOff x="652320" y="1054080"/>
            <a:chExt cx="7848360" cy="5499000"/>
          </a:xfrm>
        </p:grpSpPr>
        <p:sp>
          <p:nvSpPr>
            <p:cNvPr id="537" name=""/>
            <p:cNvSpPr/>
            <p:nvPr/>
          </p:nvSpPr>
          <p:spPr>
            <a:xfrm>
              <a:off x="6291000" y="6134040"/>
              <a:ext cx="2209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&gt;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2320" y="6134040"/>
              <a:ext cx="5638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Chlamydia pneumoni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1000" y="5715720"/>
              <a:ext cx="2209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2320" y="5715720"/>
              <a:ext cx="5638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Mycoplasma pneumoni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1000" y="5297040"/>
              <a:ext cx="2209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2320" y="5297040"/>
              <a:ext cx="5638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Aerobi-anaerobi mis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91000" y="4878720"/>
              <a:ext cx="2209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2320" y="4878720"/>
              <a:ext cx="5638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Francisella tularen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91000" y="4459680"/>
              <a:ext cx="2209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2320" y="4459680"/>
              <a:ext cx="5638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Yersinia pest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91000" y="4041000"/>
              <a:ext cx="2209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2320" y="4041000"/>
              <a:ext cx="5638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Yersinia enterocoli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91000" y="3622680"/>
              <a:ext cx="2209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2320" y="3622680"/>
              <a:ext cx="5638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Treponema pallid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91000" y="3204000"/>
              <a:ext cx="2209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2320" y="3204000"/>
              <a:ext cx="5638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Neisseria gonorrhoe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1000" y="2785320"/>
              <a:ext cx="2209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2320" y="2785320"/>
              <a:ext cx="5638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Arcanobacterium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haemolytic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91000" y="2366640"/>
              <a:ext cx="2209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2320" y="2366640"/>
              <a:ext cx="5638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man Old Style"/>
                </a:rPr>
                <a:t>Corynebacterium diphteri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91000" y="1948320"/>
              <a:ext cx="2209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5-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2320" y="1948320"/>
              <a:ext cx="5638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Bookman Old Style"/>
                </a:rPr>
                <a:t>Streptococchi ß-emol. (gr.C e 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91000" y="1529640"/>
              <a:ext cx="2209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5-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2320" y="1529640"/>
              <a:ext cx="5638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Streptococco ß emolitico  gr.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91000" y="1054080"/>
              <a:ext cx="2209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66"/>
                  </a:solidFill>
                  <a:latin typeface="Bookman Old Style"/>
                </a:rPr>
                <a:t>INCIDENZA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52320" y="1054080"/>
              <a:ext cx="5638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66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666666"/>
                  </a:solidFill>
                  <a:latin typeface="Bookman Old Style"/>
                </a:rPr>
                <a:t>BATTE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2320" y="105408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2320" y="152964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2320" y="194832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2320" y="236664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320" y="278532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2320" y="320400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2320" y="362268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2320" y="404100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2320" y="445968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320" y="487872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2320" y="529704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2320" y="571572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2320" y="6134040"/>
              <a:ext cx="78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2320" y="6553080"/>
              <a:ext cx="7848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2320" y="1054080"/>
              <a:ext cx="0" cy="5499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1000" y="1054080"/>
              <a:ext cx="0" cy="54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00680" y="1054080"/>
              <a:ext cx="0" cy="5499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6750000" y="1511280"/>
            <a:ext cx="1295280" cy="838080"/>
          </a:xfrm>
          <a:prstGeom prst="ellipse">
            <a:avLst/>
          </a:prstGeom>
          <a:noFill/>
          <a:ln w="57240">
            <a:solidFill>
              <a:srgbClr val="94143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61680" y="2230560"/>
            <a:ext cx="77835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192240">
              <a:lnSpc>
                <a:spcPct val="95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Penicillina G benzatina: 1.200.000 U dose sing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92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(600.000 U in bambini &lt;3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92240">
              <a:lnSpc>
                <a:spcPct val="95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92240">
              <a:lnSpc>
                <a:spcPct val="95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Penicillina V o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92240">
              <a:lnSpc>
                <a:spcPct val="95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92240">
              <a:lnSpc>
                <a:spcPct val="95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efalosporine or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92240">
              <a:lnSpc>
                <a:spcPct val="95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92240">
              <a:lnSpc>
                <a:spcPct val="95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Amoxicillina o  amoxi/clavulanico per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92240">
              <a:lnSpc>
                <a:spcPct val="95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92240">
              <a:lnSpc>
                <a:spcPct val="95000"/>
              </a:lnSpc>
              <a:buClr>
                <a:srgbClr val="94143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Eritromicina (altri macroli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0480" y="1054800"/>
            <a:ext cx="7772400" cy="55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40186" dir="109635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 Antiqua"/>
              </a:rPr>
              <a:t>Faringitonsillite streptococcica: terapi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9960" y="6130800"/>
            <a:ext cx="203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en-US" sz="1800" spc="-1" strike="noStrike">
                <a:solidFill>
                  <a:srgbClr val="666666"/>
                </a:solidFill>
                <a:latin typeface="Bookman Old Style"/>
              </a:rPr>
              <a:t> La Rosa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3144960"/>
            <a:ext cx="761760" cy="761760"/>
          </a:xfrm>
          <a:prstGeom prst="noSmoking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33280" y="1658520"/>
            <a:ext cx="8686800" cy="3886200"/>
          </a:xfrm>
          <a:prstGeom prst="rect">
            <a:avLst/>
          </a:prstGeom>
          <a:solidFill>
            <a:srgbClr val="ffcc99"/>
          </a:solidFill>
          <a:ln w="57240">
            <a:solidFill>
              <a:srgbClr val="94143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Tutti i ceppi di </a:t>
            </a:r>
            <a:r>
              <a:rPr b="1" i="1" lang="en-US" sz="4000" spc="-1" strike="noStrike">
                <a:solidFill>
                  <a:srgbClr val="94143a"/>
                </a:solidFill>
                <a:latin typeface="Bookman Old Style"/>
              </a:rPr>
              <a:t>S. pyogenes</a:t>
            </a: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 sono sensibili </a:t>
            </a:r>
            <a:r>
              <a:rPr b="1" i="1" lang="en-US" sz="4000" spc="-1" strike="noStrike">
                <a:solidFill>
                  <a:srgbClr val="94143a"/>
                </a:solidFill>
                <a:latin typeface="Bookman Old Style"/>
              </a:rPr>
              <a:t>“in vitro”</a:t>
            </a:r>
            <a:br>
              <a:rPr sz="4000"/>
            </a:b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alla penicilli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2560" y="1053720"/>
            <a:ext cx="7788240" cy="738360"/>
          </a:xfrm>
          <a:prstGeom prst="rect">
            <a:avLst/>
          </a:prstGeom>
          <a:solidFill>
            <a:srgbClr val="ffffcc"/>
          </a:solidFill>
          <a:ln w="2844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PENICILL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36040" y="2266560"/>
            <a:ext cx="8121960" cy="4257720"/>
          </a:xfrm>
          <a:prstGeom prst="rect">
            <a:avLst/>
          </a:prstGeom>
          <a:noFill/>
          <a:ln w="2844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ALLA ECCELLENTE ATTIVIT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4143a"/>
                </a:solidFill>
                <a:latin typeface="Bookman Old Style"/>
              </a:rPr>
              <a:t>“</a:t>
            </a:r>
            <a:r>
              <a:rPr b="1" i="1" lang="en-US" sz="3200" spc="-1" strike="noStrike">
                <a:solidFill>
                  <a:srgbClr val="94143a"/>
                </a:solidFill>
                <a:latin typeface="Bookman Old Style"/>
              </a:rPr>
              <a:t>IN VITRO”</a:t>
            </a: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 NON CORRISPONDE UN’ALTRETTANTA CAPACIT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DI ERADI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CIRCA IL 20 % DI </a:t>
            </a:r>
            <a:r>
              <a:rPr b="1" i="1" lang="en-US" sz="3200" spc="-1" strike="noStrike">
                <a:solidFill>
                  <a:srgbClr val="94143a"/>
                </a:solidFill>
                <a:latin typeface="Bookman Old Style"/>
              </a:rPr>
              <a:t>S. PYO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NON VIENE ERADIC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DALLA TERAPIA CON PENICILLINA</a:t>
            </a:r>
            <a:r>
              <a:rPr b="0" lang="en-US" sz="3200" spc="-1" strike="noStrike">
                <a:solidFill>
                  <a:srgbClr val="94143a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gura2" descr=""/>
          <p:cNvPicPr/>
          <p:nvPr/>
        </p:nvPicPr>
        <p:blipFill>
          <a:blip r:embed="rId1"/>
          <a:stretch/>
        </p:blipFill>
        <p:spPr>
          <a:xfrm>
            <a:off x="281160" y="1317600"/>
            <a:ext cx="1803240" cy="2882880"/>
          </a:xfrm>
          <a:prstGeom prst="rect">
            <a:avLst/>
          </a:prstGeom>
          <a:ln w="38160">
            <a:solidFill>
              <a:srgbClr val="969696">
                <a:alpha val="50000"/>
              </a:srgbClr>
            </a:solidFill>
            <a:miter/>
          </a:ln>
        </p:spPr>
      </p:pic>
      <p:pic>
        <p:nvPicPr>
          <p:cNvPr id="69" name="Figura3" descr=""/>
          <p:cNvPicPr/>
          <p:nvPr/>
        </p:nvPicPr>
        <p:blipFill>
          <a:blip r:embed="rId2"/>
          <a:stretch/>
        </p:blipFill>
        <p:spPr>
          <a:xfrm>
            <a:off x="6932520" y="1371600"/>
            <a:ext cx="1981440" cy="3189240"/>
          </a:xfrm>
          <a:prstGeom prst="rect">
            <a:avLst/>
          </a:prstGeom>
          <a:ln w="38160">
            <a:solidFill>
              <a:srgbClr val="969696">
                <a:alpha val="50000"/>
              </a:srgbClr>
            </a:solidFill>
            <a:miter/>
          </a:ln>
        </p:spPr>
      </p:pic>
      <p:pic>
        <p:nvPicPr>
          <p:cNvPr id="70" name="Figura4" descr=""/>
          <p:cNvPicPr/>
          <p:nvPr/>
        </p:nvPicPr>
        <p:blipFill>
          <a:blip r:embed="rId3"/>
          <a:stretch/>
        </p:blipFill>
        <p:spPr>
          <a:xfrm>
            <a:off x="2550960" y="3573360"/>
            <a:ext cx="4050000" cy="2664000"/>
          </a:xfrm>
          <a:prstGeom prst="rect">
            <a:avLst/>
          </a:prstGeom>
          <a:ln w="38160">
            <a:solidFill>
              <a:srgbClr val="969696">
                <a:alpha val="50000"/>
              </a:srgbClr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237480" y="946080"/>
            <a:ext cx="2678400" cy="642600"/>
          </a:xfrm>
          <a:prstGeom prst="rect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Scarlat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11360" y="1054080"/>
            <a:ext cx="7772400" cy="119124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 Antiqua"/>
              </a:rPr>
              <a:t>Metanalisi degli studi comparativi tra Penicilline e Cefalosporine orali nella terapia della FT da SB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49880" y="2684520"/>
            <a:ext cx="331776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12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9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2160" y="2674800"/>
            <a:ext cx="375912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Nr. stu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Nr. ca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Fallimento microbi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Nr. stu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Nr. ca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Fallimento cli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17720" y="2730600"/>
            <a:ext cx="6959520" cy="4680"/>
          </a:xfrm>
          <a:prstGeom prst="line">
            <a:avLst/>
          </a:prstGeom>
          <a:ln cap="sq"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17720" y="5784840"/>
            <a:ext cx="6959520" cy="0"/>
          </a:xfrm>
          <a:prstGeom prst="line">
            <a:avLst/>
          </a:prstGeom>
          <a:ln cap="sq"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11240" y="2732040"/>
            <a:ext cx="0" cy="3033720"/>
          </a:xfrm>
          <a:prstGeom prst="line">
            <a:avLst/>
          </a:prstGeom>
          <a:ln cap="sq"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751280" y="2736720"/>
            <a:ext cx="0" cy="3033720"/>
          </a:xfrm>
          <a:prstGeom prst="line">
            <a:avLst/>
          </a:prstGeom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275520" y="2736720"/>
            <a:ext cx="0" cy="3033720"/>
          </a:xfrm>
          <a:prstGeom prst="line">
            <a:avLst/>
          </a:prstGeom>
          <a:ln cap="sq"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45800" y="5884920"/>
            <a:ext cx="32439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4143a"/>
                </a:solidFill>
                <a:latin typeface="Bookman Old Style"/>
              </a:rPr>
              <a:t>* p &lt;0,0001</a:t>
            </a:r>
            <a:r>
              <a:rPr b="1" lang="en-US" sz="18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94143a"/>
                </a:solidFill>
                <a:latin typeface="Bookman Old Style"/>
              </a:rPr>
              <a:t>** p &lt;0,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66800" y="6303960"/>
            <a:ext cx="236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 Pichichero, 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008920" y="2755800"/>
            <a:ext cx="0" cy="3033720"/>
          </a:xfrm>
          <a:prstGeom prst="line">
            <a:avLst/>
          </a:prstGeom>
          <a:ln cap="sq"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21800" y="2127240"/>
            <a:ext cx="6912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38920" y="2127240"/>
            <a:ext cx="7567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9440" y="2787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08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31360" y="3613320"/>
            <a:ext cx="8406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6%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28840" y="41022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34240" y="45021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8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82400" y="4921200"/>
            <a:ext cx="9792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1%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444760" y="4506840"/>
            <a:ext cx="1130400" cy="44460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10520" y="4068720"/>
            <a:ext cx="34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575160" y="3516480"/>
            <a:ext cx="1130040" cy="143496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60200" y="3043080"/>
            <a:ext cx="74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2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11680" y="3745080"/>
            <a:ext cx="1130400" cy="120636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23720" y="3287880"/>
            <a:ext cx="74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2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854680" y="3973680"/>
            <a:ext cx="1130400" cy="97776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42160" y="3490920"/>
            <a:ext cx="98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2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91200" y="3516480"/>
            <a:ext cx="1130400" cy="143496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67520" y="3044880"/>
            <a:ext cx="98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2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1530360"/>
            <a:ext cx="0" cy="28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44760" y="5535720"/>
            <a:ext cx="631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4360" y="2271600"/>
            <a:ext cx="325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% di ricor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di FTS entro</a:t>
            </a:r>
            <a:r>
              <a:rPr b="1" lang="it-IT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Bookman Old Style"/>
              </a:rPr>
              <a:t>30 gg</a:t>
            </a:r>
            <a:r>
              <a:rPr b="1" lang="it-IT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dal precedente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82920" y="5057640"/>
            <a:ext cx="101448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1975-19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25920" y="5057640"/>
            <a:ext cx="100944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1980-198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09960" y="5057640"/>
            <a:ext cx="97488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1985-198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989680" y="5057640"/>
            <a:ext cx="93816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1990-19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075440" y="5057640"/>
            <a:ext cx="97632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-199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27000" y="6095880"/>
            <a:ext cx="5181840" cy="36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Pichichero ME, </a:t>
            </a:r>
            <a:r>
              <a:rPr b="1" i="1" lang="it-IT" sz="1800" spc="-1" strike="noStrike">
                <a:solidFill>
                  <a:srgbClr val="666666"/>
                </a:solidFill>
                <a:latin typeface="Bookman Old Style"/>
              </a:rPr>
              <a:t>Pediatr Infect Dis J</a:t>
            </a: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90720" y="1054080"/>
            <a:ext cx="7340400" cy="10026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FT ricorrenti da Streptococ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ß-emolitico gruppo 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264360" y="2300400"/>
            <a:ext cx="1724040" cy="520560"/>
          </a:xfrm>
          <a:prstGeom prst="rect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61360" y="2352600"/>
            <a:ext cx="1077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p&lt;0.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209680" y="1974960"/>
            <a:ext cx="0" cy="28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27000" y="1054080"/>
            <a:ext cx="7340760" cy="10026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FT ricorrenti da Streptococ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b-emolitico gruppo 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47840" y="5064120"/>
            <a:ext cx="866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1975-1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95520" y="5064120"/>
            <a:ext cx="905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1980-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16560" y="5064120"/>
            <a:ext cx="906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1985-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86560" y="5064120"/>
            <a:ext cx="88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1990-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8680" y="5064120"/>
            <a:ext cx="906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-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133720" y="4551480"/>
            <a:ext cx="1130040" cy="374400"/>
          </a:xfrm>
          <a:prstGeom prst="rect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49440" y="4113360"/>
            <a:ext cx="5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6720" y="3490920"/>
            <a:ext cx="1130040" cy="1434960"/>
          </a:xfrm>
          <a:prstGeom prst="rect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87320" y="3046320"/>
            <a:ext cx="74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38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40240" y="3332160"/>
            <a:ext cx="1130400" cy="1593720"/>
          </a:xfrm>
          <a:prstGeom prst="rect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0120" y="2962440"/>
            <a:ext cx="5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83240" y="3948120"/>
            <a:ext cx="1130400" cy="977760"/>
          </a:xfrm>
          <a:prstGeom prst="rect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67480" y="3513240"/>
            <a:ext cx="98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3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726240" y="3490920"/>
            <a:ext cx="1130400" cy="1434960"/>
          </a:xfrm>
          <a:prstGeom prst="rect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89600" y="3070080"/>
            <a:ext cx="98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37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280" y="2306520"/>
            <a:ext cx="3346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% di ricor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di FTS entro </a:t>
            </a:r>
            <a:r>
              <a:rPr b="1" lang="it-IT" sz="2400" spc="-1" strike="noStrike">
                <a:solidFill>
                  <a:srgbClr val="ff3300"/>
                </a:solidFill>
                <a:latin typeface="Bookman Old Style"/>
              </a:rPr>
              <a:t>60 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dal precedente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27000" y="6095880"/>
            <a:ext cx="5276880" cy="36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Pichichero ME, </a:t>
            </a:r>
            <a:r>
              <a:rPr b="1" i="1" lang="it-IT" sz="1800" spc="-1" strike="noStrike">
                <a:solidFill>
                  <a:srgbClr val="666666"/>
                </a:solidFill>
                <a:latin typeface="Bookman Old Style"/>
              </a:rPr>
              <a:t>Pediatr Infect Dis J</a:t>
            </a: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64360" y="2300400"/>
            <a:ext cx="1724040" cy="520560"/>
          </a:xfrm>
          <a:prstGeom prst="rect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61360" y="2352600"/>
            <a:ext cx="1077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p&lt;0.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74600" y="5624640"/>
            <a:ext cx="1036800" cy="393480"/>
          </a:xfrm>
          <a:prstGeom prst="rect">
            <a:avLst/>
          </a:prstGeom>
          <a:noFill/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0120" y="1054080"/>
            <a:ext cx="8456760" cy="4546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FT ricorrenti da Streptococco b -emolitico grupp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78240" y="4400640"/>
            <a:ext cx="1404720" cy="128268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39520" y="3968640"/>
            <a:ext cx="74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82960" y="5315040"/>
            <a:ext cx="1403640" cy="368280"/>
          </a:xfrm>
          <a:prstGeom prst="rect">
            <a:avLst/>
          </a:prstGeom>
          <a:solidFill>
            <a:srgbClr val="008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77000" y="4913280"/>
            <a:ext cx="580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5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276720" y="4087800"/>
            <a:ext cx="0" cy="1625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4760" y="4842000"/>
            <a:ext cx="3166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% di recidive di FTS in var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26040" y="5711760"/>
            <a:ext cx="801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an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75160" y="5711760"/>
            <a:ext cx="59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1-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15880" y="5710320"/>
            <a:ext cx="661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&gt;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86160" y="1925640"/>
            <a:ext cx="1749240" cy="1427040"/>
          </a:xfrm>
          <a:prstGeom prst="rect">
            <a:avLst/>
          </a:prstGeom>
          <a:solidFill>
            <a:srgbClr val="ffcc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6400" y="1558800"/>
            <a:ext cx="74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2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48360" y="2459160"/>
            <a:ext cx="1749240" cy="893520"/>
          </a:xfrm>
          <a:prstGeom prst="rect">
            <a:avLst/>
          </a:prstGeom>
          <a:solidFill>
            <a:srgbClr val="ffcc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30400" y="2060640"/>
            <a:ext cx="74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14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910560" y="2878200"/>
            <a:ext cx="1750680" cy="474480"/>
          </a:xfrm>
          <a:prstGeom prst="rect">
            <a:avLst/>
          </a:prstGeom>
          <a:solidFill>
            <a:srgbClr val="ffcc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478640" y="2440080"/>
            <a:ext cx="580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99480" y="288936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p&lt;0.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276720" y="1054080"/>
            <a:ext cx="0" cy="211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25680" y="3348000"/>
            <a:ext cx="177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penicill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94440" y="3348000"/>
            <a:ext cx="177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cefalos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86520" y="3348000"/>
            <a:ext cx="1701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macroli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0240" y="288612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p=0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4600" y="2509920"/>
            <a:ext cx="3330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4143a"/>
                </a:solidFill>
                <a:latin typeface="Bookman Old Style"/>
              </a:rPr>
              <a:t>% di recidive di FTS entro 60 gg 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0920" y="3338640"/>
            <a:ext cx="2550960" cy="366480"/>
          </a:xfrm>
          <a:prstGeom prst="rect">
            <a:avLst/>
          </a:prstGeom>
          <a:noFill/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terapie d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27000" y="6323040"/>
            <a:ext cx="5229360" cy="36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Pichichero ME, </a:t>
            </a:r>
            <a:r>
              <a:rPr b="1" i="1" lang="it-IT" sz="1800" spc="-1" strike="noStrike">
                <a:solidFill>
                  <a:srgbClr val="666666"/>
                </a:solidFill>
                <a:latin typeface="Bookman Old Style"/>
              </a:rPr>
              <a:t>Pediatr Infect Dis J</a:t>
            </a: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59440" y="4233960"/>
            <a:ext cx="1820880" cy="511200"/>
          </a:xfrm>
          <a:prstGeom prst="rect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139520" y="4268880"/>
            <a:ext cx="1397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p&lt;0.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889440"/>
            <a:ext cx="9144000" cy="0"/>
          </a:xfrm>
          <a:prstGeom prst="line">
            <a:avLst/>
          </a:prstGeom>
          <a:ln w="38160">
            <a:solidFill>
              <a:srgbClr val="94143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660240" y="1054080"/>
            <a:ext cx="7874280" cy="10026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Terapia delle faringotonsilliti streptococciche (GABHS) recidivan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9800" y="2409840"/>
            <a:ext cx="825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Bookman Old Style"/>
              </a:rPr>
              <a:t>LA RESISTENZA DEL GABHS ALLA PENICIL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Bookman Old Style"/>
              </a:rPr>
              <a:t>È UN FENOMENO IN GRANDE ESPAN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680" y="3548160"/>
            <a:ext cx="17780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4143a"/>
                </a:solidFill>
                <a:latin typeface="Bookman Old Style"/>
              </a:rPr>
              <a:t>CAUS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95400" y="3551400"/>
            <a:ext cx="66549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Microflora orale ß-lattamasi produt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Resistenza o tolleranza del GAB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Non interferenza da parte della microfl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   </a:t>
            </a: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Riacquisizione da conta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Stato di “carrier”, non malat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Dose/durata della terapia inappropri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94143a"/>
                </a:solidFill>
                <a:latin typeface="Bookman Old Style"/>
              </a:rPr>
              <a:t>Scarsa “compliance” nella 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01280" y="1053720"/>
            <a:ext cx="7790040" cy="1143000"/>
          </a:xfrm>
          <a:prstGeom prst="rect">
            <a:avLst/>
          </a:prstGeom>
          <a:noFill/>
          <a:ln w="1908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POSSIBILI SPIEGAZIONI DEL FALLIMENTO MICROBIOLOG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56760" y="2895480"/>
            <a:ext cx="8479080" cy="3160800"/>
          </a:xfrm>
          <a:prstGeom prst="rect">
            <a:avLst/>
          </a:prstGeom>
          <a:solidFill>
            <a:srgbClr val="ffcc99">
              <a:alpha val="50000"/>
            </a:srgbClr>
          </a:solidFill>
          <a:ln w="1908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DOSE/DURATA INAPPROPRI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PATOGENICITA’ INDIRE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INTERFERENZA BATTERICA (Strep. </a:t>
            </a:r>
            <a:r>
              <a:rPr b="1" lang="en-US" sz="2400" spc="-1" strike="noStrike">
                <a:solidFill>
                  <a:srgbClr val="94143a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-emolit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RESIST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intestino%203" descr=""/>
          <p:cNvPicPr/>
          <p:nvPr/>
        </p:nvPicPr>
        <p:blipFill>
          <a:blip r:embed="rId1"/>
          <a:stretch/>
        </p:blipFill>
        <p:spPr>
          <a:xfrm>
            <a:off x="76320" y="5724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533520" y="838080"/>
            <a:ext cx="403848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99"/>
                </a:solidFill>
                <a:latin typeface="Bookman Old Style"/>
              </a:rPr>
              <a:t>Patogenicità indiret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116160" y="2971800"/>
            <a:ext cx="5494320" cy="1873080"/>
            <a:chOff x="3116160" y="2971800"/>
            <a:chExt cx="5494320" cy="1873080"/>
          </a:xfrm>
        </p:grpSpPr>
        <p:sp>
          <p:nvSpPr>
            <p:cNvPr id="688" name=""/>
            <p:cNvSpPr/>
            <p:nvPr/>
          </p:nvSpPr>
          <p:spPr>
            <a:xfrm>
              <a:off x="3308400" y="2971800"/>
              <a:ext cx="3708360" cy="18730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16160" y="3945600"/>
              <a:ext cx="549432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BATTERIO  ß-LATTAMASI 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35480" y="4724280"/>
            <a:ext cx="1963440" cy="1241280"/>
            <a:chOff x="4335480" y="4724280"/>
            <a:chExt cx="1963440" cy="1241280"/>
          </a:xfrm>
        </p:grpSpPr>
        <p:sp>
          <p:nvSpPr>
            <p:cNvPr id="691" name=""/>
            <p:cNvSpPr/>
            <p:nvPr/>
          </p:nvSpPr>
          <p:spPr>
            <a:xfrm>
              <a:off x="4335480" y="5425920"/>
              <a:ext cx="11268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19240" y="5178240"/>
              <a:ext cx="11268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72120" y="5159160"/>
              <a:ext cx="11268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70480" y="5121000"/>
              <a:ext cx="11268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44440" y="4966920"/>
              <a:ext cx="11268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54600" y="4873320"/>
              <a:ext cx="11268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07480" y="4854240"/>
              <a:ext cx="11268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747400" y="5852880"/>
              <a:ext cx="11268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02480" y="5752800"/>
              <a:ext cx="11232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76080" y="5598720"/>
              <a:ext cx="112680" cy="11304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86600" y="5505120"/>
              <a:ext cx="11232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03160" y="4724280"/>
              <a:ext cx="112320" cy="112680"/>
            </a:xfrm>
            <a:prstGeom prst="ellipse">
              <a:avLst/>
            </a:prstGeom>
            <a:gradFill rotWithShape="0">
              <a:gsLst>
                <a:gs pos="0">
                  <a:srgbClr val="feece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828800" y="5791320"/>
            <a:ext cx="2913120" cy="8380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ß-LATT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641680" y="5562720"/>
            <a:ext cx="1287360" cy="1295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intestino%203" descr=""/>
          <p:cNvPicPr/>
          <p:nvPr/>
        </p:nvPicPr>
        <p:blipFill>
          <a:blip r:embed="rId1"/>
          <a:stretch/>
        </p:blipFill>
        <p:spPr>
          <a:xfrm>
            <a:off x="76320" y="5724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838080"/>
            <a:ext cx="403848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Bookman Old Style"/>
              </a:rPr>
              <a:t>Interferenza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Bookman Old Style"/>
              </a:rPr>
              <a:t>batt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116160" y="2971800"/>
            <a:ext cx="4673880" cy="1905120"/>
            <a:chOff x="3116160" y="2971800"/>
            <a:chExt cx="4673880" cy="1905120"/>
          </a:xfrm>
        </p:grpSpPr>
        <p:sp>
          <p:nvSpPr>
            <p:cNvPr id="708" name=""/>
            <p:cNvSpPr/>
            <p:nvPr/>
          </p:nvSpPr>
          <p:spPr>
            <a:xfrm>
              <a:off x="3293640" y="2971800"/>
              <a:ext cx="3429000" cy="1905120"/>
            </a:xfrm>
            <a:prstGeom prst="ellipse">
              <a:avLst/>
            </a:prstGeom>
            <a:solidFill>
              <a:srgbClr val="ff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16160" y="3962520"/>
              <a:ext cx="46738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Comic Sans MS"/>
                </a:rPr>
                <a:t>BATTERI  α-EMOLITIC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929040" y="4572000"/>
            <a:ext cx="4470120" cy="1905120"/>
            <a:chOff x="3929040" y="4572000"/>
            <a:chExt cx="4470120" cy="1905120"/>
          </a:xfrm>
        </p:grpSpPr>
        <p:pic>
          <p:nvPicPr>
            <p:cNvPr id="711" name="microorganismo6" descr=""/>
            <p:cNvPicPr/>
            <p:nvPr/>
          </p:nvPicPr>
          <p:blipFill>
            <a:blip r:embed="rId2"/>
            <a:stretch/>
          </p:blipFill>
          <p:spPr>
            <a:xfrm>
              <a:off x="4343760" y="5349960"/>
              <a:ext cx="16030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microorganismo6" descr=""/>
            <p:cNvPicPr/>
            <p:nvPr/>
          </p:nvPicPr>
          <p:blipFill>
            <a:blip r:embed="rId3"/>
            <a:stretch/>
          </p:blipFill>
          <p:spPr>
            <a:xfrm>
              <a:off x="6502680" y="4838760"/>
              <a:ext cx="18964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6231600" y="4572000"/>
              <a:ext cx="1354680" cy="99072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29040" y="4724280"/>
              <a:ext cx="1354320" cy="99072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intestino%203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16" name="microorganismo6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1603440" cy="1127160"/>
          </a:xfrm>
          <a:prstGeom prst="rect">
            <a:avLst/>
          </a:prstGeom>
          <a:ln w="0">
            <a:noFill/>
          </a:ln>
        </p:spPr>
      </p:pic>
      <p:pic>
        <p:nvPicPr>
          <p:cNvPr id="717" name="microorganismo6" descr=""/>
          <p:cNvPicPr/>
          <p:nvPr/>
        </p:nvPicPr>
        <p:blipFill>
          <a:blip r:embed="rId3"/>
          <a:stretch/>
        </p:blipFill>
        <p:spPr>
          <a:xfrm>
            <a:off x="6426360" y="266760"/>
            <a:ext cx="1896840" cy="13334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914400" y="2895480"/>
            <a:ext cx="3429000" cy="19051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09680" y="4724280"/>
            <a:ext cx="6019920" cy="167652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99"/>
                </a:solidFill>
                <a:latin typeface="Bookman Old Style"/>
              </a:rPr>
              <a:t>“</a:t>
            </a:r>
            <a:r>
              <a:rPr b="1" lang="it-IT" sz="4000" spc="-1" strike="noStrike">
                <a:solidFill>
                  <a:srgbClr val="003399"/>
                </a:solidFill>
                <a:latin typeface="Bookman Old Style"/>
              </a:rPr>
              <a:t>Alfa-streptococchi spray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762120"/>
            <a:ext cx="403848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Bookman Old Style"/>
              </a:rPr>
              <a:t>Interferenza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Bookman Old Style"/>
              </a:rPr>
              <a:t>batt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8720" y="914400"/>
            <a:ext cx="8051760" cy="503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omic Sans MS"/>
              </a:rPr>
              <a:t>K. Ro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it-IT" sz="4000" spc="-1" strike="noStrike">
                <a:solidFill>
                  <a:srgbClr val="000000"/>
                </a:solidFill>
                <a:latin typeface="Comic Sans MS"/>
              </a:rPr>
              <a:t>Effect of recolonisation with “interfering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it-IT" sz="4000" spc="-1" strike="noStrike">
                <a:solidFill>
                  <a:srgbClr val="000000"/>
                </a:solidFill>
                <a:latin typeface="Comic Sans MS"/>
              </a:rPr>
              <a:t>-Streptococci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Comic Sans MS"/>
              </a:rPr>
              <a:t>recurrences of acu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Comic Sans MS"/>
              </a:rPr>
              <a:t>and secretory otitis media in childre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omic Sans MS"/>
              </a:rPr>
              <a:t>BMJ 322 27;210-2,20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927000" y="1054080"/>
            <a:ext cx="7340760" cy="820440"/>
          </a:xfrm>
          <a:prstGeom prst="rect">
            <a:avLst/>
          </a:prstGeom>
          <a:noFill/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Penicillina vs Cefalosporine nel trattamento delle faringotonsilliti streptococciche a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1360" y="1722600"/>
            <a:ext cx="8245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0360" y="3108240"/>
            <a:ext cx="3078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ontro batteri aerobi ß-lattamasi produt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0360" y="2197080"/>
            <a:ext cx="2844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Attività antimicro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03720" y="2197080"/>
            <a:ext cx="231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Penicil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384960" y="2197080"/>
            <a:ext cx="290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efalosp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60360" y="4541760"/>
            <a:ext cx="3957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Contro str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94143a"/>
                </a:solidFill>
                <a:latin typeface="Symbol"/>
                <a:ea typeface="Symbol"/>
              </a:rPr>
              <a:t>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-emolitici prot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0360" y="5680080"/>
            <a:ext cx="276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4143a"/>
                </a:solidFill>
                <a:latin typeface="Bookman Old Style"/>
              </a:rPr>
              <a:t>Contro SB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0120" y="4397400"/>
            <a:ext cx="8483760" cy="0"/>
          </a:xfrm>
          <a:prstGeom prst="line">
            <a:avLst/>
          </a:prstGeom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0120" y="5562720"/>
            <a:ext cx="8483760" cy="0"/>
          </a:xfrm>
          <a:prstGeom prst="line">
            <a:avLst/>
          </a:prstGeom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30120" y="6172200"/>
            <a:ext cx="8483760" cy="0"/>
          </a:xfrm>
          <a:prstGeom prst="line">
            <a:avLst/>
          </a:prstGeom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0120" y="2139840"/>
            <a:ext cx="8483760" cy="0"/>
          </a:xfrm>
          <a:prstGeom prst="line">
            <a:avLst/>
          </a:prstGeom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64040" y="3436920"/>
            <a:ext cx="304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455240" y="3457440"/>
            <a:ext cx="399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21560" y="4705200"/>
            <a:ext cx="399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97360" y="4726080"/>
            <a:ext cx="304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455240" y="5648400"/>
            <a:ext cx="399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21560" y="5627520"/>
            <a:ext cx="399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7800" y="6319800"/>
            <a:ext cx="2159280" cy="363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Brook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9840" y="3067200"/>
            <a:ext cx="8483400" cy="0"/>
          </a:xfrm>
          <a:prstGeom prst="line">
            <a:avLst/>
          </a:prstGeom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27400" y="2143080"/>
            <a:ext cx="0" cy="4016520"/>
          </a:xfrm>
          <a:prstGeom prst="line">
            <a:avLst/>
          </a:prstGeom>
          <a:ln w="255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38800" y="2158920"/>
            <a:ext cx="0" cy="4016520"/>
          </a:xfrm>
          <a:prstGeom prst="line">
            <a:avLst/>
          </a:prstGeom>
          <a:ln w="255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826480" y="2158920"/>
            <a:ext cx="0" cy="4016520"/>
          </a:xfrm>
          <a:prstGeom prst="line">
            <a:avLst/>
          </a:prstGeom>
          <a:ln w="255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Figura5" descr=""/>
          <p:cNvPicPr/>
          <p:nvPr/>
        </p:nvPicPr>
        <p:blipFill>
          <a:blip r:embed="rId1"/>
          <a:stretch/>
        </p:blipFill>
        <p:spPr>
          <a:xfrm>
            <a:off x="455760" y="2203560"/>
            <a:ext cx="3135240" cy="3274920"/>
          </a:xfrm>
          <a:prstGeom prst="rect">
            <a:avLst/>
          </a:prstGeom>
          <a:ln w="38160">
            <a:solidFill>
              <a:srgbClr val="94143a"/>
            </a:solidFill>
            <a:miter/>
          </a:ln>
        </p:spPr>
      </p:pic>
      <p:pic>
        <p:nvPicPr>
          <p:cNvPr id="73" name="Figura6" descr=""/>
          <p:cNvPicPr/>
          <p:nvPr/>
        </p:nvPicPr>
        <p:blipFill>
          <a:blip r:embed="rId2"/>
          <a:stretch/>
        </p:blipFill>
        <p:spPr>
          <a:xfrm flipH="1">
            <a:off x="4576680" y="3382920"/>
            <a:ext cx="4284720" cy="2836800"/>
          </a:xfrm>
          <a:prstGeom prst="rect">
            <a:avLst/>
          </a:prstGeom>
          <a:ln w="38160">
            <a:solidFill>
              <a:srgbClr val="94143a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3237480" y="946080"/>
            <a:ext cx="2678400" cy="642600"/>
          </a:xfrm>
          <a:prstGeom prst="rect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Scarlat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609480" y="2057400"/>
            <a:ext cx="8001000" cy="266688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143a"/>
                </a:solidFill>
                <a:latin typeface="Bookman Old Style"/>
              </a:rPr>
              <a:t>…</a:t>
            </a:r>
            <a:r>
              <a:rPr b="1" lang="en-US" sz="4400" spc="-1" strike="noStrike">
                <a:solidFill>
                  <a:srgbClr val="94143a"/>
                </a:solidFill>
                <a:latin typeface="Bookman Old Style"/>
              </a:rPr>
              <a:t>.</a:t>
            </a:r>
            <a:r>
              <a:rPr b="1" i="1" lang="en-US" sz="4400" spc="-1" strike="noStrike">
                <a:solidFill>
                  <a:srgbClr val="94143a"/>
                </a:solidFill>
                <a:latin typeface="Bookman Old Style"/>
              </a:rPr>
              <a:t>Treating the chi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4143a"/>
                </a:solidFill>
                <a:latin typeface="Bookman Old Style"/>
              </a:rPr>
              <a:t>and man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4143a"/>
                </a:solidFill>
                <a:latin typeface="Bookman Old Style"/>
              </a:rPr>
              <a:t>the care giver</a:t>
            </a:r>
            <a:r>
              <a:rPr b="1" lang="en-US" sz="4400" spc="-1" strike="noStrike">
                <a:solidFill>
                  <a:srgbClr val="94143a"/>
                </a:solidFill>
                <a:latin typeface="Bookman Old Style"/>
              </a:rPr>
              <a:t>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68280" y="1054080"/>
            <a:ext cx="8456760" cy="2011320"/>
          </a:xfrm>
          <a:prstGeom prst="rect">
            <a:avLst/>
          </a:prstGeom>
          <a:noFill/>
          <a:ln w="1908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Markello J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“</a:t>
            </a:r>
            <a:r>
              <a:rPr b="1" i="1" lang="en-US" sz="2800" spc="-1" strike="noStrike">
                <a:solidFill>
                  <a:srgbClr val="94143a"/>
                </a:solidFill>
                <a:latin typeface="Bookman Old Style"/>
              </a:rPr>
              <a:t>Factors influencing pediatric compIiance</a:t>
            </a: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66"/>
                </a:solidFill>
                <a:latin typeface="Bookman Old Style"/>
              </a:rPr>
              <a:t>Pediatr Infect Dis J 4;579-83,198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8280" y="3306600"/>
            <a:ext cx="8456760" cy="3303720"/>
          </a:xfrm>
          <a:prstGeom prst="rect">
            <a:avLst/>
          </a:prstGeom>
          <a:noFill/>
          <a:ln w="1260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Ramgoola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“</a:t>
            </a:r>
            <a:r>
              <a:rPr b="1" i="1" lang="en-US" sz="2800" spc="-1" strike="noStrike">
                <a:solidFill>
                  <a:srgbClr val="94143a"/>
                </a:solidFill>
                <a:latin typeface="Bookman Old Style"/>
              </a:rPr>
              <a:t>Formulations of antibiotics for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4143a"/>
                </a:solidFill>
                <a:latin typeface="Bookman Old Style"/>
              </a:rPr>
              <a:t>in primary care:effect on 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4143a"/>
                </a:solidFill>
                <a:latin typeface="Bookman Old Style"/>
              </a:rPr>
              <a:t>and efficacy</a:t>
            </a: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66"/>
                </a:solidFill>
                <a:latin typeface="Bookman Old Style"/>
              </a:rPr>
              <a:t>Pediatr Drugs 4, 323-33, 2003</a:t>
            </a:r>
            <a:r>
              <a:rPr b="1" lang="en-US" sz="2800" spc="-1" strike="noStrike">
                <a:solidFill>
                  <a:srgbClr val="666666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35800" y="2330280"/>
            <a:ext cx="1279440" cy="609840"/>
          </a:xfrm>
          <a:prstGeom prst="ellipse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83280" y="5784840"/>
            <a:ext cx="1341360" cy="609480"/>
          </a:xfrm>
          <a:prstGeom prst="ellipse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54000" y="1496520"/>
            <a:ext cx="7284960" cy="1752840"/>
          </a:xfrm>
          <a:prstGeom prst="rect">
            <a:avLst/>
          </a:prstGeom>
          <a:noFill/>
          <a:ln w="1908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Fattori che influenzano</a:t>
            </a:r>
            <a:br>
              <a:rPr sz="3200"/>
            </a:b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la compliance della terapia antibiotica nel bamb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786960" y="3581280"/>
            <a:ext cx="7635960" cy="2810160"/>
          </a:xfrm>
          <a:prstGeom prst="rect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550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PALATABILITA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550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DUR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550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NUMERO DI SOMMINISTRAZIONI GIORNALI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550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TOLLERABILITA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550"/>
              </a:spcBef>
              <a:buClr>
                <a:srgbClr val="94143a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94143a"/>
                </a:solidFill>
                <a:latin typeface="Bookman Old Style"/>
              </a:rPr>
              <a:t>VIA DI SOMMINISTRAZ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figura6" descr=""/>
          <p:cNvPicPr/>
          <p:nvPr/>
        </p:nvPicPr>
        <p:blipFill>
          <a:blip r:embed="rId1"/>
          <a:stretch/>
        </p:blipFill>
        <p:spPr>
          <a:xfrm>
            <a:off x="1425600" y="1036800"/>
            <a:ext cx="63612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Tabella%20V" descr=""/>
          <p:cNvPicPr/>
          <p:nvPr/>
        </p:nvPicPr>
        <p:blipFill>
          <a:blip r:embed="rId1"/>
          <a:stretch/>
        </p:blipFill>
        <p:spPr>
          <a:xfrm>
            <a:off x="1093680" y="971640"/>
            <a:ext cx="70074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1360" y="1053720"/>
            <a:ext cx="7772400" cy="825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36147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4143a"/>
                </a:solidFill>
                <a:latin typeface="Book Antiqua"/>
              </a:rPr>
              <a:t>Eradicazione (%) dello SBEA in rapporto alla durata della terapia con Penicillina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711360" y="2090880"/>
            <a:ext cx="7772400" cy="4063680"/>
            <a:chOff x="711360" y="2090880"/>
            <a:chExt cx="7772400" cy="4063680"/>
          </a:xfrm>
        </p:grpSpPr>
        <p:sp>
          <p:nvSpPr>
            <p:cNvPr id="756" name=""/>
            <p:cNvSpPr/>
            <p:nvPr/>
          </p:nvSpPr>
          <p:spPr>
            <a:xfrm>
              <a:off x="7493040" y="5646600"/>
              <a:ext cx="9907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78640" y="564660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64240" y="564660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49840" y="564660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759480" y="5646600"/>
              <a:ext cx="99036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1360" y="5646600"/>
              <a:ext cx="30481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4143a"/>
                  </a:solidFill>
                  <a:latin typeface="Bookman Old Style"/>
                </a:rPr>
                <a:t>Gerber, 196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93040" y="5138640"/>
              <a:ext cx="9907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78640" y="513864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64240" y="513864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49840" y="513864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59480" y="5138640"/>
              <a:ext cx="99036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1360" y="5138640"/>
              <a:ext cx="30481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4143a"/>
                  </a:solidFill>
                  <a:latin typeface="Bookman Old Style"/>
                </a:rPr>
                <a:t>Schwartz, 196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93040" y="4630680"/>
              <a:ext cx="9907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78640" y="463068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64240" y="463068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49840" y="463068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59480" y="4630680"/>
              <a:ext cx="99036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1360" y="4630680"/>
              <a:ext cx="30481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4143a"/>
                  </a:solidFill>
                  <a:latin typeface="Bookman Old Style"/>
                </a:rPr>
                <a:t>Bernstein, 19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93040" y="4122720"/>
              <a:ext cx="9907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78640" y="412272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64240" y="412272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49840" y="412272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59480" y="4122720"/>
              <a:ext cx="99036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1360" y="4122720"/>
              <a:ext cx="30481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4143a"/>
                  </a:solidFill>
                  <a:latin typeface="Bookman Old Style"/>
                </a:rPr>
                <a:t>Breese, 19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493040" y="3614760"/>
              <a:ext cx="9907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78640" y="361476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64240" y="361476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49840" y="361476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5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59480" y="3614760"/>
              <a:ext cx="99036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1360" y="3614760"/>
              <a:ext cx="30481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4143a"/>
                  </a:solidFill>
                  <a:latin typeface="Bookman Old Style"/>
                </a:rPr>
                <a:t>Wannamaker, 19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93040" y="3106800"/>
              <a:ext cx="9907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578640" y="310680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8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64240" y="310680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49840" y="3106800"/>
              <a:ext cx="91440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59480" y="3106800"/>
              <a:ext cx="99036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1360" y="3106800"/>
              <a:ext cx="30481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4143a"/>
                  </a:solidFill>
                  <a:latin typeface="Bookman Old Style"/>
                </a:rPr>
                <a:t>Denny, 19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493040" y="2598480"/>
              <a:ext cx="990720" cy="5079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578640" y="2598480"/>
              <a:ext cx="914400" cy="5079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9-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64240" y="2598480"/>
              <a:ext cx="914400" cy="5079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49840" y="2598480"/>
              <a:ext cx="914400" cy="5079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59480" y="2598480"/>
              <a:ext cx="990360" cy="5079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4143a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1360" y="2598480"/>
              <a:ext cx="3048120" cy="50796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759480" y="2090880"/>
              <a:ext cx="472428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66"/>
                  </a:solidFill>
                  <a:latin typeface="Bookman Old Style"/>
                </a:rPr>
                <a:t>Gio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1360" y="2090880"/>
              <a:ext cx="3048120" cy="507600"/>
            </a:xfrm>
            <a:prstGeom prst="rect">
              <a:avLst/>
            </a:prstGeom>
            <a:noFill/>
            <a:ln w="936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1360" y="2090880"/>
              <a:ext cx="777240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1360" y="2598480"/>
              <a:ext cx="7772400" cy="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11360" y="3106800"/>
              <a:ext cx="7772400" cy="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1360" y="3614760"/>
              <a:ext cx="7772400" cy="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1360" y="4122720"/>
              <a:ext cx="7772400" cy="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1360" y="4630680"/>
              <a:ext cx="7772400" cy="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1360" y="5138640"/>
              <a:ext cx="7772400" cy="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1360" y="5646600"/>
              <a:ext cx="7772400" cy="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1360" y="6154560"/>
              <a:ext cx="7772400" cy="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1360" y="2090880"/>
              <a:ext cx="0" cy="406368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59480" y="2090880"/>
              <a:ext cx="0" cy="406368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483760" y="2090880"/>
              <a:ext cx="0" cy="4063680"/>
            </a:xfrm>
            <a:prstGeom prst="line">
              <a:avLst/>
            </a:prstGeom>
            <a:ln cap="sq" w="2844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49840" y="2598480"/>
              <a:ext cx="0" cy="355572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64240" y="2598480"/>
              <a:ext cx="0" cy="355572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78640" y="2598480"/>
              <a:ext cx="0" cy="355572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93040" y="2598480"/>
              <a:ext cx="0" cy="3555720"/>
            </a:xfrm>
            <a:prstGeom prst="line">
              <a:avLst/>
            </a:prstGeom>
            <a:ln w="19080">
              <a:solidFill>
                <a:srgbClr val="9414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831240" y="6310440"/>
            <a:ext cx="236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 Pichichero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90680" y="4705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599160" y="4189320"/>
            <a:ext cx="9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83</a:t>
            </a:r>
            <a:r>
              <a:rPr b="0" lang="it-IT" sz="2000" spc="-1" strike="noStrike">
                <a:solidFill>
                  <a:srgbClr val="94143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24520" y="4727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24520" y="57326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90680" y="5240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90680" y="4173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90680" y="5727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990680" y="31194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889240" y="4203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24520" y="5240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67920" y="1054080"/>
            <a:ext cx="8458200" cy="10087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7819" dir="2700000" blurRad="0" rotWithShape="0">
              <a:srgbClr val="89898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EFFICACIA MICROBIOLOGICA </a:t>
            </a:r>
            <a:br>
              <a:rPr sz="2000"/>
            </a:b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 CEFTIBUTEN (5 GIORNI) VERSUS PENICILLINA V (10 GIORNI)</a:t>
            </a:r>
            <a:br>
              <a:rPr sz="2000"/>
            </a:b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FOLLOW-UP A 7 GIORNI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3855960"/>
            <a:ext cx="1981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401520" y="6243480"/>
            <a:ext cx="2421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6666"/>
                </a:solidFill>
                <a:latin typeface="Bookman Old Style"/>
              </a:rPr>
              <a:t>da</a:t>
            </a: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 Pichichero, 199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54200" y="5805360"/>
            <a:ext cx="1162080" cy="33732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143a"/>
                </a:solidFill>
                <a:latin typeface="Bookman Old Style"/>
              </a:rPr>
              <a:t>* p &lt;0.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600200" y="2546280"/>
            <a:ext cx="657540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FARINGOTONSILL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674360" y="4319640"/>
            <a:ext cx="182196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10360" y="4911840"/>
            <a:ext cx="185256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PERSIST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49520" y="3728880"/>
            <a:ext cx="208728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ELIMI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07320" y="3132000"/>
            <a:ext cx="187560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Ceftibuten %</a:t>
            </a:r>
            <a:r>
              <a:rPr b="0" lang="it-IT" sz="1400" spc="-1" strike="noStrike">
                <a:solidFill>
                  <a:srgbClr val="94143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275520" y="3132000"/>
            <a:ext cx="179460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Penicillina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79880" y="3728880"/>
            <a:ext cx="67140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91*</a:t>
            </a:r>
            <a:r>
              <a:rPr b="1" lang="en-US" sz="1800" spc="-1" strike="noStrike">
                <a:solidFill>
                  <a:srgbClr val="94143a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83840" y="4302000"/>
            <a:ext cx="39240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73760" y="4894200"/>
            <a:ext cx="32688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787800" y="3728880"/>
            <a:ext cx="53748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80</a:t>
            </a:r>
            <a:r>
              <a:rPr b="0" lang="en-US" sz="2000" spc="-1" strike="noStrike">
                <a:solidFill>
                  <a:srgbClr val="94143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7800" y="4302000"/>
            <a:ext cx="47340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759720" y="4916520"/>
            <a:ext cx="382320" cy="398880"/>
          </a:xfrm>
          <a:prstGeom prst="rect">
            <a:avLst/>
          </a:prstGeom>
          <a:noFill/>
          <a:ln w="93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254160" y="2087640"/>
            <a:ext cx="8686800" cy="324000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“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Erythromycin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in </a:t>
            </a:r>
            <a:r>
              <a:rPr b="1" i="1" lang="it-IT" sz="3600" spc="-1" strike="noStrike">
                <a:solidFill>
                  <a:srgbClr val="94143a"/>
                </a:solidFill>
                <a:latin typeface="Bookman Old Style"/>
              </a:rPr>
              <a:t>Streptococcus pyogenes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in Ital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it-IT" sz="2200" spc="-1" strike="noStrike">
                <a:solidFill>
                  <a:srgbClr val="666666"/>
                </a:solidFill>
                <a:latin typeface="Bookman Old Style"/>
              </a:rPr>
              <a:t>Emerg Infect Dis 6:180-183,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11360" y="1054080"/>
            <a:ext cx="7772400" cy="6984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94143a"/>
                </a:solidFill>
                <a:latin typeface="Bookman Old Style"/>
              </a:rPr>
              <a:t>S.pyogenes</a:t>
            </a:r>
            <a:r>
              <a:rPr b="1" lang="it-IT" sz="3200" spc="-1" strike="noStrike">
                <a:solidFill>
                  <a:srgbClr val="94143a"/>
                </a:solidFill>
                <a:latin typeface="Bookman Old Style"/>
              </a:rPr>
              <a:t>: resistenza ai macrol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78920" y="2298240"/>
            <a:ext cx="8836200" cy="35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Resistenza MLS</a:t>
            </a:r>
            <a:r>
              <a:rPr b="1" lang="it-IT" sz="2000" spc="-1" strike="noStrike" baseline="-25000">
                <a:solidFill>
                  <a:srgbClr val="94143a"/>
                </a:solidFill>
                <a:latin typeface="Bookman Old Style"/>
              </a:rPr>
              <a:t>B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:</a:t>
            </a:r>
            <a:r>
              <a:rPr b="1" lang="it-IT" sz="2000" spc="-1" strike="noStrike" baseline="-25000">
                <a:solidFill>
                  <a:srgbClr val="94143a"/>
                </a:solidFill>
                <a:latin typeface="Bookman Old Style"/>
              </a:rPr>
              <a:t> 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modifiche della sede bersag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- la metilazione dell’rRNA inibisce il legame al farm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- la metilasi è codificata da geni </a:t>
            </a:r>
            <a:r>
              <a:rPr b="1" i="1" lang="it-IT" sz="2000" spc="-1" strike="noStrike">
                <a:solidFill>
                  <a:srgbClr val="94143a"/>
                </a:solidFill>
                <a:latin typeface="Bookman Old Style"/>
              </a:rPr>
              <a:t>erm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 (plasmid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- conferisce resistenza a MLS</a:t>
            </a:r>
            <a:r>
              <a:rPr b="1" lang="it-IT" sz="2000" spc="-1" strike="noStrike" baseline="-25000">
                <a:solidFill>
                  <a:srgbClr val="94143a"/>
                </a:solidFill>
                <a:latin typeface="Bookman Old Style"/>
              </a:rPr>
              <a:t>B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- inducibile (RI) o costitutiva (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4143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Resistenza da pompe di efflusso (fenotipo M)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    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- codificata da gene </a:t>
            </a:r>
            <a:r>
              <a:rPr b="1" i="1" lang="it-IT" sz="2000" spc="-1" strike="noStrike">
                <a:solidFill>
                  <a:srgbClr val="94143a"/>
                </a:solidFill>
                <a:latin typeface="Bookman Old Style"/>
              </a:rPr>
              <a:t>mefa 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it-IT" sz="2000" spc="-1" strike="noStrike">
                <a:solidFill>
                  <a:srgbClr val="94143a"/>
                </a:solidFill>
                <a:latin typeface="Bookman Old Style"/>
              </a:rPr>
              <a:t>- conferisce resistenza ai macrolidi (14-15 atomi), non a L e S</a:t>
            </a:r>
            <a:r>
              <a:rPr b="1" lang="it-IT" sz="2000" spc="-1" strike="noStrike" baseline="-25000">
                <a:solidFill>
                  <a:srgbClr val="94143a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42640" y="1053720"/>
            <a:ext cx="6908760" cy="11336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Percentuale di </a:t>
            </a:r>
            <a:br>
              <a:rPr sz="3400"/>
            </a:br>
            <a:r>
              <a:rPr b="1" lang="it-IT" sz="3400" spc="-1" strike="noStrike">
                <a:solidFill>
                  <a:srgbClr val="94143a"/>
                </a:solidFill>
                <a:latin typeface="Bookman Old Style"/>
              </a:rPr>
              <a:t>eritro-resistenz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91000" y="4079880"/>
            <a:ext cx="2730600" cy="915840"/>
          </a:xfrm>
          <a:custGeom>
            <a:avLst/>
            <a:gdLst/>
            <a:ahLst/>
            <a:rect l="l" t="t" r="r" b="b"/>
            <a:pathLst>
              <a:path w="1935" h="577">
                <a:moveTo>
                  <a:pt x="1870" y="0"/>
                </a:moveTo>
                <a:lnTo>
                  <a:pt x="1876" y="13"/>
                </a:lnTo>
                <a:lnTo>
                  <a:pt x="1883" y="19"/>
                </a:lnTo>
                <a:lnTo>
                  <a:pt x="1889" y="25"/>
                </a:lnTo>
                <a:lnTo>
                  <a:pt x="1896" y="31"/>
                </a:lnTo>
                <a:lnTo>
                  <a:pt x="1902" y="44"/>
                </a:lnTo>
                <a:lnTo>
                  <a:pt x="1909" y="50"/>
                </a:lnTo>
                <a:lnTo>
                  <a:pt x="1915" y="56"/>
                </a:lnTo>
                <a:lnTo>
                  <a:pt x="1922" y="69"/>
                </a:lnTo>
                <a:lnTo>
                  <a:pt x="1922" y="75"/>
                </a:lnTo>
                <a:lnTo>
                  <a:pt x="1928" y="81"/>
                </a:lnTo>
                <a:lnTo>
                  <a:pt x="1928" y="93"/>
                </a:lnTo>
                <a:lnTo>
                  <a:pt x="1928" y="100"/>
                </a:lnTo>
                <a:lnTo>
                  <a:pt x="1935" y="112"/>
                </a:lnTo>
                <a:lnTo>
                  <a:pt x="1935" y="118"/>
                </a:lnTo>
                <a:lnTo>
                  <a:pt x="1935" y="124"/>
                </a:lnTo>
                <a:lnTo>
                  <a:pt x="1935" y="137"/>
                </a:lnTo>
                <a:lnTo>
                  <a:pt x="1935" y="143"/>
                </a:lnTo>
                <a:lnTo>
                  <a:pt x="1928" y="149"/>
                </a:lnTo>
                <a:lnTo>
                  <a:pt x="1928" y="162"/>
                </a:lnTo>
                <a:lnTo>
                  <a:pt x="1928" y="168"/>
                </a:lnTo>
                <a:lnTo>
                  <a:pt x="1922" y="174"/>
                </a:lnTo>
                <a:lnTo>
                  <a:pt x="1922" y="174"/>
                </a:lnTo>
                <a:lnTo>
                  <a:pt x="1922" y="186"/>
                </a:lnTo>
                <a:lnTo>
                  <a:pt x="1915" y="193"/>
                </a:lnTo>
                <a:lnTo>
                  <a:pt x="1909" y="199"/>
                </a:lnTo>
                <a:lnTo>
                  <a:pt x="1902" y="211"/>
                </a:lnTo>
                <a:lnTo>
                  <a:pt x="1896" y="217"/>
                </a:lnTo>
                <a:lnTo>
                  <a:pt x="1889" y="224"/>
                </a:lnTo>
                <a:lnTo>
                  <a:pt x="1883" y="236"/>
                </a:lnTo>
                <a:lnTo>
                  <a:pt x="1876" y="242"/>
                </a:lnTo>
                <a:lnTo>
                  <a:pt x="1870" y="248"/>
                </a:lnTo>
                <a:lnTo>
                  <a:pt x="1857" y="261"/>
                </a:lnTo>
                <a:lnTo>
                  <a:pt x="1851" y="267"/>
                </a:lnTo>
                <a:lnTo>
                  <a:pt x="1838" y="273"/>
                </a:lnTo>
                <a:lnTo>
                  <a:pt x="1825" y="279"/>
                </a:lnTo>
                <a:lnTo>
                  <a:pt x="1818" y="292"/>
                </a:lnTo>
                <a:lnTo>
                  <a:pt x="1805" y="298"/>
                </a:lnTo>
                <a:lnTo>
                  <a:pt x="1792" y="304"/>
                </a:lnTo>
                <a:lnTo>
                  <a:pt x="1779" y="317"/>
                </a:lnTo>
                <a:lnTo>
                  <a:pt x="1766" y="323"/>
                </a:lnTo>
                <a:lnTo>
                  <a:pt x="1753" y="329"/>
                </a:lnTo>
                <a:lnTo>
                  <a:pt x="1741" y="335"/>
                </a:lnTo>
                <a:lnTo>
                  <a:pt x="1721" y="341"/>
                </a:lnTo>
                <a:lnTo>
                  <a:pt x="1708" y="354"/>
                </a:lnTo>
                <a:lnTo>
                  <a:pt x="1689" y="360"/>
                </a:lnTo>
                <a:lnTo>
                  <a:pt x="1676" y="366"/>
                </a:lnTo>
                <a:lnTo>
                  <a:pt x="1656" y="372"/>
                </a:lnTo>
                <a:lnTo>
                  <a:pt x="1637" y="379"/>
                </a:lnTo>
                <a:lnTo>
                  <a:pt x="1624" y="385"/>
                </a:lnTo>
                <a:lnTo>
                  <a:pt x="1605" y="397"/>
                </a:lnTo>
                <a:lnTo>
                  <a:pt x="1585" y="403"/>
                </a:lnTo>
                <a:lnTo>
                  <a:pt x="1566" y="410"/>
                </a:lnTo>
                <a:lnTo>
                  <a:pt x="1546" y="416"/>
                </a:lnTo>
                <a:lnTo>
                  <a:pt x="1521" y="422"/>
                </a:lnTo>
                <a:lnTo>
                  <a:pt x="1501" y="428"/>
                </a:lnTo>
                <a:lnTo>
                  <a:pt x="1482" y="434"/>
                </a:lnTo>
                <a:lnTo>
                  <a:pt x="1462" y="441"/>
                </a:lnTo>
                <a:lnTo>
                  <a:pt x="1436" y="447"/>
                </a:lnTo>
                <a:lnTo>
                  <a:pt x="1417" y="453"/>
                </a:lnTo>
                <a:lnTo>
                  <a:pt x="1391" y="459"/>
                </a:lnTo>
                <a:lnTo>
                  <a:pt x="1365" y="465"/>
                </a:lnTo>
                <a:lnTo>
                  <a:pt x="1346" y="472"/>
                </a:lnTo>
                <a:lnTo>
                  <a:pt x="1320" y="478"/>
                </a:lnTo>
                <a:lnTo>
                  <a:pt x="1294" y="484"/>
                </a:lnTo>
                <a:lnTo>
                  <a:pt x="1268" y="490"/>
                </a:lnTo>
                <a:lnTo>
                  <a:pt x="1268" y="490"/>
                </a:lnTo>
                <a:lnTo>
                  <a:pt x="1242" y="496"/>
                </a:lnTo>
                <a:lnTo>
                  <a:pt x="1216" y="496"/>
                </a:lnTo>
                <a:lnTo>
                  <a:pt x="1191" y="503"/>
                </a:lnTo>
                <a:lnTo>
                  <a:pt x="1165" y="509"/>
                </a:lnTo>
                <a:lnTo>
                  <a:pt x="1139" y="515"/>
                </a:lnTo>
                <a:lnTo>
                  <a:pt x="1106" y="521"/>
                </a:lnTo>
                <a:lnTo>
                  <a:pt x="1081" y="527"/>
                </a:lnTo>
                <a:lnTo>
                  <a:pt x="1055" y="527"/>
                </a:lnTo>
                <a:lnTo>
                  <a:pt x="1022" y="534"/>
                </a:lnTo>
                <a:lnTo>
                  <a:pt x="996" y="540"/>
                </a:lnTo>
                <a:lnTo>
                  <a:pt x="971" y="540"/>
                </a:lnTo>
                <a:lnTo>
                  <a:pt x="938" y="546"/>
                </a:lnTo>
                <a:lnTo>
                  <a:pt x="906" y="552"/>
                </a:lnTo>
                <a:lnTo>
                  <a:pt x="880" y="552"/>
                </a:lnTo>
                <a:lnTo>
                  <a:pt x="848" y="558"/>
                </a:lnTo>
                <a:lnTo>
                  <a:pt x="815" y="558"/>
                </a:lnTo>
                <a:lnTo>
                  <a:pt x="789" y="565"/>
                </a:lnTo>
                <a:lnTo>
                  <a:pt x="757" y="571"/>
                </a:lnTo>
                <a:lnTo>
                  <a:pt x="725" y="571"/>
                </a:lnTo>
                <a:lnTo>
                  <a:pt x="692" y="577"/>
                </a:lnTo>
                <a:lnTo>
                  <a:pt x="660" y="577"/>
                </a:lnTo>
                <a:lnTo>
                  <a:pt x="0" y="124"/>
                </a:lnTo>
                <a:lnTo>
                  <a:pt x="1870" y="0"/>
                </a:lnTo>
                <a:close/>
              </a:path>
            </a:pathLst>
          </a:cu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46440" y="3225960"/>
            <a:ext cx="5359320" cy="1525320"/>
          </a:xfrm>
          <a:custGeom>
            <a:avLst/>
            <a:gdLst/>
            <a:ahLst/>
            <a:rect l="l" t="t" r="r" b="b"/>
            <a:pathLst>
              <a:path w="3798" h="961">
                <a:moveTo>
                  <a:pt x="2588" y="930"/>
                </a:moveTo>
                <a:lnTo>
                  <a:pt x="2556" y="936"/>
                </a:lnTo>
                <a:lnTo>
                  <a:pt x="2524" y="936"/>
                </a:lnTo>
                <a:lnTo>
                  <a:pt x="2498" y="936"/>
                </a:lnTo>
                <a:lnTo>
                  <a:pt x="2465" y="943"/>
                </a:lnTo>
                <a:lnTo>
                  <a:pt x="2433" y="943"/>
                </a:lnTo>
                <a:lnTo>
                  <a:pt x="2394" y="943"/>
                </a:lnTo>
                <a:lnTo>
                  <a:pt x="2362" y="949"/>
                </a:lnTo>
                <a:lnTo>
                  <a:pt x="2330" y="949"/>
                </a:lnTo>
                <a:lnTo>
                  <a:pt x="2297" y="949"/>
                </a:lnTo>
                <a:lnTo>
                  <a:pt x="2265" y="955"/>
                </a:lnTo>
                <a:lnTo>
                  <a:pt x="2232" y="955"/>
                </a:lnTo>
                <a:lnTo>
                  <a:pt x="2200" y="955"/>
                </a:lnTo>
                <a:lnTo>
                  <a:pt x="2168" y="955"/>
                </a:lnTo>
                <a:lnTo>
                  <a:pt x="2129" y="955"/>
                </a:lnTo>
                <a:lnTo>
                  <a:pt x="2097" y="955"/>
                </a:lnTo>
                <a:lnTo>
                  <a:pt x="2064" y="961"/>
                </a:lnTo>
                <a:lnTo>
                  <a:pt x="2032" y="961"/>
                </a:lnTo>
                <a:lnTo>
                  <a:pt x="2000" y="961"/>
                </a:lnTo>
                <a:lnTo>
                  <a:pt x="1961" y="961"/>
                </a:lnTo>
                <a:lnTo>
                  <a:pt x="1928" y="961"/>
                </a:lnTo>
                <a:lnTo>
                  <a:pt x="1896" y="961"/>
                </a:lnTo>
                <a:lnTo>
                  <a:pt x="1864" y="961"/>
                </a:lnTo>
                <a:lnTo>
                  <a:pt x="1831" y="961"/>
                </a:lnTo>
                <a:lnTo>
                  <a:pt x="1793" y="961"/>
                </a:lnTo>
                <a:lnTo>
                  <a:pt x="1760" y="955"/>
                </a:lnTo>
                <a:lnTo>
                  <a:pt x="1728" y="955"/>
                </a:lnTo>
                <a:lnTo>
                  <a:pt x="1695" y="955"/>
                </a:lnTo>
                <a:lnTo>
                  <a:pt x="1663" y="955"/>
                </a:lnTo>
                <a:lnTo>
                  <a:pt x="1631" y="955"/>
                </a:lnTo>
                <a:lnTo>
                  <a:pt x="1592" y="955"/>
                </a:lnTo>
                <a:lnTo>
                  <a:pt x="1560" y="949"/>
                </a:lnTo>
                <a:lnTo>
                  <a:pt x="1527" y="949"/>
                </a:lnTo>
                <a:lnTo>
                  <a:pt x="1495" y="949"/>
                </a:lnTo>
                <a:lnTo>
                  <a:pt x="1463" y="943"/>
                </a:lnTo>
                <a:lnTo>
                  <a:pt x="1430" y="943"/>
                </a:lnTo>
                <a:lnTo>
                  <a:pt x="1398" y="943"/>
                </a:lnTo>
                <a:lnTo>
                  <a:pt x="1366" y="936"/>
                </a:lnTo>
                <a:lnTo>
                  <a:pt x="1333" y="936"/>
                </a:lnTo>
                <a:lnTo>
                  <a:pt x="1301" y="936"/>
                </a:lnTo>
                <a:lnTo>
                  <a:pt x="1268" y="930"/>
                </a:lnTo>
                <a:lnTo>
                  <a:pt x="1236" y="930"/>
                </a:lnTo>
                <a:lnTo>
                  <a:pt x="1204" y="924"/>
                </a:lnTo>
                <a:lnTo>
                  <a:pt x="1178" y="924"/>
                </a:lnTo>
                <a:lnTo>
                  <a:pt x="1146" y="918"/>
                </a:lnTo>
                <a:lnTo>
                  <a:pt x="1113" y="912"/>
                </a:lnTo>
                <a:lnTo>
                  <a:pt x="1081" y="912"/>
                </a:lnTo>
                <a:lnTo>
                  <a:pt x="1055" y="905"/>
                </a:lnTo>
                <a:lnTo>
                  <a:pt x="1023" y="905"/>
                </a:lnTo>
                <a:lnTo>
                  <a:pt x="997" y="899"/>
                </a:lnTo>
                <a:lnTo>
                  <a:pt x="964" y="893"/>
                </a:lnTo>
                <a:lnTo>
                  <a:pt x="938" y="893"/>
                </a:lnTo>
                <a:lnTo>
                  <a:pt x="906" y="887"/>
                </a:lnTo>
                <a:lnTo>
                  <a:pt x="880" y="881"/>
                </a:lnTo>
                <a:lnTo>
                  <a:pt x="848" y="881"/>
                </a:lnTo>
                <a:lnTo>
                  <a:pt x="822" y="874"/>
                </a:lnTo>
                <a:lnTo>
                  <a:pt x="796" y="868"/>
                </a:lnTo>
                <a:lnTo>
                  <a:pt x="770" y="862"/>
                </a:lnTo>
                <a:lnTo>
                  <a:pt x="738" y="856"/>
                </a:lnTo>
                <a:lnTo>
                  <a:pt x="712" y="850"/>
                </a:lnTo>
                <a:lnTo>
                  <a:pt x="686" y="850"/>
                </a:lnTo>
                <a:lnTo>
                  <a:pt x="660" y="843"/>
                </a:lnTo>
                <a:lnTo>
                  <a:pt x="641" y="837"/>
                </a:lnTo>
                <a:lnTo>
                  <a:pt x="615" y="831"/>
                </a:lnTo>
                <a:lnTo>
                  <a:pt x="589" y="825"/>
                </a:lnTo>
                <a:lnTo>
                  <a:pt x="563" y="819"/>
                </a:lnTo>
                <a:lnTo>
                  <a:pt x="544" y="812"/>
                </a:lnTo>
                <a:lnTo>
                  <a:pt x="518" y="806"/>
                </a:lnTo>
                <a:lnTo>
                  <a:pt x="492" y="800"/>
                </a:lnTo>
                <a:lnTo>
                  <a:pt x="473" y="794"/>
                </a:lnTo>
                <a:lnTo>
                  <a:pt x="453" y="788"/>
                </a:lnTo>
                <a:lnTo>
                  <a:pt x="427" y="781"/>
                </a:lnTo>
                <a:lnTo>
                  <a:pt x="408" y="775"/>
                </a:lnTo>
                <a:lnTo>
                  <a:pt x="389" y="769"/>
                </a:lnTo>
                <a:lnTo>
                  <a:pt x="369" y="763"/>
                </a:lnTo>
                <a:lnTo>
                  <a:pt x="350" y="757"/>
                </a:lnTo>
                <a:lnTo>
                  <a:pt x="330" y="750"/>
                </a:lnTo>
                <a:lnTo>
                  <a:pt x="311" y="738"/>
                </a:lnTo>
                <a:lnTo>
                  <a:pt x="291" y="732"/>
                </a:lnTo>
                <a:lnTo>
                  <a:pt x="272" y="726"/>
                </a:lnTo>
                <a:lnTo>
                  <a:pt x="259" y="719"/>
                </a:lnTo>
                <a:lnTo>
                  <a:pt x="240" y="713"/>
                </a:lnTo>
                <a:lnTo>
                  <a:pt x="227" y="707"/>
                </a:lnTo>
                <a:lnTo>
                  <a:pt x="207" y="695"/>
                </a:lnTo>
                <a:lnTo>
                  <a:pt x="194" y="688"/>
                </a:lnTo>
                <a:lnTo>
                  <a:pt x="181" y="682"/>
                </a:lnTo>
                <a:lnTo>
                  <a:pt x="169" y="676"/>
                </a:lnTo>
                <a:lnTo>
                  <a:pt x="149" y="670"/>
                </a:lnTo>
                <a:lnTo>
                  <a:pt x="136" y="657"/>
                </a:lnTo>
                <a:lnTo>
                  <a:pt x="130" y="651"/>
                </a:lnTo>
                <a:lnTo>
                  <a:pt x="117" y="645"/>
                </a:lnTo>
                <a:lnTo>
                  <a:pt x="104" y="633"/>
                </a:lnTo>
                <a:lnTo>
                  <a:pt x="91" y="626"/>
                </a:lnTo>
                <a:lnTo>
                  <a:pt x="84" y="620"/>
                </a:lnTo>
                <a:lnTo>
                  <a:pt x="71" y="614"/>
                </a:lnTo>
                <a:lnTo>
                  <a:pt x="65" y="602"/>
                </a:lnTo>
                <a:lnTo>
                  <a:pt x="59" y="595"/>
                </a:lnTo>
                <a:lnTo>
                  <a:pt x="46" y="589"/>
                </a:lnTo>
                <a:lnTo>
                  <a:pt x="39" y="577"/>
                </a:lnTo>
                <a:lnTo>
                  <a:pt x="33" y="571"/>
                </a:lnTo>
                <a:lnTo>
                  <a:pt x="26" y="564"/>
                </a:lnTo>
                <a:lnTo>
                  <a:pt x="20" y="552"/>
                </a:lnTo>
                <a:lnTo>
                  <a:pt x="20" y="546"/>
                </a:lnTo>
                <a:lnTo>
                  <a:pt x="13" y="540"/>
                </a:lnTo>
                <a:lnTo>
                  <a:pt x="7" y="527"/>
                </a:lnTo>
                <a:lnTo>
                  <a:pt x="7" y="521"/>
                </a:lnTo>
                <a:lnTo>
                  <a:pt x="0" y="515"/>
                </a:lnTo>
                <a:lnTo>
                  <a:pt x="0" y="502"/>
                </a:lnTo>
                <a:lnTo>
                  <a:pt x="0" y="496"/>
                </a:lnTo>
                <a:lnTo>
                  <a:pt x="0" y="490"/>
                </a:lnTo>
                <a:lnTo>
                  <a:pt x="0" y="478"/>
                </a:lnTo>
                <a:lnTo>
                  <a:pt x="0" y="471"/>
                </a:lnTo>
                <a:lnTo>
                  <a:pt x="0" y="465"/>
                </a:lnTo>
                <a:lnTo>
                  <a:pt x="0" y="453"/>
                </a:lnTo>
                <a:lnTo>
                  <a:pt x="0" y="447"/>
                </a:lnTo>
                <a:lnTo>
                  <a:pt x="7" y="434"/>
                </a:lnTo>
                <a:lnTo>
                  <a:pt x="7" y="428"/>
                </a:lnTo>
                <a:lnTo>
                  <a:pt x="13" y="422"/>
                </a:lnTo>
                <a:lnTo>
                  <a:pt x="20" y="409"/>
                </a:lnTo>
                <a:lnTo>
                  <a:pt x="20" y="403"/>
                </a:lnTo>
                <a:lnTo>
                  <a:pt x="26" y="397"/>
                </a:lnTo>
                <a:lnTo>
                  <a:pt x="33" y="385"/>
                </a:lnTo>
                <a:lnTo>
                  <a:pt x="39" y="378"/>
                </a:lnTo>
                <a:lnTo>
                  <a:pt x="46" y="372"/>
                </a:lnTo>
                <a:lnTo>
                  <a:pt x="59" y="366"/>
                </a:lnTo>
                <a:lnTo>
                  <a:pt x="65" y="354"/>
                </a:lnTo>
                <a:lnTo>
                  <a:pt x="71" y="347"/>
                </a:lnTo>
                <a:lnTo>
                  <a:pt x="84" y="341"/>
                </a:lnTo>
                <a:lnTo>
                  <a:pt x="91" y="329"/>
                </a:lnTo>
                <a:lnTo>
                  <a:pt x="104" y="323"/>
                </a:lnTo>
                <a:lnTo>
                  <a:pt x="117" y="316"/>
                </a:lnTo>
                <a:lnTo>
                  <a:pt x="130" y="304"/>
                </a:lnTo>
                <a:lnTo>
                  <a:pt x="136" y="298"/>
                </a:lnTo>
                <a:lnTo>
                  <a:pt x="149" y="292"/>
                </a:lnTo>
                <a:lnTo>
                  <a:pt x="169" y="285"/>
                </a:lnTo>
                <a:lnTo>
                  <a:pt x="181" y="273"/>
                </a:lnTo>
                <a:lnTo>
                  <a:pt x="194" y="267"/>
                </a:lnTo>
                <a:lnTo>
                  <a:pt x="207" y="261"/>
                </a:lnTo>
                <a:lnTo>
                  <a:pt x="227" y="254"/>
                </a:lnTo>
                <a:lnTo>
                  <a:pt x="227" y="254"/>
                </a:lnTo>
                <a:lnTo>
                  <a:pt x="240" y="248"/>
                </a:lnTo>
                <a:lnTo>
                  <a:pt x="259" y="236"/>
                </a:lnTo>
                <a:lnTo>
                  <a:pt x="272" y="230"/>
                </a:lnTo>
                <a:lnTo>
                  <a:pt x="291" y="223"/>
                </a:lnTo>
                <a:lnTo>
                  <a:pt x="311" y="217"/>
                </a:lnTo>
                <a:lnTo>
                  <a:pt x="330" y="211"/>
                </a:lnTo>
                <a:lnTo>
                  <a:pt x="350" y="205"/>
                </a:lnTo>
                <a:lnTo>
                  <a:pt x="369" y="199"/>
                </a:lnTo>
                <a:lnTo>
                  <a:pt x="389" y="192"/>
                </a:lnTo>
                <a:lnTo>
                  <a:pt x="408" y="186"/>
                </a:lnTo>
                <a:lnTo>
                  <a:pt x="427" y="174"/>
                </a:lnTo>
                <a:lnTo>
                  <a:pt x="453" y="168"/>
                </a:lnTo>
                <a:lnTo>
                  <a:pt x="473" y="161"/>
                </a:lnTo>
                <a:lnTo>
                  <a:pt x="492" y="155"/>
                </a:lnTo>
                <a:lnTo>
                  <a:pt x="518" y="149"/>
                </a:lnTo>
                <a:lnTo>
                  <a:pt x="544" y="143"/>
                </a:lnTo>
                <a:lnTo>
                  <a:pt x="563" y="137"/>
                </a:lnTo>
                <a:lnTo>
                  <a:pt x="589" y="137"/>
                </a:lnTo>
                <a:lnTo>
                  <a:pt x="615" y="130"/>
                </a:lnTo>
                <a:lnTo>
                  <a:pt x="641" y="124"/>
                </a:lnTo>
                <a:lnTo>
                  <a:pt x="660" y="118"/>
                </a:lnTo>
                <a:lnTo>
                  <a:pt x="686" y="112"/>
                </a:lnTo>
                <a:lnTo>
                  <a:pt x="712" y="106"/>
                </a:lnTo>
                <a:lnTo>
                  <a:pt x="738" y="99"/>
                </a:lnTo>
                <a:lnTo>
                  <a:pt x="770" y="93"/>
                </a:lnTo>
                <a:lnTo>
                  <a:pt x="796" y="93"/>
                </a:lnTo>
                <a:lnTo>
                  <a:pt x="822" y="87"/>
                </a:lnTo>
                <a:lnTo>
                  <a:pt x="848" y="81"/>
                </a:lnTo>
                <a:lnTo>
                  <a:pt x="880" y="75"/>
                </a:lnTo>
                <a:lnTo>
                  <a:pt x="906" y="75"/>
                </a:lnTo>
                <a:lnTo>
                  <a:pt x="938" y="68"/>
                </a:lnTo>
                <a:lnTo>
                  <a:pt x="964" y="62"/>
                </a:lnTo>
                <a:lnTo>
                  <a:pt x="997" y="56"/>
                </a:lnTo>
                <a:lnTo>
                  <a:pt x="1023" y="56"/>
                </a:lnTo>
                <a:lnTo>
                  <a:pt x="1055" y="50"/>
                </a:lnTo>
                <a:lnTo>
                  <a:pt x="1081" y="50"/>
                </a:lnTo>
                <a:lnTo>
                  <a:pt x="1113" y="44"/>
                </a:lnTo>
                <a:lnTo>
                  <a:pt x="1146" y="37"/>
                </a:lnTo>
                <a:lnTo>
                  <a:pt x="1178" y="37"/>
                </a:lnTo>
                <a:lnTo>
                  <a:pt x="1204" y="31"/>
                </a:lnTo>
                <a:lnTo>
                  <a:pt x="1236" y="31"/>
                </a:lnTo>
                <a:lnTo>
                  <a:pt x="1268" y="25"/>
                </a:lnTo>
                <a:lnTo>
                  <a:pt x="1301" y="25"/>
                </a:lnTo>
                <a:lnTo>
                  <a:pt x="1333" y="25"/>
                </a:lnTo>
                <a:lnTo>
                  <a:pt x="1366" y="19"/>
                </a:lnTo>
                <a:lnTo>
                  <a:pt x="1398" y="19"/>
                </a:lnTo>
                <a:lnTo>
                  <a:pt x="1430" y="13"/>
                </a:lnTo>
                <a:lnTo>
                  <a:pt x="1463" y="13"/>
                </a:lnTo>
                <a:lnTo>
                  <a:pt x="1495" y="13"/>
                </a:lnTo>
                <a:lnTo>
                  <a:pt x="1527" y="6"/>
                </a:lnTo>
                <a:lnTo>
                  <a:pt x="1560" y="6"/>
                </a:lnTo>
                <a:lnTo>
                  <a:pt x="1592" y="6"/>
                </a:lnTo>
                <a:lnTo>
                  <a:pt x="1631" y="6"/>
                </a:lnTo>
                <a:lnTo>
                  <a:pt x="1663" y="6"/>
                </a:lnTo>
                <a:lnTo>
                  <a:pt x="1695" y="0"/>
                </a:lnTo>
                <a:lnTo>
                  <a:pt x="1728" y="0"/>
                </a:lnTo>
                <a:lnTo>
                  <a:pt x="1760" y="0"/>
                </a:lnTo>
                <a:lnTo>
                  <a:pt x="1793" y="0"/>
                </a:lnTo>
                <a:lnTo>
                  <a:pt x="1831" y="0"/>
                </a:lnTo>
                <a:lnTo>
                  <a:pt x="1864" y="0"/>
                </a:lnTo>
                <a:lnTo>
                  <a:pt x="1896" y="0"/>
                </a:lnTo>
                <a:lnTo>
                  <a:pt x="1928" y="0"/>
                </a:lnTo>
                <a:lnTo>
                  <a:pt x="1961" y="0"/>
                </a:lnTo>
                <a:lnTo>
                  <a:pt x="2000" y="0"/>
                </a:lnTo>
                <a:lnTo>
                  <a:pt x="2032" y="0"/>
                </a:lnTo>
                <a:lnTo>
                  <a:pt x="2064" y="0"/>
                </a:lnTo>
                <a:lnTo>
                  <a:pt x="2097" y="0"/>
                </a:lnTo>
                <a:lnTo>
                  <a:pt x="2129" y="0"/>
                </a:lnTo>
                <a:lnTo>
                  <a:pt x="2168" y="0"/>
                </a:lnTo>
                <a:lnTo>
                  <a:pt x="2200" y="6"/>
                </a:lnTo>
                <a:lnTo>
                  <a:pt x="2232" y="6"/>
                </a:lnTo>
                <a:lnTo>
                  <a:pt x="2265" y="6"/>
                </a:lnTo>
                <a:lnTo>
                  <a:pt x="2297" y="6"/>
                </a:lnTo>
                <a:lnTo>
                  <a:pt x="2330" y="6"/>
                </a:lnTo>
                <a:lnTo>
                  <a:pt x="2362" y="13"/>
                </a:lnTo>
                <a:lnTo>
                  <a:pt x="2394" y="13"/>
                </a:lnTo>
                <a:lnTo>
                  <a:pt x="2433" y="13"/>
                </a:lnTo>
                <a:lnTo>
                  <a:pt x="2465" y="19"/>
                </a:lnTo>
                <a:lnTo>
                  <a:pt x="2498" y="19"/>
                </a:lnTo>
                <a:lnTo>
                  <a:pt x="2524" y="25"/>
                </a:lnTo>
                <a:lnTo>
                  <a:pt x="2556" y="25"/>
                </a:lnTo>
                <a:lnTo>
                  <a:pt x="2588" y="25"/>
                </a:lnTo>
                <a:lnTo>
                  <a:pt x="2621" y="31"/>
                </a:lnTo>
                <a:lnTo>
                  <a:pt x="2653" y="31"/>
                </a:lnTo>
                <a:lnTo>
                  <a:pt x="2685" y="37"/>
                </a:lnTo>
                <a:lnTo>
                  <a:pt x="2718" y="37"/>
                </a:lnTo>
                <a:lnTo>
                  <a:pt x="2744" y="44"/>
                </a:lnTo>
                <a:lnTo>
                  <a:pt x="2776" y="50"/>
                </a:lnTo>
                <a:lnTo>
                  <a:pt x="2808" y="50"/>
                </a:lnTo>
                <a:lnTo>
                  <a:pt x="2834" y="56"/>
                </a:lnTo>
                <a:lnTo>
                  <a:pt x="2867" y="56"/>
                </a:lnTo>
                <a:lnTo>
                  <a:pt x="2899" y="62"/>
                </a:lnTo>
                <a:lnTo>
                  <a:pt x="2925" y="68"/>
                </a:lnTo>
                <a:lnTo>
                  <a:pt x="2951" y="75"/>
                </a:lnTo>
                <a:lnTo>
                  <a:pt x="2983" y="75"/>
                </a:lnTo>
                <a:lnTo>
                  <a:pt x="3009" y="81"/>
                </a:lnTo>
                <a:lnTo>
                  <a:pt x="3035" y="87"/>
                </a:lnTo>
                <a:lnTo>
                  <a:pt x="3067" y="93"/>
                </a:lnTo>
                <a:lnTo>
                  <a:pt x="3093" y="93"/>
                </a:lnTo>
                <a:lnTo>
                  <a:pt x="3119" y="99"/>
                </a:lnTo>
                <a:lnTo>
                  <a:pt x="3145" y="106"/>
                </a:lnTo>
                <a:lnTo>
                  <a:pt x="3171" y="112"/>
                </a:lnTo>
                <a:lnTo>
                  <a:pt x="3197" y="118"/>
                </a:lnTo>
                <a:lnTo>
                  <a:pt x="3222" y="124"/>
                </a:lnTo>
                <a:lnTo>
                  <a:pt x="3248" y="130"/>
                </a:lnTo>
                <a:lnTo>
                  <a:pt x="3274" y="137"/>
                </a:lnTo>
                <a:lnTo>
                  <a:pt x="3294" y="137"/>
                </a:lnTo>
                <a:lnTo>
                  <a:pt x="3319" y="143"/>
                </a:lnTo>
                <a:lnTo>
                  <a:pt x="3345" y="149"/>
                </a:lnTo>
                <a:lnTo>
                  <a:pt x="3365" y="155"/>
                </a:lnTo>
                <a:lnTo>
                  <a:pt x="3391" y="161"/>
                </a:lnTo>
                <a:lnTo>
                  <a:pt x="3410" y="168"/>
                </a:lnTo>
                <a:lnTo>
                  <a:pt x="3429" y="174"/>
                </a:lnTo>
                <a:lnTo>
                  <a:pt x="3449" y="186"/>
                </a:lnTo>
                <a:lnTo>
                  <a:pt x="3475" y="192"/>
                </a:lnTo>
                <a:lnTo>
                  <a:pt x="3494" y="199"/>
                </a:lnTo>
                <a:lnTo>
                  <a:pt x="3514" y="205"/>
                </a:lnTo>
                <a:lnTo>
                  <a:pt x="3533" y="211"/>
                </a:lnTo>
                <a:lnTo>
                  <a:pt x="3552" y="217"/>
                </a:lnTo>
                <a:lnTo>
                  <a:pt x="3565" y="223"/>
                </a:lnTo>
                <a:lnTo>
                  <a:pt x="3585" y="230"/>
                </a:lnTo>
                <a:lnTo>
                  <a:pt x="3604" y="236"/>
                </a:lnTo>
                <a:lnTo>
                  <a:pt x="3617" y="248"/>
                </a:lnTo>
                <a:lnTo>
                  <a:pt x="3636" y="254"/>
                </a:lnTo>
                <a:lnTo>
                  <a:pt x="3649" y="261"/>
                </a:lnTo>
                <a:lnTo>
                  <a:pt x="3669" y="267"/>
                </a:lnTo>
                <a:lnTo>
                  <a:pt x="3682" y="273"/>
                </a:lnTo>
                <a:lnTo>
                  <a:pt x="3695" y="285"/>
                </a:lnTo>
                <a:lnTo>
                  <a:pt x="3708" y="292"/>
                </a:lnTo>
                <a:lnTo>
                  <a:pt x="3721" y="298"/>
                </a:lnTo>
                <a:lnTo>
                  <a:pt x="3734" y="304"/>
                </a:lnTo>
                <a:lnTo>
                  <a:pt x="3746" y="316"/>
                </a:lnTo>
                <a:lnTo>
                  <a:pt x="3753" y="323"/>
                </a:lnTo>
                <a:lnTo>
                  <a:pt x="3766" y="329"/>
                </a:lnTo>
                <a:lnTo>
                  <a:pt x="3779" y="341"/>
                </a:lnTo>
                <a:lnTo>
                  <a:pt x="3785" y="347"/>
                </a:lnTo>
                <a:lnTo>
                  <a:pt x="3798" y="354"/>
                </a:lnTo>
                <a:lnTo>
                  <a:pt x="1928" y="478"/>
                </a:lnTo>
                <a:lnTo>
                  <a:pt x="2588" y="93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51560" y="5221440"/>
            <a:ext cx="2143080" cy="457200"/>
          </a:xfrm>
          <a:prstGeom prst="rect">
            <a:avLst/>
          </a:prstGeom>
          <a:noFill/>
          <a:ln w="64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Resisten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970320" y="5778360"/>
            <a:ext cx="1105560" cy="457200"/>
          </a:xfrm>
          <a:prstGeom prst="rect">
            <a:avLst/>
          </a:prstGeom>
          <a:noFill/>
          <a:ln w="64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38.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1040" y="2585880"/>
            <a:ext cx="1868760" cy="457200"/>
          </a:xfrm>
          <a:prstGeom prst="rect">
            <a:avLst/>
          </a:prstGeom>
          <a:noFill/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Bookman Old Style"/>
              </a:rPr>
              <a:t>Sensibil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9120" y="3144960"/>
            <a:ext cx="1452600" cy="457200"/>
          </a:xfrm>
          <a:prstGeom prst="rect">
            <a:avLst/>
          </a:prstGeom>
          <a:noFill/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Bookman Old Style"/>
              </a:rPr>
              <a:t>58.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8520" y="5602320"/>
            <a:ext cx="4469040" cy="934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Erythromycin resistance in </a:t>
            </a:r>
            <a:br>
              <a:rPr sz="1800"/>
            </a:br>
            <a:r>
              <a:rPr b="1" i="1" lang="it-IT" sz="1800" spc="-1" strike="noStrike">
                <a:solidFill>
                  <a:srgbClr val="666666"/>
                </a:solidFill>
                <a:latin typeface="Bookman Old Style"/>
              </a:rPr>
              <a:t>Streptococcus pyogenes</a:t>
            </a:r>
            <a:r>
              <a:rPr b="1" lang="it-IT" sz="1800" spc="-1" strike="noStrike">
                <a:solidFill>
                  <a:srgbClr val="666666"/>
                </a:solidFill>
                <a:latin typeface="Bookman Old Style"/>
              </a:rPr>
              <a:t> in Italy </a:t>
            </a:r>
            <a:br>
              <a:rPr sz="1800"/>
            </a:br>
            <a:r>
              <a:rPr b="1" i="1" lang="it-IT" sz="1800" spc="-1" strike="noStrike">
                <a:solidFill>
                  <a:srgbClr val="666666"/>
                </a:solidFill>
                <a:latin typeface="Bookman Old Style"/>
              </a:rPr>
              <a:t>Emerg Infect Dis 6:180-183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igura7" descr=""/>
          <p:cNvPicPr/>
          <p:nvPr/>
        </p:nvPicPr>
        <p:blipFill>
          <a:blip r:embed="rId1"/>
          <a:stretch/>
        </p:blipFill>
        <p:spPr>
          <a:xfrm>
            <a:off x="896760" y="1827360"/>
            <a:ext cx="7399440" cy="4927320"/>
          </a:xfrm>
          <a:prstGeom prst="rect">
            <a:avLst/>
          </a:prstGeom>
          <a:ln w="38160">
            <a:solidFill>
              <a:srgbClr val="94143a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052800" y="1054080"/>
            <a:ext cx="3089160" cy="642600"/>
          </a:xfrm>
          <a:prstGeom prst="rect">
            <a:avLst/>
          </a:prstGeom>
          <a:solidFill>
            <a:srgbClr val="ff9966">
              <a:alpha val="50000"/>
            </a:srgbClr>
          </a:solidFill>
          <a:ln w="38160">
            <a:solidFill>
              <a:srgbClr val="941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Impetig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77880" y="1054080"/>
            <a:ext cx="7788240" cy="820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143a"/>
                </a:solidFill>
                <a:latin typeface="Bookman Old Style"/>
              </a:rPr>
              <a:t>RESISTENZE BATTERI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1295280" y="5838480"/>
            <a:ext cx="3059280" cy="685800"/>
          </a:xfrm>
          <a:prstGeom prst="rect">
            <a:avLst/>
          </a:prstGeom>
          <a:solidFill>
            <a:srgbClr val="ffcc99"/>
          </a:solidFill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6666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NATUR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batteri-antibiotici." descr=""/>
          <p:cNvPicPr/>
          <p:nvPr/>
        </p:nvPicPr>
        <p:blipFill>
          <a:blip r:embed="rId1"/>
          <a:stretch/>
        </p:blipFill>
        <p:spPr>
          <a:xfrm>
            <a:off x="2700360" y="2367000"/>
            <a:ext cx="3792600" cy="237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7" name=""/>
          <p:cNvSpPr/>
          <p:nvPr/>
        </p:nvSpPr>
        <p:spPr>
          <a:xfrm>
            <a:off x="5202360" y="5860440"/>
            <a:ext cx="2874960" cy="642600"/>
          </a:xfrm>
          <a:prstGeom prst="rect">
            <a:avLst/>
          </a:prstGeom>
          <a:solidFill>
            <a:srgbClr val="ff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"/>
              </a:rPr>
              <a:t>ACQUI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210800">
            <a:off x="3928680" y="4962600"/>
            <a:ext cx="541440" cy="761760"/>
          </a:xfrm>
          <a:prstGeom prst="downArrow">
            <a:avLst>
              <a:gd name="adj1" fmla="val 50000"/>
              <a:gd name="adj2" fmla="val 35173"/>
            </a:avLst>
          </a:prstGeom>
          <a:solidFill>
            <a:srgbClr val="94143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20640000">
            <a:off x="4808520" y="4962600"/>
            <a:ext cx="542880" cy="761760"/>
          </a:xfrm>
          <a:prstGeom prst="downArrow">
            <a:avLst>
              <a:gd name="adj1" fmla="val 50000"/>
              <a:gd name="adj2" fmla="val 35080"/>
            </a:avLst>
          </a:prstGeom>
          <a:solidFill>
            <a:srgbClr val="94143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4760" y="1054080"/>
            <a:ext cx="8263080" cy="12463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MECCANISMI DI RESISTENZA ACQUIS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869760" y="2766600"/>
            <a:ext cx="7453080" cy="3328920"/>
          </a:xfrm>
          <a:prstGeom prst="rect">
            <a:avLst/>
          </a:prstGeom>
          <a:noFill/>
          <a:ln w="2844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1)  MODIFICAZIONE DEL BERSAG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4143a"/>
              </a:buClr>
              <a:buFont typeface="Bookman Old Styl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IMPERMEABI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DEGLI INVOLUCRI ESTE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3)  INATTIVAZIONE ENZIMA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4)  SISTEMA DI EFFLUSSO AT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143a"/>
                </a:solidFill>
                <a:latin typeface="Bookman Old Style"/>
              </a:rPr>
              <a:t>5)  INTERN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084320" y="1676520"/>
            <a:ext cx="7091280" cy="3203280"/>
          </a:xfrm>
          <a:prstGeom prst="rect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UN’ALTA PERCENTU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DI MANCATA ERAD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DI </a:t>
            </a:r>
            <a:r>
              <a:rPr b="1" i="1" lang="en-US" sz="3200" spc="-1" strike="noStrike">
                <a:solidFill>
                  <a:srgbClr val="94143a"/>
                </a:solidFill>
                <a:latin typeface="Bookman Old Style"/>
              </a:rPr>
              <a:t>S.PYOGENES</a:t>
            </a: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 È DOVUTA ALLA PRES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4143a"/>
                </a:solidFill>
                <a:latin typeface="Bookman Old Style"/>
              </a:rPr>
              <a:t>DEL GENE PRT F</a:t>
            </a:r>
            <a:r>
              <a:rPr b="1" lang="en-US" sz="3200" spc="-1" strike="noStrike" baseline="-25000">
                <a:solidFill>
                  <a:srgbClr val="94143a"/>
                </a:solidFill>
                <a:latin typeface="Bookman Old Style"/>
              </a:rPr>
              <a:t>1</a:t>
            </a:r>
            <a:r>
              <a:rPr b="0" lang="en-US" sz="3200" spc="-1" strike="noStrike" baseline="-25000">
                <a:solidFill>
                  <a:srgbClr val="94143a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0080" y="6213600"/>
            <a:ext cx="165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398680" y="5997600"/>
            <a:ext cx="4395960" cy="352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R. Neeman, The Lancet, 352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01280" y="1054080"/>
            <a:ext cx="7790040" cy="7812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143a"/>
                </a:solidFill>
                <a:latin typeface="Bookman Old Style"/>
              </a:rPr>
              <a:t>INTERNALIZZAZIONE</a:t>
            </a:r>
            <a:r>
              <a:rPr b="0" lang="en-US" sz="3600" spc="-1" strike="noStrike">
                <a:solidFill>
                  <a:srgbClr val="94143a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599760" y="2470320"/>
            <a:ext cx="7993080" cy="3047760"/>
          </a:xfrm>
          <a:prstGeom prst="rect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94143a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I CEPPI DI </a:t>
            </a:r>
            <a:r>
              <a:rPr b="1" i="1" lang="en-US" sz="3000" spc="-1" strike="noStrike">
                <a:solidFill>
                  <a:srgbClr val="94143a"/>
                </a:solidFill>
                <a:latin typeface="Bookman Old Style"/>
              </a:rPr>
              <a:t>S.PYOGE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CHE HANNO IL GENE PRT F</a:t>
            </a:r>
            <a:r>
              <a:rPr b="1" lang="en-US" sz="3000" spc="-1" strike="noStrike" baseline="-25000">
                <a:solidFill>
                  <a:srgbClr val="94143a"/>
                </a:solidFill>
                <a:latin typeface="Bookman Old Style"/>
              </a:rPr>
              <a:t>1</a:t>
            </a: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 PRODUCONO UNA PROTE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4143a"/>
                </a:solidFill>
                <a:latin typeface="Bookman Old Style"/>
              </a:rPr>
              <a:t>CHE CONSENTE LORO DI PENETRARE DENTRO LE CELLULE EPITELIALI</a:t>
            </a:r>
            <a:r>
              <a:rPr b="0" lang="en-US" sz="3000" spc="-1" strike="noStrike">
                <a:solidFill>
                  <a:srgbClr val="94143a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41480" y="5997600"/>
            <a:ext cx="4395960" cy="352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Bookman Old Style"/>
              </a:rPr>
              <a:t>R. Neeman, The Lancet, 352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4767120" y="1635120"/>
            <a:ext cx="2576520" cy="1914480"/>
          </a:xfrm>
          <a:custGeom>
            <a:avLst/>
            <a:gdLst/>
            <a:ahLst/>
            <a:rect l="l" t="t" r="r" b="b"/>
            <a:pathLst>
              <a:path w="1638" h="1611">
                <a:moveTo>
                  <a:pt x="295" y="529"/>
                </a:moveTo>
                <a:cubicBezTo>
                  <a:pt x="230" y="643"/>
                  <a:pt x="90" y="741"/>
                  <a:pt x="57" y="860"/>
                </a:cubicBezTo>
                <a:cubicBezTo>
                  <a:pt x="24" y="979"/>
                  <a:pt x="0" y="1124"/>
                  <a:pt x="95" y="1244"/>
                </a:cubicBezTo>
                <a:cubicBezTo>
                  <a:pt x="190" y="1364"/>
                  <a:pt x="447" y="1555"/>
                  <a:pt x="626" y="1583"/>
                </a:cubicBezTo>
                <a:cubicBezTo>
                  <a:pt x="805" y="1611"/>
                  <a:pt x="998" y="1548"/>
                  <a:pt x="1167" y="1414"/>
                </a:cubicBezTo>
                <a:cubicBezTo>
                  <a:pt x="1336" y="1280"/>
                  <a:pt x="1638" y="999"/>
                  <a:pt x="1638" y="780"/>
                </a:cubicBezTo>
                <a:cubicBezTo>
                  <a:pt x="1638" y="561"/>
                  <a:pt x="1366" y="202"/>
                  <a:pt x="1167" y="101"/>
                </a:cubicBezTo>
                <a:cubicBezTo>
                  <a:pt x="968" y="0"/>
                  <a:pt x="590" y="104"/>
                  <a:pt x="445" y="175"/>
                </a:cubicBezTo>
                <a:cubicBezTo>
                  <a:pt x="300" y="246"/>
                  <a:pt x="360" y="415"/>
                  <a:pt x="295" y="529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381400" y="1335240"/>
            <a:ext cx="2160360" cy="2008080"/>
          </a:xfrm>
          <a:custGeom>
            <a:avLst/>
            <a:gdLst/>
            <a:ahLst/>
            <a:rect l="l" t="t" r="r" b="b"/>
            <a:pathLst>
              <a:path w="1651" h="1611">
                <a:moveTo>
                  <a:pt x="120" y="484"/>
                </a:moveTo>
                <a:cubicBezTo>
                  <a:pt x="70" y="643"/>
                  <a:pt x="6" y="944"/>
                  <a:pt x="3" y="1088"/>
                </a:cubicBezTo>
                <a:cubicBezTo>
                  <a:pt x="0" y="1232"/>
                  <a:pt x="8" y="1261"/>
                  <a:pt x="99" y="1347"/>
                </a:cubicBezTo>
                <a:cubicBezTo>
                  <a:pt x="190" y="1433"/>
                  <a:pt x="370" y="1591"/>
                  <a:pt x="546" y="1601"/>
                </a:cubicBezTo>
                <a:cubicBezTo>
                  <a:pt x="722" y="1611"/>
                  <a:pt x="977" y="1543"/>
                  <a:pt x="1158" y="1405"/>
                </a:cubicBezTo>
                <a:cubicBezTo>
                  <a:pt x="1339" y="1267"/>
                  <a:pt x="1651" y="948"/>
                  <a:pt x="1629" y="771"/>
                </a:cubicBezTo>
                <a:cubicBezTo>
                  <a:pt x="1607" y="594"/>
                  <a:pt x="1222" y="465"/>
                  <a:pt x="1023" y="340"/>
                </a:cubicBezTo>
                <a:cubicBezTo>
                  <a:pt x="824" y="215"/>
                  <a:pt x="588" y="0"/>
                  <a:pt x="438" y="24"/>
                </a:cubicBezTo>
                <a:cubicBezTo>
                  <a:pt x="288" y="48"/>
                  <a:pt x="186" y="388"/>
                  <a:pt x="120" y="484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5520" y="3684600"/>
            <a:ext cx="2387520" cy="1839960"/>
          </a:xfrm>
          <a:custGeom>
            <a:avLst/>
            <a:gdLst/>
            <a:ahLst/>
            <a:rect l="l" t="t" r="r" b="b"/>
            <a:pathLst>
              <a:path w="1640" h="1476">
                <a:moveTo>
                  <a:pt x="182" y="356"/>
                </a:moveTo>
                <a:cubicBezTo>
                  <a:pt x="100" y="472"/>
                  <a:pt x="0" y="890"/>
                  <a:pt x="14" y="1059"/>
                </a:cubicBezTo>
                <a:cubicBezTo>
                  <a:pt x="28" y="1228"/>
                  <a:pt x="169" y="1324"/>
                  <a:pt x="267" y="1371"/>
                </a:cubicBezTo>
                <a:cubicBezTo>
                  <a:pt x="365" y="1418"/>
                  <a:pt x="455" y="1340"/>
                  <a:pt x="605" y="1341"/>
                </a:cubicBezTo>
                <a:cubicBezTo>
                  <a:pt x="755" y="1342"/>
                  <a:pt x="997" y="1476"/>
                  <a:pt x="1169" y="1376"/>
                </a:cubicBezTo>
                <a:cubicBezTo>
                  <a:pt x="1341" y="1276"/>
                  <a:pt x="1640" y="961"/>
                  <a:pt x="1640" y="742"/>
                </a:cubicBezTo>
                <a:cubicBezTo>
                  <a:pt x="1640" y="523"/>
                  <a:pt x="1358" y="126"/>
                  <a:pt x="1169" y="63"/>
                </a:cubicBezTo>
                <a:cubicBezTo>
                  <a:pt x="980" y="0"/>
                  <a:pt x="669" y="315"/>
                  <a:pt x="505" y="364"/>
                </a:cubicBezTo>
                <a:cubicBezTo>
                  <a:pt x="341" y="413"/>
                  <a:pt x="264" y="240"/>
                  <a:pt x="182" y="356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35240" y="3789360"/>
            <a:ext cx="2527200" cy="2392200"/>
          </a:xfrm>
          <a:custGeom>
            <a:avLst/>
            <a:gdLst/>
            <a:ahLst/>
            <a:rect l="l" t="t" r="r" b="b"/>
            <a:pathLst>
              <a:path w="1788" h="1625">
                <a:moveTo>
                  <a:pt x="149" y="593"/>
                </a:moveTo>
                <a:cubicBezTo>
                  <a:pt x="99" y="752"/>
                  <a:pt x="0" y="1033"/>
                  <a:pt x="32" y="1197"/>
                </a:cubicBezTo>
                <a:cubicBezTo>
                  <a:pt x="64" y="1361"/>
                  <a:pt x="245" y="1531"/>
                  <a:pt x="343" y="1578"/>
                </a:cubicBezTo>
                <a:cubicBezTo>
                  <a:pt x="441" y="1625"/>
                  <a:pt x="482" y="1490"/>
                  <a:pt x="623" y="1479"/>
                </a:cubicBezTo>
                <a:cubicBezTo>
                  <a:pt x="764" y="1468"/>
                  <a:pt x="994" y="1618"/>
                  <a:pt x="1187" y="1514"/>
                </a:cubicBezTo>
                <a:cubicBezTo>
                  <a:pt x="1380" y="1410"/>
                  <a:pt x="1774" y="1040"/>
                  <a:pt x="1781" y="855"/>
                </a:cubicBezTo>
                <a:cubicBezTo>
                  <a:pt x="1788" y="670"/>
                  <a:pt x="1419" y="539"/>
                  <a:pt x="1228" y="402"/>
                </a:cubicBezTo>
                <a:cubicBezTo>
                  <a:pt x="1037" y="265"/>
                  <a:pt x="815" y="0"/>
                  <a:pt x="635" y="32"/>
                </a:cubicBezTo>
                <a:cubicBezTo>
                  <a:pt x="455" y="64"/>
                  <a:pt x="250" y="476"/>
                  <a:pt x="149" y="593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757600" y="1754280"/>
            <a:ext cx="628560" cy="658800"/>
          </a:xfrm>
          <a:prstGeom prst="ellipse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29000" y="4567320"/>
            <a:ext cx="627120" cy="657000"/>
          </a:xfrm>
          <a:prstGeom prst="ellipse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27720" y="1874880"/>
            <a:ext cx="628560" cy="657360"/>
          </a:xfrm>
          <a:prstGeom prst="ellipse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32640" y="4567320"/>
            <a:ext cx="627120" cy="657000"/>
          </a:xfrm>
          <a:prstGeom prst="ellipse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3249720" y="4816080"/>
            <a:ext cx="966240" cy="422280"/>
            <a:chOff x="3249720" y="4816080"/>
            <a:chExt cx="966240" cy="422280"/>
          </a:xfrm>
        </p:grpSpPr>
        <p:sp>
          <p:nvSpPr>
            <p:cNvPr id="877" name=""/>
            <p:cNvSpPr/>
            <p:nvPr/>
          </p:nvSpPr>
          <p:spPr>
            <a:xfrm rot="16200000">
              <a:off x="3261600" y="5052960"/>
              <a:ext cx="173160" cy="1972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16200000">
              <a:off x="3411720" y="4983480"/>
              <a:ext cx="173160" cy="1972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6200000">
              <a:off x="3574800" y="5052600"/>
              <a:ext cx="173160" cy="19584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6200000">
              <a:off x="3779640" y="5043240"/>
              <a:ext cx="173160" cy="1969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6200000">
              <a:off x="3330720" y="5132520"/>
              <a:ext cx="33480" cy="38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6200000">
              <a:off x="3481200" y="5027760"/>
              <a:ext cx="33480" cy="38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6200000">
              <a:off x="3644280" y="5131800"/>
              <a:ext cx="34920" cy="39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6200000">
              <a:off x="3850200" y="5122080"/>
              <a:ext cx="33480" cy="38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6200000">
              <a:off x="3904920" y="4923360"/>
              <a:ext cx="173160" cy="1972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6200000">
              <a:off x="3975480" y="5002560"/>
              <a:ext cx="33480" cy="38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6200000">
              <a:off x="4030560" y="4803840"/>
              <a:ext cx="173160" cy="1972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6200000">
              <a:off x="4101480" y="4883400"/>
              <a:ext cx="33480" cy="39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550880" y="1215720"/>
            <a:ext cx="964800" cy="422280"/>
            <a:chOff x="1550880" y="1215720"/>
            <a:chExt cx="964800" cy="422280"/>
          </a:xfrm>
        </p:grpSpPr>
        <p:sp>
          <p:nvSpPr>
            <p:cNvPr id="890" name=""/>
            <p:cNvSpPr/>
            <p:nvPr/>
          </p:nvSpPr>
          <p:spPr>
            <a:xfrm rot="16200000">
              <a:off x="1562760" y="1452960"/>
              <a:ext cx="173160" cy="196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6200000">
              <a:off x="1712880" y="1383480"/>
              <a:ext cx="173160" cy="196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6200000">
              <a:off x="1875600" y="1452600"/>
              <a:ext cx="173160" cy="195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200000">
              <a:off x="2080080" y="1442880"/>
              <a:ext cx="173160" cy="196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6200000">
              <a:off x="1631880" y="1532160"/>
              <a:ext cx="33480" cy="3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200000">
              <a:off x="1782000" y="1427400"/>
              <a:ext cx="33480" cy="3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16200000">
              <a:off x="1944720" y="1531440"/>
              <a:ext cx="34920" cy="3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200000">
              <a:off x="2150280" y="1521720"/>
              <a:ext cx="33480" cy="3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6200000">
              <a:off x="2205360" y="1323360"/>
              <a:ext cx="173160" cy="196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200000">
              <a:off x="2275560" y="1402200"/>
              <a:ext cx="33480" cy="3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16200000">
              <a:off x="2330640" y="1203840"/>
              <a:ext cx="173160" cy="1969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200000">
              <a:off x="2401200" y="1283040"/>
              <a:ext cx="33480" cy="3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2673720" y="2518200"/>
            <a:ext cx="335880" cy="453600"/>
            <a:chOff x="2673720" y="2518200"/>
            <a:chExt cx="335880" cy="453600"/>
          </a:xfrm>
        </p:grpSpPr>
        <p:sp>
          <p:nvSpPr>
            <p:cNvPr id="903" name=""/>
            <p:cNvSpPr/>
            <p:nvPr/>
          </p:nvSpPr>
          <p:spPr>
            <a:xfrm rot="20400000">
              <a:off x="2736720" y="2541600"/>
              <a:ext cx="209520" cy="406440"/>
            </a:xfrm>
            <a:custGeom>
              <a:avLst/>
              <a:gdLst/>
              <a:ahLst/>
              <a:rect l="l" t="t" r="r" b="b"/>
              <a:pathLst>
                <a:path w="194" h="410">
                  <a:moveTo>
                    <a:pt x="172" y="20"/>
                  </a:moveTo>
                  <a:cubicBezTo>
                    <a:pt x="154" y="0"/>
                    <a:pt x="66" y="4"/>
                    <a:pt x="40" y="61"/>
                  </a:cubicBezTo>
                  <a:cubicBezTo>
                    <a:pt x="14" y="118"/>
                    <a:pt x="0" y="310"/>
                    <a:pt x="16" y="360"/>
                  </a:cubicBezTo>
                  <a:cubicBezTo>
                    <a:pt x="32" y="410"/>
                    <a:pt x="118" y="390"/>
                    <a:pt x="139" y="360"/>
                  </a:cubicBezTo>
                  <a:cubicBezTo>
                    <a:pt x="160" y="330"/>
                    <a:pt x="137" y="234"/>
                    <a:pt x="142" y="177"/>
                  </a:cubicBezTo>
                  <a:cubicBezTo>
                    <a:pt x="147" y="120"/>
                    <a:pt x="194" y="43"/>
                    <a:pt x="172" y="20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400000">
              <a:off x="2802960" y="2617920"/>
              <a:ext cx="48600" cy="207000"/>
            </a:xfrm>
            <a:custGeom>
              <a:avLst/>
              <a:gdLst/>
              <a:ahLst/>
              <a:rect l="l" t="t" r="r" b="b"/>
              <a:pathLst>
                <a:path w="45" h="209">
                  <a:moveTo>
                    <a:pt x="40" y="16"/>
                  </a:moveTo>
                  <a:cubicBezTo>
                    <a:pt x="8" y="75"/>
                    <a:pt x="45" y="0"/>
                    <a:pt x="29" y="59"/>
                  </a:cubicBezTo>
                  <a:cubicBezTo>
                    <a:pt x="27" y="67"/>
                    <a:pt x="22" y="73"/>
                    <a:pt x="17" y="80"/>
                  </a:cubicBezTo>
                  <a:cubicBezTo>
                    <a:pt x="14" y="88"/>
                    <a:pt x="9" y="94"/>
                    <a:pt x="7" y="102"/>
                  </a:cubicBezTo>
                  <a:cubicBezTo>
                    <a:pt x="3" y="118"/>
                    <a:pt x="4" y="135"/>
                    <a:pt x="0" y="151"/>
                  </a:cubicBezTo>
                  <a:cubicBezTo>
                    <a:pt x="21" y="166"/>
                    <a:pt x="6" y="197"/>
                    <a:pt x="7" y="209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272120" y="5544000"/>
            <a:ext cx="17017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143a"/>
                </a:solidFill>
                <a:latin typeface="Bookman Old Style"/>
              </a:rPr>
              <a:t>MACR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O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389400" y="3391200"/>
            <a:ext cx="23097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BETALATTA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21000" y="1519920"/>
            <a:ext cx="1831320" cy="1177560"/>
            <a:chOff x="621000" y="1519920"/>
            <a:chExt cx="1831320" cy="1177560"/>
          </a:xfrm>
        </p:grpSpPr>
        <p:sp>
          <p:nvSpPr>
            <p:cNvPr id="908" name=""/>
            <p:cNvSpPr/>
            <p:nvPr/>
          </p:nvSpPr>
          <p:spPr>
            <a:xfrm>
              <a:off x="621000" y="2054880"/>
              <a:ext cx="183132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reptococcu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yoge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8480000">
              <a:off x="1699200" y="1806480"/>
              <a:ext cx="777240" cy="100440"/>
            </a:xfrm>
            <a:prstGeom prst="rightArrow">
              <a:avLst>
                <a:gd name="adj1" fmla="val 50000"/>
                <a:gd name="adj2" fmla="val 193459"/>
              </a:avLst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1648080" y="2968920"/>
            <a:ext cx="1335960" cy="800640"/>
            <a:chOff x="1648080" y="2968920"/>
            <a:chExt cx="1335960" cy="800640"/>
          </a:xfrm>
        </p:grpSpPr>
        <p:sp>
          <p:nvSpPr>
            <p:cNvPr id="911" name=""/>
            <p:cNvSpPr/>
            <p:nvPr/>
          </p:nvSpPr>
          <p:spPr>
            <a:xfrm>
              <a:off x="1648080" y="34012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Chlamid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7520000">
              <a:off x="2442240" y="3199680"/>
              <a:ext cx="538560" cy="60120"/>
            </a:xfrm>
            <a:prstGeom prst="rightArrow">
              <a:avLst>
                <a:gd name="adj1" fmla="val 50000"/>
                <a:gd name="adj2" fmla="val 22395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327680" y="5239440"/>
            <a:ext cx="2616480" cy="1096560"/>
            <a:chOff x="1327680" y="5239440"/>
            <a:chExt cx="2616480" cy="1096560"/>
          </a:xfrm>
        </p:grpSpPr>
        <p:sp>
          <p:nvSpPr>
            <p:cNvPr id="914" name=""/>
            <p:cNvSpPr/>
            <p:nvPr/>
          </p:nvSpPr>
          <p:spPr>
            <a:xfrm>
              <a:off x="1327680" y="5693400"/>
              <a:ext cx="2417760" cy="642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Streptococcu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pyogenes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con prt F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8420000">
              <a:off x="3188520" y="5570280"/>
              <a:ext cx="886320" cy="114840"/>
            </a:xfrm>
            <a:prstGeom prst="rightArrow">
              <a:avLst>
                <a:gd name="adj1" fmla="val 50000"/>
                <a:gd name="adj2" fmla="val 192947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467240" y="4670280"/>
            <a:ext cx="426960" cy="24948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20960" y="1874880"/>
            <a:ext cx="425520" cy="2491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9640" y="1994040"/>
            <a:ext cx="425520" cy="2491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658280" y="4686480"/>
            <a:ext cx="426960" cy="2491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6715080" y="4567320"/>
            <a:ext cx="127080" cy="179280"/>
            <a:chOff x="6715080" y="4567320"/>
            <a:chExt cx="127080" cy="179280"/>
          </a:xfrm>
        </p:grpSpPr>
        <p:sp>
          <p:nvSpPr>
            <p:cNvPr id="921" name=""/>
            <p:cNvSpPr/>
            <p:nvPr/>
          </p:nvSpPr>
          <p:spPr>
            <a:xfrm>
              <a:off x="6715080" y="4567320"/>
              <a:ext cx="127080" cy="179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715080" y="4627080"/>
              <a:ext cx="63360" cy="594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241320" y="3582360"/>
            <a:ext cx="1312920" cy="745200"/>
            <a:chOff x="6241320" y="3582360"/>
            <a:chExt cx="1312920" cy="745200"/>
          </a:xfrm>
        </p:grpSpPr>
        <p:sp>
          <p:nvSpPr>
            <p:cNvPr id="924" name=""/>
            <p:cNvSpPr/>
            <p:nvPr/>
          </p:nvSpPr>
          <p:spPr>
            <a:xfrm>
              <a:off x="6241320" y="358236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Legionel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714720" y="3908520"/>
              <a:ext cx="63360" cy="419040"/>
            </a:xfrm>
            <a:prstGeom prst="downArrow">
              <a:avLst>
                <a:gd name="adj1" fmla="val 50000"/>
                <a:gd name="adj2" fmla="val 16534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145280" y="5045040"/>
            <a:ext cx="252360" cy="239760"/>
          </a:xfrm>
          <a:custGeom>
            <a:avLst/>
            <a:gdLst/>
            <a:ahLst/>
            <a:rect l="l" t="t" r="r" b="b"/>
            <a:pathLst>
              <a:path w="194" h="410">
                <a:moveTo>
                  <a:pt x="172" y="20"/>
                </a:moveTo>
                <a:cubicBezTo>
                  <a:pt x="154" y="0"/>
                  <a:pt x="66" y="4"/>
                  <a:pt x="40" y="61"/>
                </a:cubicBezTo>
                <a:cubicBezTo>
                  <a:pt x="14" y="118"/>
                  <a:pt x="0" y="310"/>
                  <a:pt x="16" y="360"/>
                </a:cubicBezTo>
                <a:cubicBezTo>
                  <a:pt x="32" y="410"/>
                  <a:pt x="118" y="390"/>
                  <a:pt x="139" y="360"/>
                </a:cubicBezTo>
                <a:cubicBezTo>
                  <a:pt x="160" y="330"/>
                  <a:pt x="137" y="234"/>
                  <a:pt x="142" y="177"/>
                </a:cubicBezTo>
                <a:cubicBezTo>
                  <a:pt x="147" y="120"/>
                  <a:pt x="194" y="43"/>
                  <a:pt x="172" y="2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6958800" y="5284800"/>
            <a:ext cx="1550880" cy="519480"/>
            <a:chOff x="6958800" y="5284800"/>
            <a:chExt cx="1550880" cy="519480"/>
          </a:xfrm>
        </p:grpSpPr>
        <p:sp>
          <p:nvSpPr>
            <p:cNvPr id="928" name=""/>
            <p:cNvSpPr/>
            <p:nvPr/>
          </p:nvSpPr>
          <p:spPr>
            <a:xfrm>
              <a:off x="6958800" y="5436000"/>
              <a:ext cx="15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Mycoplas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80280" y="5284800"/>
              <a:ext cx="63000" cy="239040"/>
            </a:xfrm>
            <a:prstGeom prst="upArrow">
              <a:avLst>
                <a:gd name="adj1" fmla="val 50000"/>
                <a:gd name="adj2" fmla="val 9485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3692880" y="832320"/>
            <a:ext cx="1808280" cy="954360"/>
            <a:chOff x="3692880" y="832320"/>
            <a:chExt cx="1808280" cy="954360"/>
          </a:xfrm>
        </p:grpSpPr>
        <p:grpSp>
          <p:nvGrpSpPr>
            <p:cNvPr id="931" name=""/>
            <p:cNvGrpSpPr/>
            <p:nvPr/>
          </p:nvGrpSpPr>
          <p:grpSpPr>
            <a:xfrm>
              <a:off x="3692880" y="832320"/>
              <a:ext cx="1652760" cy="652320"/>
              <a:chOff x="3692880" y="832320"/>
              <a:chExt cx="1652760" cy="652320"/>
            </a:xfrm>
          </p:grpSpPr>
          <p:sp>
            <p:nvSpPr>
              <p:cNvPr id="932" name=""/>
              <p:cNvSpPr/>
              <p:nvPr/>
            </p:nvSpPr>
            <p:spPr>
              <a:xfrm>
                <a:off x="3700800" y="832320"/>
                <a:ext cx="1591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H. influenza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92880" y="1116360"/>
                <a:ext cx="1652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M. catarrhal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3692880" y="1418400"/>
              <a:ext cx="18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. pneumonia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5584680" y="1155600"/>
            <a:ext cx="965520" cy="424080"/>
            <a:chOff x="5584680" y="1155600"/>
            <a:chExt cx="965520" cy="424080"/>
          </a:xfrm>
        </p:grpSpPr>
        <p:sp>
          <p:nvSpPr>
            <p:cNvPr id="936" name=""/>
            <p:cNvSpPr/>
            <p:nvPr/>
          </p:nvSpPr>
          <p:spPr>
            <a:xfrm rot="16200000">
              <a:off x="5596200" y="1393920"/>
              <a:ext cx="173880" cy="19728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rot="16200000">
              <a:off x="5746320" y="1324080"/>
              <a:ext cx="173880" cy="19728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16200000">
              <a:off x="5909040" y="1393560"/>
              <a:ext cx="173880" cy="19584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6200000">
              <a:off x="6113520" y="1384200"/>
              <a:ext cx="173880" cy="19692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6200000">
              <a:off x="5665680" y="1473480"/>
              <a:ext cx="33480" cy="3888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6200000">
              <a:off x="5815800" y="1368000"/>
              <a:ext cx="33480" cy="3888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6200000">
              <a:off x="5978520" y="1472760"/>
              <a:ext cx="34920" cy="3924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6200000">
              <a:off x="6184440" y="1463040"/>
              <a:ext cx="33480" cy="3888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6200000">
              <a:off x="6238800" y="1263960"/>
              <a:ext cx="173880" cy="19728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6200000">
              <a:off x="6309720" y="1343160"/>
              <a:ext cx="33480" cy="3888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6364440" y="1143720"/>
              <a:ext cx="173880" cy="19728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16200000">
              <a:off x="6435360" y="1223280"/>
              <a:ext cx="33480" cy="3924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291960" y="1900080"/>
            <a:ext cx="8610840" cy="2194560"/>
          </a:xfrm>
          <a:prstGeom prst="rect">
            <a:avLst/>
          </a:prstGeom>
          <a:noFill/>
          <a:ln w="25560">
            <a:solidFill>
              <a:srgbClr val="94143a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4143a"/>
                </a:solidFill>
                <a:latin typeface="Bookman Old Style"/>
              </a:rPr>
              <a:t>Association between erythromycin resistance and ability to enter human respiratory cells in group A streptococc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6360" y="4591080"/>
            <a:ext cx="822276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6666"/>
                </a:solidFill>
                <a:latin typeface="Times New Roman"/>
              </a:rPr>
              <a:t>Bruna Facinelli, Cinzia Spinaci, Gloria Magi, Eleonora Giovanetti, Pietro E Varal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54000" y="5256360"/>
            <a:ext cx="728676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6666"/>
                </a:solidFill>
                <a:latin typeface="Bookman Old Style"/>
              </a:rPr>
              <a:t>THE LANCET </a:t>
            </a:r>
            <a:r>
              <a:rPr b="1" lang="it-IT" sz="28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• Vol 358 • July 7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886280" y="1555920"/>
            <a:ext cx="2478240" cy="1974600"/>
          </a:xfrm>
          <a:custGeom>
            <a:avLst/>
            <a:gdLst/>
            <a:ahLst/>
            <a:rect l="l" t="t" r="r" b="b"/>
            <a:pathLst>
              <a:path w="1638" h="1611">
                <a:moveTo>
                  <a:pt x="295" y="529"/>
                </a:moveTo>
                <a:cubicBezTo>
                  <a:pt x="230" y="643"/>
                  <a:pt x="90" y="741"/>
                  <a:pt x="57" y="860"/>
                </a:cubicBezTo>
                <a:cubicBezTo>
                  <a:pt x="24" y="979"/>
                  <a:pt x="0" y="1124"/>
                  <a:pt x="95" y="1244"/>
                </a:cubicBezTo>
                <a:cubicBezTo>
                  <a:pt x="190" y="1364"/>
                  <a:pt x="447" y="1555"/>
                  <a:pt x="626" y="1583"/>
                </a:cubicBezTo>
                <a:cubicBezTo>
                  <a:pt x="805" y="1611"/>
                  <a:pt x="998" y="1548"/>
                  <a:pt x="1167" y="1414"/>
                </a:cubicBezTo>
                <a:cubicBezTo>
                  <a:pt x="1336" y="1280"/>
                  <a:pt x="1638" y="999"/>
                  <a:pt x="1638" y="780"/>
                </a:cubicBezTo>
                <a:cubicBezTo>
                  <a:pt x="1638" y="561"/>
                  <a:pt x="1366" y="202"/>
                  <a:pt x="1167" y="101"/>
                </a:cubicBezTo>
                <a:cubicBezTo>
                  <a:pt x="968" y="0"/>
                  <a:pt x="590" y="104"/>
                  <a:pt x="445" y="175"/>
                </a:cubicBezTo>
                <a:cubicBezTo>
                  <a:pt x="300" y="246"/>
                  <a:pt x="360" y="415"/>
                  <a:pt x="295" y="529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90920" y="1246320"/>
            <a:ext cx="2077920" cy="2071440"/>
          </a:xfrm>
          <a:custGeom>
            <a:avLst/>
            <a:gdLst/>
            <a:ahLst/>
            <a:rect l="l" t="t" r="r" b="b"/>
            <a:pathLst>
              <a:path w="1651" h="1611">
                <a:moveTo>
                  <a:pt x="120" y="484"/>
                </a:moveTo>
                <a:cubicBezTo>
                  <a:pt x="70" y="643"/>
                  <a:pt x="6" y="944"/>
                  <a:pt x="3" y="1088"/>
                </a:cubicBezTo>
                <a:cubicBezTo>
                  <a:pt x="0" y="1232"/>
                  <a:pt x="8" y="1261"/>
                  <a:pt x="99" y="1347"/>
                </a:cubicBezTo>
                <a:cubicBezTo>
                  <a:pt x="190" y="1433"/>
                  <a:pt x="370" y="1591"/>
                  <a:pt x="546" y="1601"/>
                </a:cubicBezTo>
                <a:cubicBezTo>
                  <a:pt x="722" y="1611"/>
                  <a:pt x="977" y="1543"/>
                  <a:pt x="1158" y="1405"/>
                </a:cubicBezTo>
                <a:cubicBezTo>
                  <a:pt x="1339" y="1267"/>
                  <a:pt x="1651" y="948"/>
                  <a:pt x="1629" y="771"/>
                </a:cubicBezTo>
                <a:cubicBezTo>
                  <a:pt x="1607" y="594"/>
                  <a:pt x="1222" y="465"/>
                  <a:pt x="1023" y="340"/>
                </a:cubicBezTo>
                <a:cubicBezTo>
                  <a:pt x="824" y="215"/>
                  <a:pt x="588" y="0"/>
                  <a:pt x="438" y="24"/>
                </a:cubicBezTo>
                <a:cubicBezTo>
                  <a:pt x="288" y="48"/>
                  <a:pt x="186" y="388"/>
                  <a:pt x="120" y="484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37440" y="3668760"/>
            <a:ext cx="2296800" cy="1898640"/>
          </a:xfrm>
          <a:custGeom>
            <a:avLst/>
            <a:gdLst/>
            <a:ahLst/>
            <a:rect l="l" t="t" r="r" b="b"/>
            <a:pathLst>
              <a:path w="1640" h="1476">
                <a:moveTo>
                  <a:pt x="182" y="356"/>
                </a:moveTo>
                <a:cubicBezTo>
                  <a:pt x="100" y="472"/>
                  <a:pt x="0" y="890"/>
                  <a:pt x="14" y="1059"/>
                </a:cubicBezTo>
                <a:cubicBezTo>
                  <a:pt x="28" y="1228"/>
                  <a:pt x="169" y="1324"/>
                  <a:pt x="267" y="1371"/>
                </a:cubicBezTo>
                <a:cubicBezTo>
                  <a:pt x="365" y="1418"/>
                  <a:pt x="455" y="1340"/>
                  <a:pt x="605" y="1341"/>
                </a:cubicBezTo>
                <a:cubicBezTo>
                  <a:pt x="755" y="1342"/>
                  <a:pt x="997" y="1476"/>
                  <a:pt x="1169" y="1376"/>
                </a:cubicBezTo>
                <a:cubicBezTo>
                  <a:pt x="1341" y="1276"/>
                  <a:pt x="1640" y="961"/>
                  <a:pt x="1640" y="742"/>
                </a:cubicBezTo>
                <a:cubicBezTo>
                  <a:pt x="1640" y="523"/>
                  <a:pt x="1358" y="126"/>
                  <a:pt x="1169" y="63"/>
                </a:cubicBezTo>
                <a:cubicBezTo>
                  <a:pt x="980" y="0"/>
                  <a:pt x="669" y="315"/>
                  <a:pt x="505" y="364"/>
                </a:cubicBezTo>
                <a:cubicBezTo>
                  <a:pt x="341" y="413"/>
                  <a:pt x="264" y="240"/>
                  <a:pt x="182" y="356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133800" y="3714840"/>
            <a:ext cx="2431800" cy="2468520"/>
          </a:xfrm>
          <a:custGeom>
            <a:avLst/>
            <a:gdLst/>
            <a:ahLst/>
            <a:rect l="l" t="t" r="r" b="b"/>
            <a:pathLst>
              <a:path w="1788" h="1625">
                <a:moveTo>
                  <a:pt x="149" y="593"/>
                </a:moveTo>
                <a:cubicBezTo>
                  <a:pt x="99" y="752"/>
                  <a:pt x="0" y="1033"/>
                  <a:pt x="32" y="1197"/>
                </a:cubicBezTo>
                <a:cubicBezTo>
                  <a:pt x="64" y="1361"/>
                  <a:pt x="245" y="1531"/>
                  <a:pt x="343" y="1578"/>
                </a:cubicBezTo>
                <a:cubicBezTo>
                  <a:pt x="441" y="1625"/>
                  <a:pt x="482" y="1490"/>
                  <a:pt x="623" y="1479"/>
                </a:cubicBezTo>
                <a:cubicBezTo>
                  <a:pt x="764" y="1468"/>
                  <a:pt x="994" y="1618"/>
                  <a:pt x="1187" y="1514"/>
                </a:cubicBezTo>
                <a:cubicBezTo>
                  <a:pt x="1380" y="1410"/>
                  <a:pt x="1774" y="1040"/>
                  <a:pt x="1781" y="855"/>
                </a:cubicBezTo>
                <a:cubicBezTo>
                  <a:pt x="1788" y="670"/>
                  <a:pt x="1419" y="539"/>
                  <a:pt x="1228" y="402"/>
                </a:cubicBezTo>
                <a:cubicBezTo>
                  <a:pt x="1037" y="265"/>
                  <a:pt x="815" y="0"/>
                  <a:pt x="635" y="32"/>
                </a:cubicBezTo>
                <a:cubicBezTo>
                  <a:pt x="455" y="64"/>
                  <a:pt x="250" y="476"/>
                  <a:pt x="149" y="593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952720" y="1679400"/>
            <a:ext cx="604800" cy="677880"/>
          </a:xfrm>
          <a:prstGeom prst="ellipse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64000" y="4579920"/>
            <a:ext cx="603360" cy="677880"/>
          </a:xfrm>
          <a:prstGeom prst="ellipse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10360" y="1801800"/>
            <a:ext cx="604800" cy="679320"/>
          </a:xfrm>
          <a:prstGeom prst="ellipse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47040" y="4579920"/>
            <a:ext cx="603360" cy="677880"/>
          </a:xfrm>
          <a:prstGeom prst="ellipse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3425760" y="4836960"/>
            <a:ext cx="930240" cy="434880"/>
            <a:chOff x="3425760" y="4836960"/>
            <a:chExt cx="930240" cy="434880"/>
          </a:xfrm>
        </p:grpSpPr>
        <p:sp>
          <p:nvSpPr>
            <p:cNvPr id="960" name=""/>
            <p:cNvSpPr/>
            <p:nvPr/>
          </p:nvSpPr>
          <p:spPr>
            <a:xfrm rot="16200000">
              <a:off x="3431520" y="5087520"/>
              <a:ext cx="178200" cy="1900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16200000">
              <a:off x="3576240" y="5015880"/>
              <a:ext cx="178200" cy="1900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16200000">
              <a:off x="3732840" y="5086800"/>
              <a:ext cx="178200" cy="18864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16200000">
              <a:off x="3930120" y="5077440"/>
              <a:ext cx="178200" cy="1897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16200000">
              <a:off x="3502800" y="5164200"/>
              <a:ext cx="34560" cy="3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16200000">
              <a:off x="3647520" y="5056200"/>
              <a:ext cx="34560" cy="3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16200000">
              <a:off x="3804120" y="5163120"/>
              <a:ext cx="36000" cy="37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16200000">
              <a:off x="4002480" y="5153760"/>
              <a:ext cx="34560" cy="3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6200000">
              <a:off x="4050720" y="4953960"/>
              <a:ext cx="178200" cy="1900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16200000">
              <a:off x="4123080" y="5030280"/>
              <a:ext cx="34560" cy="37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6200000">
              <a:off x="4171680" y="4830840"/>
              <a:ext cx="178200" cy="1900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16200000">
              <a:off x="4244040" y="4906800"/>
              <a:ext cx="34560" cy="37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790640" y="1124280"/>
            <a:ext cx="930240" cy="434520"/>
            <a:chOff x="1790640" y="1124280"/>
            <a:chExt cx="930240" cy="434520"/>
          </a:xfrm>
        </p:grpSpPr>
        <p:sp>
          <p:nvSpPr>
            <p:cNvPr id="973" name=""/>
            <p:cNvSpPr/>
            <p:nvPr/>
          </p:nvSpPr>
          <p:spPr>
            <a:xfrm rot="16200000">
              <a:off x="1796400" y="1374480"/>
              <a:ext cx="178200" cy="1900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16200000">
              <a:off x="1941120" y="1302840"/>
              <a:ext cx="178200" cy="1900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6200000">
              <a:off x="2097720" y="1373760"/>
              <a:ext cx="178200" cy="188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6200000">
              <a:off x="2295000" y="1364400"/>
              <a:ext cx="178200" cy="1897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16200000">
              <a:off x="1867680" y="1451160"/>
              <a:ext cx="34560" cy="3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6200000">
              <a:off x="2012400" y="1343160"/>
              <a:ext cx="34560" cy="3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16200000">
              <a:off x="2169000" y="1450080"/>
              <a:ext cx="36000" cy="37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6200000">
              <a:off x="2367360" y="1440720"/>
              <a:ext cx="34560" cy="3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16200000">
              <a:off x="2415600" y="1241280"/>
              <a:ext cx="178200" cy="1900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16200000">
              <a:off x="2487960" y="1317600"/>
              <a:ext cx="34560" cy="3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16200000">
              <a:off x="2536560" y="1118160"/>
              <a:ext cx="178200" cy="1900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6200000">
              <a:off x="2608920" y="1194120"/>
              <a:ext cx="34560" cy="37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2866680" y="2468880"/>
            <a:ext cx="332640" cy="462960"/>
            <a:chOff x="2866680" y="2468880"/>
            <a:chExt cx="332640" cy="462960"/>
          </a:xfrm>
        </p:grpSpPr>
        <p:sp>
          <p:nvSpPr>
            <p:cNvPr id="986" name=""/>
            <p:cNvSpPr/>
            <p:nvPr/>
          </p:nvSpPr>
          <p:spPr>
            <a:xfrm rot="20400000">
              <a:off x="2932200" y="2490840"/>
              <a:ext cx="201600" cy="419040"/>
            </a:xfrm>
            <a:custGeom>
              <a:avLst/>
              <a:gdLst/>
              <a:ahLst/>
              <a:rect l="l" t="t" r="r" b="b"/>
              <a:pathLst>
                <a:path w="194" h="410">
                  <a:moveTo>
                    <a:pt x="172" y="20"/>
                  </a:moveTo>
                  <a:cubicBezTo>
                    <a:pt x="154" y="0"/>
                    <a:pt x="66" y="4"/>
                    <a:pt x="40" y="61"/>
                  </a:cubicBezTo>
                  <a:cubicBezTo>
                    <a:pt x="14" y="118"/>
                    <a:pt x="0" y="310"/>
                    <a:pt x="16" y="360"/>
                  </a:cubicBezTo>
                  <a:cubicBezTo>
                    <a:pt x="32" y="410"/>
                    <a:pt x="118" y="390"/>
                    <a:pt x="139" y="360"/>
                  </a:cubicBezTo>
                  <a:cubicBezTo>
                    <a:pt x="160" y="330"/>
                    <a:pt x="137" y="234"/>
                    <a:pt x="142" y="177"/>
                  </a:cubicBezTo>
                  <a:cubicBezTo>
                    <a:pt x="147" y="120"/>
                    <a:pt x="194" y="43"/>
                    <a:pt x="172" y="20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400000">
              <a:off x="2995200" y="2569320"/>
              <a:ext cx="46800" cy="213480"/>
            </a:xfrm>
            <a:custGeom>
              <a:avLst/>
              <a:gdLst/>
              <a:ahLst/>
              <a:rect l="l" t="t" r="r" b="b"/>
              <a:pathLst>
                <a:path w="45" h="209">
                  <a:moveTo>
                    <a:pt x="40" y="16"/>
                  </a:moveTo>
                  <a:cubicBezTo>
                    <a:pt x="8" y="75"/>
                    <a:pt x="45" y="0"/>
                    <a:pt x="29" y="59"/>
                  </a:cubicBezTo>
                  <a:cubicBezTo>
                    <a:pt x="27" y="67"/>
                    <a:pt x="22" y="73"/>
                    <a:pt x="17" y="80"/>
                  </a:cubicBezTo>
                  <a:cubicBezTo>
                    <a:pt x="14" y="88"/>
                    <a:pt x="9" y="94"/>
                    <a:pt x="7" y="102"/>
                  </a:cubicBezTo>
                  <a:cubicBezTo>
                    <a:pt x="3" y="118"/>
                    <a:pt x="4" y="135"/>
                    <a:pt x="0" y="151"/>
                  </a:cubicBezTo>
                  <a:cubicBezTo>
                    <a:pt x="21" y="166"/>
                    <a:pt x="6" y="197"/>
                    <a:pt x="7" y="209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603680" y="4853520"/>
            <a:ext cx="17017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CRO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71920" y="3369240"/>
            <a:ext cx="23097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BETALATTA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987480" y="1425240"/>
            <a:ext cx="1831320" cy="1202040"/>
            <a:chOff x="987480" y="1425240"/>
            <a:chExt cx="1831320" cy="1202040"/>
          </a:xfrm>
        </p:grpSpPr>
        <p:sp>
          <p:nvSpPr>
            <p:cNvPr id="991" name=""/>
            <p:cNvSpPr/>
            <p:nvPr/>
          </p:nvSpPr>
          <p:spPr>
            <a:xfrm>
              <a:off x="987480" y="1984680"/>
              <a:ext cx="183132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Streptococcu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pyoge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8480000">
              <a:off x="2033280" y="1722600"/>
              <a:ext cx="802440" cy="96480"/>
            </a:xfrm>
            <a:prstGeom prst="rightArrow">
              <a:avLst>
                <a:gd name="adj1" fmla="val 50000"/>
                <a:gd name="adj2" fmla="val 207929"/>
              </a:avLst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1859040" y="2931840"/>
            <a:ext cx="1335960" cy="821880"/>
            <a:chOff x="1859040" y="2931840"/>
            <a:chExt cx="1335960" cy="821880"/>
          </a:xfrm>
        </p:grpSpPr>
        <p:sp>
          <p:nvSpPr>
            <p:cNvPr id="994" name=""/>
            <p:cNvSpPr/>
            <p:nvPr/>
          </p:nvSpPr>
          <p:spPr>
            <a:xfrm>
              <a:off x="1859040" y="338544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Chlamy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7520000">
              <a:off x="2630880" y="3170880"/>
              <a:ext cx="555120" cy="57960"/>
            </a:xfrm>
            <a:prstGeom prst="rightArrow">
              <a:avLst>
                <a:gd name="adj1" fmla="val 50000"/>
                <a:gd name="adj2" fmla="val 23944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1209600" y="5368320"/>
            <a:ext cx="5923080" cy="1311480"/>
            <a:chOff x="1209600" y="5368320"/>
            <a:chExt cx="5923080" cy="1311480"/>
          </a:xfrm>
        </p:grpSpPr>
        <p:sp>
          <p:nvSpPr>
            <p:cNvPr id="997" name=""/>
            <p:cNvSpPr/>
            <p:nvPr/>
          </p:nvSpPr>
          <p:spPr>
            <a:xfrm>
              <a:off x="1209600" y="5854320"/>
              <a:ext cx="592308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Streptococcus pyo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 prt F1 +</a:t>
              </a:r>
              <a:r>
                <a:rPr b="1" lang="it-I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2400" spc="-1" strike="noStrike">
                  <a:solidFill>
                    <a:srgbClr val="ff3300"/>
                  </a:solidFill>
                  <a:latin typeface="Arial"/>
                </a:rPr>
                <a:t>RESISTENZA MACROLIDE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15420600">
              <a:off x="5003280" y="5771160"/>
              <a:ext cx="914400" cy="110160"/>
            </a:xfrm>
            <a:prstGeom prst="rightArrow">
              <a:avLst>
                <a:gd name="adj1" fmla="val 50000"/>
                <a:gd name="adj2" fmla="val 207516"/>
              </a:avLst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4597560" y="4686480"/>
            <a:ext cx="411120" cy="25704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13200" y="1801800"/>
            <a:ext cx="409320" cy="25704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70480" y="1925640"/>
            <a:ext cx="409680" cy="25704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67640" y="4702320"/>
            <a:ext cx="409680" cy="25704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759720" y="4579920"/>
            <a:ext cx="122040" cy="184320"/>
            <a:chOff x="6759720" y="4579920"/>
            <a:chExt cx="122040" cy="184320"/>
          </a:xfrm>
        </p:grpSpPr>
        <p:sp>
          <p:nvSpPr>
            <p:cNvPr id="1004" name=""/>
            <p:cNvSpPr/>
            <p:nvPr/>
          </p:nvSpPr>
          <p:spPr>
            <a:xfrm>
              <a:off x="6759720" y="4579920"/>
              <a:ext cx="122040" cy="184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59720" y="4641480"/>
              <a:ext cx="60840" cy="612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6279120" y="3567600"/>
            <a:ext cx="1312920" cy="764280"/>
            <a:chOff x="6279120" y="3567600"/>
            <a:chExt cx="1312920" cy="764280"/>
          </a:xfrm>
        </p:grpSpPr>
        <p:sp>
          <p:nvSpPr>
            <p:cNvPr id="1007" name=""/>
            <p:cNvSpPr/>
            <p:nvPr/>
          </p:nvSpPr>
          <p:spPr>
            <a:xfrm>
              <a:off x="6279120" y="356760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Legionel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0800" y="3900240"/>
              <a:ext cx="60840" cy="431640"/>
            </a:xfrm>
            <a:prstGeom prst="downArrow">
              <a:avLst>
                <a:gd name="adj1" fmla="val 50000"/>
                <a:gd name="adj2" fmla="val 1773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7174080" y="5073480"/>
            <a:ext cx="244440" cy="246240"/>
          </a:xfrm>
          <a:custGeom>
            <a:avLst/>
            <a:gdLst/>
            <a:ahLst/>
            <a:rect l="l" t="t" r="r" b="b"/>
            <a:pathLst>
              <a:path w="194" h="410">
                <a:moveTo>
                  <a:pt x="172" y="20"/>
                </a:moveTo>
                <a:cubicBezTo>
                  <a:pt x="154" y="0"/>
                  <a:pt x="66" y="4"/>
                  <a:pt x="40" y="61"/>
                </a:cubicBezTo>
                <a:cubicBezTo>
                  <a:pt x="14" y="118"/>
                  <a:pt x="0" y="310"/>
                  <a:pt x="16" y="360"/>
                </a:cubicBezTo>
                <a:cubicBezTo>
                  <a:pt x="32" y="410"/>
                  <a:pt x="118" y="390"/>
                  <a:pt x="139" y="360"/>
                </a:cubicBezTo>
                <a:cubicBezTo>
                  <a:pt x="160" y="330"/>
                  <a:pt x="137" y="234"/>
                  <a:pt x="142" y="177"/>
                </a:cubicBezTo>
                <a:cubicBezTo>
                  <a:pt x="147" y="120"/>
                  <a:pt x="194" y="43"/>
                  <a:pt x="172" y="2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6966720" y="5319720"/>
            <a:ext cx="1550880" cy="529560"/>
            <a:chOff x="6966720" y="5319720"/>
            <a:chExt cx="1550880" cy="529560"/>
          </a:xfrm>
        </p:grpSpPr>
        <p:sp>
          <p:nvSpPr>
            <p:cNvPr id="1011" name=""/>
            <p:cNvSpPr/>
            <p:nvPr/>
          </p:nvSpPr>
          <p:spPr>
            <a:xfrm>
              <a:off x="6966720" y="5481000"/>
              <a:ext cx="15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Arial"/>
                </a:rPr>
                <a:t>Mycoplas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04040" y="5319720"/>
              <a:ext cx="60480" cy="247320"/>
            </a:xfrm>
            <a:prstGeom prst="upArrow">
              <a:avLst>
                <a:gd name="adj1" fmla="val 50000"/>
                <a:gd name="adj2" fmla="val 10223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3952080" y="866160"/>
            <a:ext cx="1808280" cy="931320"/>
            <a:chOff x="3952080" y="866160"/>
            <a:chExt cx="1808280" cy="931320"/>
          </a:xfrm>
        </p:grpSpPr>
        <p:grpSp>
          <p:nvGrpSpPr>
            <p:cNvPr id="1014" name=""/>
            <p:cNvGrpSpPr/>
            <p:nvPr/>
          </p:nvGrpSpPr>
          <p:grpSpPr>
            <a:xfrm>
              <a:off x="3959280" y="866160"/>
              <a:ext cx="1652760" cy="640440"/>
              <a:chOff x="3959280" y="866160"/>
              <a:chExt cx="1652760" cy="6404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961440" y="866160"/>
                <a:ext cx="1591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H. influenza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59280" y="1138320"/>
                <a:ext cx="1652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M. catarrhal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3952080" y="1429200"/>
              <a:ext cx="18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. pneumonia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5672160" y="1062360"/>
            <a:ext cx="930240" cy="434520"/>
            <a:chOff x="5672160" y="1062360"/>
            <a:chExt cx="930240" cy="434520"/>
          </a:xfrm>
        </p:grpSpPr>
        <p:sp>
          <p:nvSpPr>
            <p:cNvPr id="1019" name=""/>
            <p:cNvSpPr/>
            <p:nvPr/>
          </p:nvSpPr>
          <p:spPr>
            <a:xfrm rot="16200000">
              <a:off x="5677920" y="1312560"/>
              <a:ext cx="178200" cy="19008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16200000">
              <a:off x="5822640" y="1240920"/>
              <a:ext cx="178200" cy="19008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6200000">
              <a:off x="5979240" y="1311840"/>
              <a:ext cx="178200" cy="18864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16200000">
              <a:off x="6176520" y="1302480"/>
              <a:ext cx="178200" cy="18972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6200000">
              <a:off x="5749200" y="1389240"/>
              <a:ext cx="34560" cy="3744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5893920" y="1281240"/>
              <a:ext cx="34560" cy="3744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6200000">
              <a:off x="6050520" y="1388160"/>
              <a:ext cx="36000" cy="378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16200000">
              <a:off x="6248880" y="1378800"/>
              <a:ext cx="34560" cy="3744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6297120" y="1179360"/>
              <a:ext cx="178200" cy="19008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6200000">
              <a:off x="6369480" y="1255680"/>
              <a:ext cx="34560" cy="3744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16200000">
              <a:off x="6418080" y="1056240"/>
              <a:ext cx="178200" cy="190080"/>
            </a:xfrm>
            <a:prstGeom prst="ellipse">
              <a:avLst/>
            </a:prstGeom>
            <a:solidFill>
              <a:srgbClr val="fbdf5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16200000">
              <a:off x="6490440" y="1132200"/>
              <a:ext cx="34560" cy="378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blinds dir="vert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intestino%203" descr=""/>
          <p:cNvPicPr/>
          <p:nvPr/>
        </p:nvPicPr>
        <p:blipFill>
          <a:blip r:embed="rId1"/>
          <a:stretch/>
        </p:blipFill>
        <p:spPr>
          <a:xfrm>
            <a:off x="0" y="57240"/>
            <a:ext cx="9220320" cy="6877080"/>
          </a:xfrm>
          <a:prstGeom prst="rect">
            <a:avLst/>
          </a:prstGeom>
          <a:ln w="0">
            <a:noFill/>
          </a:ln>
        </p:spPr>
      </p:pic>
      <p:pic>
        <p:nvPicPr>
          <p:cNvPr id="1032" name="microorganismo6" descr=""/>
          <p:cNvPicPr/>
          <p:nvPr/>
        </p:nvPicPr>
        <p:blipFill>
          <a:blip r:embed="rId2"/>
          <a:stretch/>
        </p:blipFill>
        <p:spPr>
          <a:xfrm>
            <a:off x="4343400" y="838080"/>
            <a:ext cx="1603440" cy="1127160"/>
          </a:xfrm>
          <a:prstGeom prst="rect">
            <a:avLst/>
          </a:prstGeom>
          <a:ln w="0">
            <a:noFill/>
          </a:ln>
        </p:spPr>
      </p:pic>
      <p:pic>
        <p:nvPicPr>
          <p:cNvPr id="1033" name="microorganismo6" descr=""/>
          <p:cNvPicPr/>
          <p:nvPr/>
        </p:nvPicPr>
        <p:blipFill>
          <a:blip r:embed="rId3"/>
          <a:stretch/>
        </p:blipFill>
        <p:spPr>
          <a:xfrm>
            <a:off x="6502320" y="343080"/>
            <a:ext cx="1897200" cy="1333440"/>
          </a:xfrm>
          <a:prstGeom prst="rect">
            <a:avLst/>
          </a:prstGeom>
          <a:ln w="0">
            <a:noFill/>
          </a:ln>
        </p:spPr>
      </p:pic>
      <p:pic>
        <p:nvPicPr>
          <p:cNvPr id="1034" name="microorganismo6" descr=""/>
          <p:cNvPicPr/>
          <p:nvPr/>
        </p:nvPicPr>
        <p:blipFill>
          <a:blip r:embed="rId4"/>
          <a:stretch/>
        </p:blipFill>
        <p:spPr>
          <a:xfrm>
            <a:off x="762120" y="2414520"/>
            <a:ext cx="436860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5" name=""/>
          <p:cNvGraphicFramePr/>
          <p:nvPr/>
        </p:nvGraphicFramePr>
        <p:xfrm>
          <a:off x="1843200" y="762120"/>
          <a:ext cx="5472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762120"/>
                    <a:ext cx="5472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7" name="microorganismo6" descr=""/>
          <p:cNvPicPr/>
          <p:nvPr/>
        </p:nvPicPr>
        <p:blipFill>
          <a:blip r:embed="rId3"/>
          <a:stretch/>
        </p:blipFill>
        <p:spPr>
          <a:xfrm>
            <a:off x="6550200" y="838080"/>
            <a:ext cx="1603080" cy="1127160"/>
          </a:xfrm>
          <a:prstGeom prst="rect">
            <a:avLst/>
          </a:prstGeom>
          <a:ln w="0">
            <a:noFill/>
          </a:ln>
        </p:spPr>
      </p:pic>
      <p:pic>
        <p:nvPicPr>
          <p:cNvPr id="1038" name="microorganismo6" descr=""/>
          <p:cNvPicPr/>
          <p:nvPr/>
        </p:nvPicPr>
        <p:blipFill>
          <a:blip r:embed="rId4"/>
          <a:stretch/>
        </p:blipFill>
        <p:spPr>
          <a:xfrm>
            <a:off x="1523880" y="1295280"/>
            <a:ext cx="1603440" cy="112716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920040" y="4287960"/>
            <a:ext cx="100368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143a"/>
                </a:solidFill>
                <a:latin typeface="Bookman Old Style"/>
              </a:rPr>
              <a:t>N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52040" y="2286000"/>
            <a:ext cx="118944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143a"/>
                </a:solidFill>
                <a:latin typeface="Bookman Old Style"/>
              </a:rPr>
              <a:t>prt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187000" y="2438280"/>
            <a:ext cx="128088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4143a"/>
                </a:solidFill>
                <a:latin typeface="Bookman Old Style"/>
              </a:rPr>
              <a:t>Spe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86000" y="6213600"/>
            <a:ext cx="6422760" cy="398880"/>
          </a:xfrm>
          <a:prstGeom prst="rect">
            <a:avLst/>
          </a:prstGeom>
          <a:noFill/>
          <a:ln w="38160">
            <a:solidFill>
              <a:srgbClr val="94143a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Podbielski A, </a:t>
            </a:r>
            <a:r>
              <a:rPr b="1" i="1" lang="it-IT" sz="2000" spc="-1" strike="noStrike">
                <a:solidFill>
                  <a:srgbClr val="666666"/>
                </a:solidFill>
                <a:latin typeface="Bookman Old Style"/>
              </a:rPr>
              <a:t>Lancet</a:t>
            </a: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 358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520560" y="995760"/>
            <a:ext cx="8153640" cy="5312880"/>
          </a:xfrm>
          <a:prstGeom prst="rect">
            <a:avLst/>
          </a:prstGeom>
          <a:noFill/>
          <a:ln w="25560">
            <a:solidFill>
              <a:srgbClr val="666666"/>
            </a:solidFill>
            <a:miter/>
          </a:ln>
          <a:effectLst>
            <a:outerShdw dist="17819" dir="2700000" blurRad="0" rotWithShape="0">
              <a:srgbClr val="3c3c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Bookman Old Style"/>
              </a:rPr>
              <a:t>Panizon F </a:t>
            </a:r>
            <a:r>
              <a:rPr b="1" i="1" lang="it-IT" sz="2800" spc="-1" strike="noStrike">
                <a:solidFill>
                  <a:srgbClr val="808080"/>
                </a:solidFill>
                <a:latin typeface="Bookman Old Style"/>
              </a:rPr>
              <a:t>et al</a:t>
            </a:r>
            <a:br>
              <a:rPr sz="3000"/>
            </a:b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“</a:t>
            </a:r>
            <a:r>
              <a:rPr b="1" i="1" lang="it-IT" sz="2600" spc="-1" strike="noStrike">
                <a:solidFill>
                  <a:srgbClr val="94143a"/>
                </a:solidFill>
                <a:latin typeface="Bookman Old Style"/>
              </a:rPr>
              <a:t>Streptococco: tra il dire e il fare, ovvero sulla conflittualità tra le raccomazioni ufficiali e la pratica quotidiana</a:t>
            </a:r>
            <a:r>
              <a:rPr b="1" lang="it-IT" sz="2600" spc="-1" strike="noStrike">
                <a:solidFill>
                  <a:srgbClr val="94143a"/>
                </a:solidFill>
                <a:latin typeface="Bookman Old Style"/>
              </a:rPr>
              <a:t>”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Medico e Bambino 21,6,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it-IT" sz="2800" spc="-1" strike="noStrike">
                <a:solidFill>
                  <a:srgbClr val="808080"/>
                </a:solidFill>
                <a:latin typeface="Bookman Old Style"/>
              </a:rPr>
              <a:t>Hofer C </a:t>
            </a:r>
            <a:r>
              <a:rPr b="1" i="1" lang="it-IT" sz="2800" spc="-1" strike="noStrike">
                <a:solidFill>
                  <a:srgbClr val="808080"/>
                </a:solidFill>
                <a:latin typeface="Bookman Old Style"/>
              </a:rPr>
              <a:t>et al</a:t>
            </a:r>
            <a:r>
              <a:rPr b="1" lang="it-IT" sz="3600" spc="-1" strike="noStrike">
                <a:solidFill>
                  <a:srgbClr val="94143a"/>
                </a:solidFill>
                <a:latin typeface="Bookman Old Style"/>
              </a:rPr>
              <a:t> </a:t>
            </a:r>
            <a:br>
              <a:rPr sz="3600"/>
            </a:br>
            <a:r>
              <a:rPr b="1" i="1" lang="it-IT" sz="2600" spc="-1" strike="noStrike">
                <a:solidFill>
                  <a:srgbClr val="94143a"/>
                </a:solidFill>
                <a:latin typeface="Bookman Old Style"/>
              </a:rPr>
              <a:t>“Strategies for mana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94143a"/>
                </a:solidFill>
                <a:latin typeface="Bookman Old Style"/>
              </a:rPr>
              <a:t>group A streptococcal pharyngit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94143a"/>
                </a:solidFill>
                <a:latin typeface="Bookman Old Style"/>
              </a:rPr>
              <a:t>A survey of board-certified pediatricians”</a:t>
            </a:r>
            <a:r>
              <a:rPr b="1" lang="it-IT" sz="2400" spc="-1" strike="noStrike">
                <a:solidFill>
                  <a:srgbClr val="94143a"/>
                </a:solidFill>
                <a:latin typeface="Bookman Old Style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6666"/>
                </a:solidFill>
                <a:latin typeface="Bookman Old Style"/>
              </a:rPr>
              <a:t>Arch Pediatr Adolesc Med 151 (8):824-9,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0:56:07Z</dcterms:created>
  <dc:creator>Dip. Scienze Pediatriche</dc:creator>
  <dc:description/>
  <dc:language>en-US</dc:language>
  <cp:lastModifiedBy>m</cp:lastModifiedBy>
  <cp:lastPrinted>2003-05-14T06:56:53Z</cp:lastPrinted>
  <dcterms:modified xsi:type="dcterms:W3CDTF">2004-03-02T20:09:42Z</dcterms:modified>
  <cp:revision>352</cp:revision>
  <dc:subject/>
  <dc:title>Presentazione di PowerPoint</dc:title>
</cp:coreProperties>
</file>